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13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80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BD3CD-CD61-47F6-8153-6B18899BD65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22515-69C0-45B8-8D16-7514EF22558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A49B2-6FEC-4A24-9671-C8990CF76E1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1E03B-B3AC-4EE4-9AF1-40822CE37FA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22CA8E-C393-462A-958A-A969541977D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15F33-81E6-4CF5-9E33-C58A8F04A41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EF55A-E0A5-4E4F-952C-FFEDFDC83B0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751AE-6049-4CE6-A920-2D25B4A1129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E0526-C5B3-4E93-868A-FE192414CD0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1E9129-0E28-4902-9877-9B1F2076153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16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D141E-993F-4F62-BF57-3B0BC53DF0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D678A-6A42-44A7-B847-76E2969CB14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FB4B1-249D-4AD6-B4C1-BBC34BC14BF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81FA9-8FF9-4B7E-AEA0-C22BC822242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82E46-4289-4F1C-8409-D8DE5C170A58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816C-BDF3-4985-82ED-54FE304665F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7EF6D9-ACDD-42FB-92D1-C0635903315A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C232-D0E2-4B05-B66E-C5024831226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44BBB-BD92-4470-908A-2A854BE1AD80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920"/>
            <a:ext cx="49845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FAEF0-E5E3-4003-B6B5-63EB21A7A47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42C47-2BD5-4D05-B826-EF7AFDA22EB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A5A3A-B680-4BAB-9FD1-94A126C1F156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02FD0-9218-403F-93D8-DDBD4F30115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11160"/>
            <a:ext cx="2946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-1440" y="11160"/>
            <a:ext cx="2946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52720" y="468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52720" y="9450360"/>
            <a:ext cx="2946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-1440" y="945036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-1440" y="4680"/>
            <a:ext cx="2946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27240" y="1058760"/>
            <a:ext cx="4413240" cy="33116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20480" y="5241960"/>
            <a:ext cx="593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77E17-220B-44B4-86AE-F7603EDBEACC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79640" y="861840"/>
            <a:ext cx="4638600" cy="34801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07920" y="4730760"/>
            <a:ext cx="498168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F2BA-98C8-4E73-A49F-9EC77DC91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57ADA-5EB2-40A9-88E4-F4DD7E1C9F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29A89-3114-479D-861D-460AD24D05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E0B65-6474-42B0-9989-88BE2017F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8A4D-C91C-4F1B-8695-417115834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E14-9904-430A-AC0F-C94BC8688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7FBA-75B5-49B2-96DE-8BE534F78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2635-DB8C-4CB6-928A-19F2B5751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A618-3C5A-4748-80ED-226E1FB73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5F98-AA76-420E-A635-16CEE6D99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2DB2-99E4-49E1-AF67-453D3ED73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9696-82A9-44B2-9315-9067B8E83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40D191-5942-4EDC-AE4F-826E2B3FDDF7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560" y="1412640"/>
            <a:ext cx="79218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La réforme budgétaire</a:t>
            </a:r>
            <a:br>
              <a:rPr sz="38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2. Un échange entre liberté et responsabilité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87280" y="1663560"/>
            <a:ext cx="273528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Liberté accru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acte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l’administr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3786120"/>
            <a:ext cx="36003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Globalisation des crédits par program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Fongibilité des crédits par nature, mais avec un plafond de masse sala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Liberté de redéploiement des effectifs dans un plafond d’emplois exprimé en équivalent temps ple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08560" y="1663560"/>
            <a:ext cx="2792520" cy="207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Plus grand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Responsabilité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ges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 program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3786120"/>
            <a:ext cx="3382920" cy="24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S’engager sur des objectifs et rendre compte des résulta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Rendre compte de l’utilisation des crédits par nature et par finalité de la dépen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r>
              <a:rPr b="0" lang="pl-PL" sz="1700" spc="-1" strike="noStrike">
                <a:solidFill>
                  <a:srgbClr val="4d4d4d"/>
                </a:solidFill>
                <a:latin typeface="Arial"/>
              </a:rPr>
              <a:t>Plus d’information dans l’exécution du budget en engagements et en pai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spcBef>
                <a:spcPts val="425"/>
              </a:spcBef>
              <a:tabLst>
                <a:tab algn="l" pos="0"/>
                <a:tab algn="l" pos="272880"/>
                <a:tab algn="l" pos="1187280"/>
                <a:tab algn="l" pos="2101680"/>
                <a:tab algn="l" pos="3016080"/>
                <a:tab algn="l" pos="3930480"/>
                <a:tab algn="l" pos="4844880"/>
                <a:tab algn="l" pos="5759280"/>
                <a:tab algn="l" pos="6673680"/>
                <a:tab algn="l" pos="7588080"/>
                <a:tab algn="l" pos="8502480"/>
                <a:tab algn="l" pos="9416880"/>
                <a:tab algn="l" pos="1033128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668D-1AEB-4E37-8AD6-06157F71E6D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14360" y="836640"/>
            <a:ext cx="7245360" cy="5956200"/>
            <a:chOff x="1314360" y="836640"/>
            <a:chExt cx="7245360" cy="595620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1314360" y="836640"/>
              <a:ext cx="7245360" cy="595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989160" y="4480920"/>
              <a:ext cx="1505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a40079"/>
                  </a:solidFill>
                  <a:latin typeface="Arial"/>
                </a:rPr>
                <a:t>FONGIBILITÉ</a:t>
              </a:r>
              <a:r>
                <a:rPr b="0" lang="pl-PL" sz="1600" spc="-1" strike="noStrike">
                  <a:solidFill>
                    <a:srgbClr val="a4007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38720" y="2963880"/>
              <a:ext cx="1960560" cy="1432080"/>
              <a:chOff x="5238720" y="2963880"/>
              <a:chExt cx="1960560" cy="1432080"/>
            </a:xfrm>
          </p:grpSpPr>
          <p:sp>
            <p:nvSpPr>
              <p:cNvPr id="182" name=""/>
              <p:cNvSpPr/>
              <p:nvPr/>
            </p:nvSpPr>
            <p:spPr>
              <a:xfrm>
                <a:off x="5425920" y="3681360"/>
                <a:ext cx="1773360" cy="71460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4600"/>
                  <a:gd name="textAreaBottom" fmla="*/ 618840 h 714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5238720" y="2963880"/>
                <a:ext cx="1773360" cy="716040"/>
              </a:xfrm>
              <a:custGeom>
                <a:avLst/>
                <a:gdLst>
                  <a:gd name="textAreaLeft" fmla="*/ 310320 w 1773360"/>
                  <a:gd name="textAreaRight" fmla="*/ 1285920 w 1773360"/>
                  <a:gd name="textAreaTop" fmla="*/ 95760 h 716040"/>
                  <a:gd name="textAreaBottom" fmla="*/ 620280 h 716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4106880" y="5616720"/>
              <a:ext cx="1357200" cy="357120"/>
            </a:xfrm>
            <a:prstGeom prst="rightArrow">
              <a:avLst>
                <a:gd name="adj1" fmla="val 50000"/>
                <a:gd name="adj2" fmla="val 95010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029840" y="4971960"/>
              <a:ext cx="1357560" cy="357120"/>
            </a:xfrm>
            <a:prstGeom prst="rightArrow">
              <a:avLst>
                <a:gd name="adj1" fmla="val 50000"/>
                <a:gd name="adj2" fmla="val 95035"/>
              </a:avLst>
            </a:prstGeom>
            <a:solidFill>
              <a:srgbClr val="33cccc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5800" y="3179880"/>
              <a:ext cx="903600" cy="786960"/>
              <a:chOff x="3655800" y="3179880"/>
              <a:chExt cx="903600" cy="786960"/>
            </a:xfrm>
          </p:grpSpPr>
          <p:sp>
            <p:nvSpPr>
              <p:cNvPr id="187" name=""/>
              <p:cNvSpPr/>
              <p:nvPr/>
            </p:nvSpPr>
            <p:spPr>
              <a:xfrm>
                <a:off x="3741840" y="3574080"/>
                <a:ext cx="817560" cy="392760"/>
              </a:xfrm>
              <a:custGeom>
                <a:avLst/>
                <a:gdLst>
                  <a:gd name="textAreaLeft" fmla="*/ 142920 w 817560"/>
                  <a:gd name="textAreaRight" fmla="*/ 592920 w 817560"/>
                  <a:gd name="textAreaTop" fmla="*/ 52560 h 392760"/>
                  <a:gd name="textAreaBottom" fmla="*/ 340200 h 39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655440" y="3179880"/>
                <a:ext cx="817560" cy="394200"/>
              </a:xfrm>
              <a:custGeom>
                <a:avLst/>
                <a:gdLst>
                  <a:gd name="textAreaLeft" fmla="*/ 142560 w 817560"/>
                  <a:gd name="textAreaRight" fmla="*/ 592560 w 817560"/>
                  <a:gd name="textAreaTop" fmla="*/ 52560 h 394200"/>
                  <a:gd name="textAreaBottom" fmla="*/ 341640 h 394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33cccc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560840" y="4900680"/>
              <a:ext cx="52560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559040" y="4900680"/>
              <a:ext cx="453960" cy="4284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27920" cy="60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fongibilité au sein du program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DBC37-D63B-4874-966A-1D2FD6106238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Un budget orienté vers les résultats : la recherche de la PERFORM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éterminés dans le cadre des moyens alloués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≠ budgétisation par objectif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600" spc="-1" strike="noStrike">
                <a:solidFill>
                  <a:srgbClr val="4d4d4d"/>
                </a:solidFill>
                <a:latin typeface="Wingdings 3"/>
                <a:ea typeface="Wingdings 3"/>
              </a:rPr>
              <a:t>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Des objectifs d’amélioration de l’efficacité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S’engager sur l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projet annuel de performance (LFI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Rendre compte des résultats : </a:t>
            </a:r>
            <a:r>
              <a:rPr b="0" i="1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le rapport annuel de performance (LR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Même présentation, même structure que le projet annuel de performance afin de faciliter la comparaison prévisions/réalisa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  <a:ea typeface="Arial"/>
              </a:rPr>
              <a:t>Vote en première lecture sur la loi de règlement n-1 avant l’examen du PLF n+1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AC42-3D08-496B-96CE-C3BE5849FF01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sens de la 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uide méthodologiqu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tagé entre le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ouvernement, le Parlement, la Cour des Comptes et le CI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sélection d’objectifs et d’indicateurs de résultats représentative des priorités du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tratégi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expliquer la cohére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bj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répondre aux attentes du citoyen,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l’usager et du contribuable : un choix politiqu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ur mesurer la réalisation des objectifs reten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79440" indent="-37944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et indicateur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clairent les politiques et sont présentés au Parlement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P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dont il est rendu compte dans l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17560" indent="-34272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tilisés et déclinés dans la gestion interne et donna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sens à l’activité de chaque ag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329600" y="114480"/>
            <a:ext cx="1419120" cy="15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1D678-CABA-4B35-8F97-C4D35A57B568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imensions de la perform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ois dimensions de la performance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socio-économ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itoyen) : les effets attendu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qualité du service rendu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e l’usager) : la qualité exigé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efficacité de la ges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point de vue du contribuable) : l’optimisation des moye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ndic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mesure des résultats pour chaque objectif en fixant des cibles (niveaux de performance obtenus et attendus)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non d’activité ou de moye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objectif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mputa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ux respons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 contrôle permanent exercé par un organisme public indépendant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mité interministériel d’audit des programmes (CIA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0D38-9FCB-4795-AFD6-67977EDFEFD2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par la performance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557000"/>
            <a:ext cx="7927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 objectifs par programme, 2 indicateurs par objecti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500 objectifs – 1.000 indicateurs en 2009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97840" y="2492280"/>
            <a:ext cx="7696800" cy="3346560"/>
            <a:chOff x="897840" y="2492280"/>
            <a:chExt cx="7696800" cy="3346560"/>
          </a:xfrm>
        </p:grpSpPr>
        <p:sp>
          <p:nvSpPr>
            <p:cNvPr id="202" name=""/>
            <p:cNvSpPr/>
            <p:nvPr/>
          </p:nvSpPr>
          <p:spPr>
            <a:xfrm>
              <a:off x="900000" y="507708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00000" y="4009320"/>
              <a:ext cx="7694640" cy="1080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00000" y="5838840"/>
              <a:ext cx="7694640" cy="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900000" y="3171240"/>
              <a:ext cx="7694640" cy="10440"/>
            </a:xfrm>
            <a:prstGeom prst="line">
              <a:avLst/>
            </a:prstGeom>
            <a:ln cap="sq" w="3168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8560" y="2644560"/>
              <a:ext cx="15591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Point de v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98400" y="2644560"/>
              <a:ext cx="17312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Axe d’analy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27560" y="2492280"/>
              <a:ext cx="133344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obje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309720" y="2492280"/>
              <a:ext cx="1447920" cy="75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Exempl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ff9933"/>
                  </a:solidFill>
                  <a:latin typeface="Arial"/>
                </a:rPr>
                <a:t>d’indic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97840" y="3258720"/>
              <a:ext cx="9172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itoy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9640" y="4020480"/>
              <a:ext cx="8791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Us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98920" y="5077080"/>
              <a:ext cx="143568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Contribu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99480" y="3228480"/>
              <a:ext cx="15926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cio-économ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8400" y="4042800"/>
              <a:ext cx="1536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qualité du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n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99840" y="5110200"/>
              <a:ext cx="1158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fficacité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 la ges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27920" y="3206520"/>
              <a:ext cx="17722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roître l’inser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ofessionnel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eunes diplôm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09360" y="3173040"/>
              <a:ext cx="22280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% de diplômés aya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n emploi 6 mois aprè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l’obtention de leur diplô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7920" y="4042800"/>
              <a:ext cx="1734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célérer 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judici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28280" y="5110200"/>
              <a:ext cx="164448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duire le coût d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 l’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99640" y="4010760"/>
              <a:ext cx="204228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urée moyenne d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cisions rendues 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ncienneté moyen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es jugements en cou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07920" y="5077080"/>
              <a:ext cx="204984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oût par redevable d’u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pô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4007-9D5C-4993-9CA2-C004927836B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4. La transparence des informa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7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penses de personne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ût complet intégrant les cotisations patronales + l’ensembl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mploi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émunérées par l’Etat exprimés en « équivalents temps plein travaillés »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P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justification au premier euro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crédits (éléments physico-financier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renforcement du principe d’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iversa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prés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érateur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emplois et crédi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généralis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torisations d’Engagement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à toutes l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comptabilité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nalyse du coût des action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répartissant les fonctions support et les services polyvalent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893FE-C27F-41BD-922F-61259CE79E4A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5. La nouvelle comptabilité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es outils de mesure de la situation financière de l’Etat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9279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a comptabilité élevée au niveau d’une loi organiqu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A coté de la comptabilité budgétaire en caisse, introduction de la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comptabilité d’exercice, en droits constatés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pour assurer la transparence de la situation financière de l’Etat (bilan +  hors-bilan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s comptes réguliers, sincères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et donnant une imag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fidè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de son patrimoine et de sa situation financiè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8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exigence de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confiée aux comptables en lien avec les ordonnateur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2FA9-B7D1-4438-8B67-6726FB25DDC3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e nouvelle comptabilité à trois dimens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90520" indent="-290520" algn="just"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Fondée sur la comptabilisation des recettes et des dépenses budgétaires (encaissements/pai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ériode complémentaire comptable de 20 jour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double suivi AE/C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comptabilité d’exercic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fondée sur la constatation des droits et obligations, proche des règles de comptabilité des entreprises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988560" indent="-4197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opérations sont prises en compte au titre de l’exercice auquel elles se rattachent, indépendamment de leur date de paiement ou d’enca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90520" indent="-29052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63640"/>
                <a:tab algn="l" pos="1778040"/>
                <a:tab algn="l" pos="2692440"/>
                <a:tab algn="l" pos="3606840"/>
                <a:tab algn="l" pos="4521240"/>
                <a:tab algn="l" pos="5435640"/>
                <a:tab algn="l" pos="6350040"/>
                <a:tab algn="l" pos="7264440"/>
                <a:tab algn="l" pos="8178840"/>
                <a:tab algn="l" pos="9093240"/>
                <a:tab algn="l" pos="1000764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analyse des coûts des ac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 au service du gestionnaire (cf. CAC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0600" y="173160"/>
            <a:ext cx="663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7374-33A7-42E5-9DEB-8E2C6B5ED770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mise en œuvre de la nouvelle compt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finition du cadre conceptuel : les normes comptabl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3 normes établis par 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mité des norm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sur les états financiers, les charges, les immobilisations, les dettes, etc.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21 mai 2004 :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pprobation par arrêté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déclinaison des norm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plan de compt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par nature (PC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ueil d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instructions comptab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construction du bila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recensement et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alorisation du parc immobilie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(coût du marché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895320" indent="-417600" algn="just">
              <a:lnSpc>
                <a:spcPct val="90000"/>
              </a:lnSpc>
              <a:buClr>
                <a:srgbClr val="a50021"/>
              </a:buClr>
              <a:buFont typeface="Wingdings" charset="2"/>
              <a:buChar char="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autres immobilisation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rporelles et les stock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Arial"/>
              <a:buAutoNum type="arabicPeriod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 annuel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ar la Cour des Comptes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comptes 2006 et 2007 certifiés par la Cour des Comp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vec 13 puis 12 réserves (dont 2 générales sur les systèmes d’information et le contrôle intern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F78A1-367E-4A07-A55D-6C1386480388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loi organique du 1</a:t>
            </a:r>
            <a:r>
              <a:rPr b="1" lang="pl-PL" sz="2600" spc="-1" strike="noStrike" baseline="30000">
                <a:solidFill>
                  <a:srgbClr val="ffffff"/>
                </a:solidFill>
                <a:latin typeface="Arial"/>
              </a:rPr>
              <a:t>er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 août 2001 relative aux lois de finances ( LOLF) en Franc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927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nouvelle constitution financière pour l’Etat 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e initiative parlementai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accord politique trans-partisa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 consensus avec le gouvern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4FD2-E2DD-4B87-9FDF-03245B61BF7E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6. L’accroissement du rôle du Parleme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lus lisib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et le vote par grandes politiques publiques (mission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discussion des crédits au premier euro, des emplois par minist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e information enrichie pour contrôler la dépense (PAP – annexes – RA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déba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otentiellement plus rich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élargissement du droit d’amendement : redéploiements entre programmes d’une même miss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exécu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un accès renforcé à l’information pour les commissions des finances (actes réglementair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pouvoirs d’investigations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’audi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s (recours à la Cour des Compt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’importance nouvelle d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oi de règl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intègre les comptes et les rapports annuels de performan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5CABB-5976-4413-8004-ACC36A451FF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95280" y="1600200"/>
            <a:ext cx="3581640" cy="4952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Jusqu'e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5054400"/>
            <a:ext cx="335268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94% des crédits sont reconduit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quasi-automatiquement d'une anné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r l'autre (services votés), sans remise en caus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L'essentiel des débats porte sur seulement 6% du budget géné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5057280"/>
            <a:ext cx="327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100% des crédits sont discuté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u Parlement par mi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1600200"/>
            <a:ext cx="35812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0000"/>
                </a:solidFill>
                <a:latin typeface="Arial"/>
              </a:rPr>
              <a:t>Depuis le budge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667480" y="2577960"/>
            <a:ext cx="2333520" cy="23241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1776240" y="2575080"/>
            <a:ext cx="2419560" cy="237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33400" y="2819520"/>
            <a:ext cx="533520" cy="228600"/>
          </a:xfrm>
          <a:custGeom>
            <a:avLst/>
            <a:gdLst/>
            <a:ahLst/>
            <a:rect l="l" t="t" r="r" b="b"/>
            <a:pathLst>
              <a:path w="288" h="96">
                <a:moveTo>
                  <a:pt x="192" y="48"/>
                </a:moveTo>
                <a:lnTo>
                  <a:pt x="288" y="0"/>
                </a:lnTo>
                <a:lnTo>
                  <a:pt x="0" y="0"/>
                </a:lnTo>
                <a:lnTo>
                  <a:pt x="0" y="96"/>
                </a:lnTo>
                <a:lnTo>
                  <a:pt x="192" y="96"/>
                </a:lnTo>
                <a:lnTo>
                  <a:pt x="288" y="0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81480" y="2581200"/>
            <a:ext cx="1353960" cy="28584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0"/>
                </a:moveTo>
                <a:lnTo>
                  <a:pt x="48" y="96"/>
                </a:lnTo>
                <a:lnTo>
                  <a:pt x="336" y="96"/>
                </a:lnTo>
                <a:lnTo>
                  <a:pt x="432" y="192"/>
                </a:lnTo>
                <a:lnTo>
                  <a:pt x="912" y="192"/>
                </a:lnTo>
                <a:lnTo>
                  <a:pt x="912" y="0"/>
                </a:lnTo>
                <a:lnTo>
                  <a:pt x="0" y="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2057400"/>
            <a:ext cx="16002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esures nouvelles par ministère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7 votes en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2346480"/>
            <a:ext cx="12193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vices votés : 1 seul v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315200" y="2438280"/>
            <a:ext cx="76212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0" y="96"/>
                </a:moveTo>
                <a:lnTo>
                  <a:pt x="336" y="288"/>
                </a:lnTo>
                <a:lnTo>
                  <a:pt x="480" y="288"/>
                </a:lnTo>
                <a:lnTo>
                  <a:pt x="480" y="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17840"/>
            <a:ext cx="10670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7 missions, 47 v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Un débat budgétaire enrichi et modernis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F9EA-DD19-4887-8DE7-621CFC47AC90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7. Un nouveau système de responsabilité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pilotage par le responsable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près arbitrage mené par le directeur des affaires financières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dispose des crédits et les répartit pour les besoins de la gestion interne,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s’engage sur la performanc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rojet annuel de performance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57080" indent="-27936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l rend compte devant le Parlement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pport annuel</a:t>
            </a:r>
            <a:br>
              <a:rPr sz="2000"/>
            </a:b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performanc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responsables de programme qui peuvent piloter plusieurs direction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5720"/>
                <a:tab algn="l" pos="1770120"/>
                <a:tab algn="l" pos="2684520"/>
                <a:tab algn="l" pos="3598920"/>
                <a:tab algn="l" pos="4513320"/>
                <a:tab algn="l" pos="5427720"/>
                <a:tab algn="l" pos="6342120"/>
                <a:tab algn="l" pos="7256520"/>
                <a:tab algn="l" pos="8170920"/>
                <a:tab algn="l" pos="9085320"/>
                <a:tab algn="l" pos="999972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«managériale», une rémunération au méri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C864-AF17-42F0-B4BC-3BD5278F2A96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Une déconcentration de la gestion budgétai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s programmes nationaux se déclinent en</a:t>
            </a:r>
            <a:r>
              <a:rPr b="0" lang="pl-PL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budget opérationnel de programme (BOP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sur un périmètre ou un territoir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plan d’action avec des objectifs et indicateurs</a:t>
            </a:r>
            <a:br>
              <a:rPr sz="2000"/>
            </a:b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 performance adaptés aux enjeux opérationnels des services déconcentré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budget prévisionnel, détaillé par finalité et nature de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schéma d’organisation financiè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gestion : 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onsable de budget opérationnel de programm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dispose d’un budget opérationnel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l s’engage et rend compte dans le cadre du dialogue de gestion au responsable de programme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97CE-ABD6-474F-986A-094F18F72F5A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9. L’allégement des contrôles du ministère des financ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budgétaire de souten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27/01/05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bandon du contrôle de régularité confié aux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visa amont sur la programmation budgétaire initi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cours de gestion : une modularité des contrôles avec un contrôle a priori en fonction des enjeux et des ris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mptes-rendus de gestion trimestriels par les gestionnair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 contrôle comptable du paiement de la dépense allég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hiérarchisé ou partenari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250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ais 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rôle interne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enforcé pour garantir la «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qualité comptabl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57D9-969C-4759-AF5C-147C8EC77C93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développement des contrôles exercés par les ministères gestionnai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de gestion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«améliorer le rapport entre les moyens engagés et l’activité ou bien avec les résultats obtenus»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contrôle de gestion ministériel et par programme, et au niveau loca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renforcement du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contrôle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Conséquence de la réorganisation des ministères et de l’allégement des contrôles financi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se en place d’un contrôle interne comptab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9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développement de </a:t>
            </a:r>
            <a:r>
              <a:rPr b="0" lang="pl-PL" sz="2400" spc="-1" strike="noStrike" u="sng">
                <a:solidFill>
                  <a:srgbClr val="4d4d4d"/>
                </a:solidFill>
                <a:uFillTx/>
                <a:latin typeface="Arial"/>
              </a:rPr>
              <a:t>l’audit intern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Activité externe menée par des équipes dédiées (inspection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791AA-D314-4E01-84BC-94445A4CACF2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0. La mise en place de nouveaux systèmes d’information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système provisoire dès 2006 mais peu satisfaisa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nouveau progiciel de gestion intégré (ERP) en construction (CHORUS) couvrant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dministrations centrales et déconcentré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’ensemble des applications de dépenses, de recettes et toutes les comptabil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es infocentres de données permettant des restitut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levier de modernisation et d’amélioration de la productivité, précédé d’une «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réingénierie des processus financier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» (23.000 licences au lieu de 45.000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déploiement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rogressif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révu entre 2009 et 201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accompagnement indispensable dans le déploi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6A8A-BD5C-4220-A613-02FA00093DAC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1255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n conclusion: le temps long de la réforme </a:t>
            </a:r>
            <a:br>
              <a:rPr sz="2600"/>
            </a:b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principales étapes de la réforme budgétaire : 2001-2007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4000" y="2421000"/>
            <a:ext cx="8351640" cy="1440"/>
          </a:xfrm>
          <a:prstGeom prst="line">
            <a:avLst/>
          </a:prstGeom>
          <a:ln cap="sq" w="76320">
            <a:solidFill>
              <a:srgbClr val="00ad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656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40328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6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101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1916280"/>
            <a:ext cx="792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916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93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831708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27080" y="2490480"/>
            <a:ext cx="180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9440" y="3141720"/>
            <a:ext cx="13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e par 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78200" y="3149640"/>
            <a:ext cx="18730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éation de la  Direction de la réforme budgé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3141720"/>
            <a:ext cx="1800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jet de loi de finances en mode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ctifs de performance / indicateurs de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580000" y="3135240"/>
            <a:ext cx="19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ort Lambert/Migaud sur la mise en œuvre de la LOL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6 : 1</a:t>
            </a:r>
            <a:r>
              <a:rPr b="0" lang="fr-FR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loi de finances en mode LOLF &amp; débat parlement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451640" y="3135240"/>
            <a:ext cx="169236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4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ers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apports annuels de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tification des comptes par la Cour des Comp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596360" y="1916280"/>
            <a:ext cx="7920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372360" y="2490480"/>
            <a:ext cx="1440" cy="579240"/>
          </a:xfrm>
          <a:prstGeom prst="line">
            <a:avLst/>
          </a:prstGeom>
          <a:ln cap="sq" w="57240">
            <a:solidFill>
              <a:srgbClr val="00add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0000" y="5589720"/>
            <a:ext cx="266724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r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ruire les fo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73400" y="5589720"/>
            <a:ext cx="1722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59640" y="5589720"/>
            <a:ext cx="189072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pl-PL" sz="1600" spc="-1" strike="noStrike" baseline="30000">
                <a:solidFill>
                  <a:srgbClr val="000000"/>
                </a:solidFill>
                <a:latin typeface="Arial"/>
                <a:ea typeface="ＭＳ Ｐゴシック"/>
              </a:rPr>
              <a:t>ème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étape :</a:t>
            </a:r>
            <a:r>
              <a:rPr b="0" lang="pl-PL" sz="1800" spc="-1" strike="noStrike">
                <a:solidFill>
                  <a:srgbClr val="000000"/>
                </a:solidFill>
                <a:latin typeface="Garamond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mise en œuv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201924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5400000">
            <a:off x="4754520" y="4173480"/>
            <a:ext cx="431640" cy="252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7418160" y="41734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009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492280"/>
            <a:ext cx="25207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uvelle agence de gestion des systèmes d’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9A26-547D-4776-8A12-FA8D74D5A9AB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pilotage de la réfo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 pilotage assuré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inistère des financ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création d’un structure dédiée: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la direction de la réforme budgétair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direction de projet  créée pour une durée limitée: 50 cadres de haut niveau aidé par des consultants pour :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éfinir les nouvelles règles budgétaires et comptables (en associant les directions du budget et de la comptabilité publiqu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ssurer le pilotage interministériel de la réforme (comité des directeurs financiers des ministères, forum des responsables de  programme, animation de comités locaux de la réforme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Une feuille de rout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, un calendrier, des jal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consultation permanente des commissions de finances du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Parleme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0827-1CC1-4089-B58C-ECCB54D53BC4}" type="slidenum">
              <a:t>28</a:t>
            </a:fld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enseignements de la mise en œuv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implication au plus haut niveau (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soutien politique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formation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managers public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à la culture de responsabilité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form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indispensable dans les ministères pour tous les agents quelque soit leur niveau  (formation de formateur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e recours a des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expérimentations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pour s’approprier la réfor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ommunication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 externe et et intern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84040" indent="-284040" algn="just">
              <a:spcBef>
                <a:spcPts val="137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53920"/>
                <a:tab algn="l" pos="1768320"/>
                <a:tab algn="l" pos="2682720"/>
                <a:tab algn="l" pos="3597120"/>
                <a:tab algn="l" pos="4511520"/>
                <a:tab algn="l" pos="5425920"/>
                <a:tab algn="l" pos="6340320"/>
                <a:tab algn="l" pos="7254720"/>
                <a:tab algn="l" pos="8169120"/>
                <a:tab algn="l" pos="9083520"/>
                <a:tab algn="l" pos="999792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a nécessité d’une mise sous tension par le </a:t>
            </a:r>
            <a:r>
              <a:rPr b="1" lang="pl-PL" sz="2200" spc="-1" strike="noStrike">
                <a:solidFill>
                  <a:srgbClr val="4d4d4d"/>
                </a:solidFill>
                <a:latin typeface="Arial"/>
              </a:rPr>
              <a:t>calendr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AA236-50CB-4894-9D1B-4BB2035D7562}" type="slidenum">
              <a:t>29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LOLF doit répondre aux attentes …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17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9856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é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933720"/>
            <a:ext cx="28065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1160" indent="-28116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Lisibilité budgétaire accrue et transparence dans l’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1160"/>
                <a:tab algn="l" pos="1195560"/>
                <a:tab algn="l" pos="2109960"/>
                <a:tab algn="l" pos="3024360"/>
                <a:tab algn="l" pos="3938760"/>
                <a:tab algn="l" pos="4853160"/>
                <a:tab algn="l" pos="5767560"/>
                <a:tab algn="l" pos="6681960"/>
                <a:tab algn="l" pos="7596360"/>
                <a:tab algn="l" pos="8510760"/>
                <a:tab algn="l" pos="9425160"/>
                <a:tab algn="l" pos="1033956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Meilleure affectation des ressources aux politiques publiques</a:t>
            </a: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86400" y="1879560"/>
            <a:ext cx="251964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900" spc="-1" strike="noStrike">
                <a:solidFill>
                  <a:srgbClr val="000099"/>
                </a:solidFill>
                <a:latin typeface="Arial"/>
              </a:rPr>
              <a:t>des fonctionnai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43640" y="3930480"/>
            <a:ext cx="2521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Plus grande liberté et responsabilité accrue des acteurs de l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Des objectifs clai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3120" y="1471680"/>
            <a:ext cx="344520" cy="372960"/>
          </a:xfrm>
          <a:prstGeom prst="downArrow">
            <a:avLst>
              <a:gd name="adj1" fmla="val 50000"/>
              <a:gd name="adj2" fmla="val 27064"/>
            </a:avLst>
          </a:prstGeom>
          <a:solidFill>
            <a:srgbClr val="000099"/>
          </a:solidFill>
          <a:ln cap="sq"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92360" y="3933720"/>
            <a:ext cx="27464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itoyens : meilleure compréhension de l’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 algn="just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Usagers : des services publics mieux adaptés aux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84040"/>
                <a:tab algn="l" pos="1198440"/>
                <a:tab algn="l" pos="2112840"/>
                <a:tab algn="l" pos="3027240"/>
                <a:tab algn="l" pos="3941640"/>
                <a:tab algn="l" pos="4856040"/>
                <a:tab algn="l" pos="5770440"/>
                <a:tab algn="l" pos="6684840"/>
                <a:tab algn="l" pos="7599240"/>
                <a:tab algn="l" pos="8513640"/>
                <a:tab algn="l" pos="9428040"/>
                <a:tab algn="l" pos="1034244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 Narrow"/>
              </a:rPr>
              <a:t>Contribuables : meilleure utilisation des impô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45000" y="1879560"/>
            <a:ext cx="2519280" cy="20700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99"/>
                </a:solidFill>
                <a:latin typeface="Arial Narrow"/>
              </a:rPr>
              <a:t>des citoy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CDB8-3F13-47E8-9E12-C21CC5C9D8DB}" type="slidenum">
              <a:t>3</a:t>
            </a:fld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es premiers résultats encouragea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France 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specté les dates limit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fixée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1125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1</a:t>
            </a:r>
            <a:r>
              <a:rPr b="0" lang="pl-PL" sz="1800" spc="-1" strike="noStrike" baseline="30000">
                <a:solidFill>
                  <a:srgbClr val="4d4d4d"/>
                </a:solidFill>
                <a:latin typeface="Arial"/>
              </a:rPr>
              <a:t>èr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loi de finances voté en mode LOLF en 2006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1ers comptes 2006 certifiés par la Cour des Compt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naissance d’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nouvelle forme de responsabilité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ncourageant les ministères à redéfinir leurs objectif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léguant les responsabilité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le nouveau système encourage l’amélioration de la qualité du service public et une meilleure utilisation des ressources publiqu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cloisonn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s services entre les opérationnels, les financiers et les ressources humain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 enrichissement réel d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ialogue de ges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mais une déclinaison de la performance à améliore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AE98-4B99-4BBE-A67C-F4BD864880A1}" type="slidenum">
              <a:t>30</a:t>
            </a:fld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Malgré des débuts diffici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ne phase d’apprentissag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nouveaux standards, nouveaux outils, nouveau calendrier…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arges de manœuvre encore faibl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 des faibles redéploiements, des fléchages de crédits par les administrations centrales …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rge de travail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lus complexe et plus grande (plus d'informations, de procédures d'engagement de dépense, etc.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soucis concernant la disponibilité et l'exactitude de certain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util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notamment les systèmes intégrés de gestion. Un débat non tranché sur le partage des gains de productivité ( peu de contrats pluriannuel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problème de l’application de la réforme en  période de déficit budgé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CCCF-509A-485D-8AED-DAE1AA8570B0}" type="slidenum">
              <a:t>31</a:t>
            </a:fld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défis de plus long ter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polit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la réalité du rôle du Parle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 administratif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cohérence entre les périmètres des programmes importants (100) et les compétences des administrations centrales (200 direction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dministrations centrales et les services déconcentr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s relations entre les acteurs : ministère des finances/ ministères gestionnaires ; responsables de programmes opérationnels /directions support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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citations pour réaliser les résultats et améliorer la gestion des ressources humaines (carrière, salaires, bonifications, etc.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culturel 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: le passage d’une culture de moyens et de régularité à une culture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50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Un défi techniqu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: améliorer les systèmes d'information pour la qualité et la fiabilité des donné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F7A8-54CB-4CA1-AA1F-F76435713250}" type="slidenum">
              <a:t>32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lusieurs réformes dans un texte solenne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e nouvell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nomenclature budgétair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a discussion, le vote et l’exécution des lois de finances pour présenter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Un budget orienté vers les résultat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vec des objectifs et des indicateurs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erforman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our une permettre une nouvelle gestion publique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Des comptes plus transparents et plus précis basés sur la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comptabilité en droits constatés («accrual»)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et l'analyse des coûts, donnant aux gestionnaires de nouveaux outils pour gérer leur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1250"/>
              </a:spcBef>
              <a:buClr>
                <a:srgbClr val="a50021"/>
              </a:buClr>
              <a:buFont typeface="Wingdings 3" charset="2"/>
              <a:buChar char="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Un nouveau système de gouvernance budgétaire et de procédure budgétaire: une collégialité gouvernementale et un rôle plus actif du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Parlemen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ans l’autorisation et le contrôle des dépen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45ED-6D0D-4450-AA87-E0EE6A57A86E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architecture budgétair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249720" y="2209320"/>
            <a:ext cx="5892840" cy="3208320"/>
            <a:chOff x="3249720" y="2209320"/>
            <a:chExt cx="5892840" cy="3208320"/>
          </a:xfrm>
        </p:grpSpPr>
        <p:sp>
          <p:nvSpPr>
            <p:cNvPr id="116" name=""/>
            <p:cNvSpPr/>
            <p:nvPr/>
          </p:nvSpPr>
          <p:spPr>
            <a:xfrm>
              <a:off x="5238720" y="2209320"/>
              <a:ext cx="2306520" cy="75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4000" spc="-1" strike="noStrike">
                  <a:solidFill>
                    <a:srgbClr val="000000"/>
                  </a:solidFill>
                  <a:latin typeface="Arial"/>
                </a:rPr>
                <a:t>Miss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7" name=""/>
            <p:cNvCxnSpPr/>
            <p:nvPr/>
          </p:nvCxnSpPr>
          <p:spPr>
            <a:xfrm rot="5400000">
              <a:off x="5938920" y="3431160"/>
              <a:ext cx="926280" cy="6840"/>
            </a:xfrm>
            <a:prstGeom prst="bentConnector3">
              <a:avLst>
                <a:gd name="adj1" fmla="val 5000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18" name=""/>
            <p:cNvSpPr/>
            <p:nvPr/>
          </p:nvSpPr>
          <p:spPr>
            <a:xfrm>
              <a:off x="363060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24640" y="3888720"/>
              <a:ext cx="152388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20120" y="3888720"/>
              <a:ext cx="152244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Program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1" name=""/>
            <p:cNvCxnSpPr>
              <a:stCxn id="116" idx="2"/>
              <a:endCxn id="118" idx="0"/>
            </p:cNvCxnSpPr>
            <p:nvPr/>
          </p:nvCxnSpPr>
          <p:spPr>
            <a:xfrm rot="5400000">
              <a:off x="4929120" y="2424600"/>
              <a:ext cx="924480" cy="200268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cxnSp>
          <p:nvCxnSpPr>
            <p:cNvPr id="122" name=""/>
            <p:cNvCxnSpPr>
              <a:stCxn id="116" idx="2"/>
              <a:endCxn id="120" idx="0"/>
            </p:cNvCxnSpPr>
            <p:nvPr/>
          </p:nvCxnSpPr>
          <p:spPr>
            <a:xfrm flipH="1" rot="16200000">
              <a:off x="6923520" y="2431800"/>
              <a:ext cx="924480" cy="1987920"/>
            </a:xfrm>
            <a:prstGeom prst="bentConnector3">
              <a:avLst>
                <a:gd name="adj1" fmla="val 49980"/>
              </a:avLst>
            </a:prstGeom>
            <a:ln cap="sq" w="76320">
              <a:solidFill>
                <a:srgbClr val="000099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5396040" y="5029920"/>
              <a:ext cx="9000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9200" y="5029920"/>
              <a:ext cx="87948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21320" y="5029920"/>
              <a:ext cx="79056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5028480"/>
              <a:ext cx="833400" cy="3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18" idx="2"/>
              <a:endCxn id="126" idx="0"/>
            </p:cNvCxnSpPr>
            <p:nvPr/>
          </p:nvCxnSpPr>
          <p:spPr>
            <a:xfrm rot="5400000">
              <a:off x="3683520" y="4320360"/>
              <a:ext cx="691200" cy="72756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8" name=""/>
            <p:cNvCxnSpPr>
              <a:stCxn id="118" idx="2"/>
              <a:endCxn id="124" idx="0"/>
            </p:cNvCxnSpPr>
            <p:nvPr/>
          </p:nvCxnSpPr>
          <p:spPr>
            <a:xfrm rot="5400000">
              <a:off x="3999240" y="4637880"/>
              <a:ext cx="692640" cy="94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29" name=""/>
            <p:cNvCxnSpPr>
              <a:stCxn id="118" idx="2"/>
              <a:endCxn id="123" idx="0"/>
            </p:cNvCxnSpPr>
            <p:nvPr/>
          </p:nvCxnSpPr>
          <p:spPr>
            <a:xfrm flipH="1" rot="16200000">
              <a:off x="4772160" y="3958200"/>
              <a:ext cx="692640" cy="145332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  <p:cxnSp>
          <p:nvCxnSpPr>
            <p:cNvPr id="130" name=""/>
            <p:cNvCxnSpPr>
              <a:stCxn id="118" idx="2"/>
              <a:endCxn id="125" idx="0"/>
            </p:cNvCxnSpPr>
            <p:nvPr/>
          </p:nvCxnSpPr>
          <p:spPr>
            <a:xfrm flipH="1" rot="16200000">
              <a:off x="4357800" y="4372560"/>
              <a:ext cx="692640" cy="624600"/>
            </a:xfrm>
            <a:prstGeom prst="bentConnector3">
              <a:avLst>
                <a:gd name="adj1" fmla="val 49973"/>
              </a:avLst>
            </a:prstGeom>
            <a:ln cap="sq" w="28440">
              <a:solidFill>
                <a:srgbClr val="ff9900"/>
              </a:solidFill>
              <a:miter/>
            </a:ln>
          </p:spPr>
        </p:cxnSp>
      </p:grpSp>
      <p:sp>
        <p:nvSpPr>
          <p:cNvPr id="131" name=""/>
          <p:cNvSpPr/>
          <p:nvPr/>
        </p:nvSpPr>
        <p:spPr>
          <a:xfrm>
            <a:off x="609480" y="3772080"/>
            <a:ext cx="2667240" cy="1828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838760"/>
            <a:ext cx="2895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611280" y="3735360"/>
            <a:ext cx="2666880" cy="4190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171880"/>
            <a:ext cx="2667240" cy="160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1760" y="2400480"/>
            <a:ext cx="2228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Discussion et vote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 Par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1560" y="3733920"/>
            <a:ext cx="14918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Auto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Exé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A60F-B77A-45BE-92A9-D35FCEA2516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: l’expression des choix polit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35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32 mission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L’identification de politiques publiques cohérentes : «Une mission comprend un ensemble de programmes concourant à une politique publique définie»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est l'unité de vote du Parle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le regroupe un ensemble de programmes,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Parlement peut réallouer les crédits entre programmes, au sein d'une miss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spcBef>
                <a:spcPts val="27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Elle peut être ministérielle ou interministériell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8 missions interministérielles,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xemple : la mission «Recherche» qui concerne 6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C190A-88DA-4E2E-ADB8-ACF614ADD7C4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826920" y="1928160"/>
            <a:ext cx="7858440" cy="4674960"/>
            <a:chOff x="826920" y="1928160"/>
            <a:chExt cx="7858440" cy="4674960"/>
          </a:xfrm>
        </p:grpSpPr>
        <p:sp>
          <p:nvSpPr>
            <p:cNvPr id="140" name=""/>
            <p:cNvSpPr/>
            <p:nvPr/>
          </p:nvSpPr>
          <p:spPr>
            <a:xfrm>
              <a:off x="7153200" y="2139480"/>
              <a:ext cx="152244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nseign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Supérieur 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6920" y="1928160"/>
              <a:ext cx="6105600" cy="120996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ormation supérieure et recherche universit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e étudi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s scientifiques et technologiques pluridiscipli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a gestion des milieux et des res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spat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6890400" y="24944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6920" y="338256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industri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53200" y="3136680"/>
              <a:ext cx="152244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nom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Industrie et</a:t>
              </a:r>
              <a:br>
                <a:rPr sz="1400"/>
              </a:b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Emplo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6890400" y="352188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920" y="3889080"/>
              <a:ext cx="6105600" cy="99684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risques et des pol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 l'énerg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ans le domaine des transports, de l'équipement et de l'habi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3200" y="3889080"/>
              <a:ext cx="1522440" cy="9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Écologi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6890400" y="435060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3200" y="501660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6920" y="501480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duale (civile et militair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890400" y="515736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26920" y="6245640"/>
              <a:ext cx="610560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 agric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53200" y="624564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90400" y="6389640"/>
              <a:ext cx="298440" cy="748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62920" y="5618520"/>
              <a:ext cx="15224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99"/>
                  </a:solidFill>
                  <a:latin typeface="Arial"/>
                </a:rPr>
                <a:t>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6640" y="5615280"/>
              <a:ext cx="6107040" cy="357480"/>
            </a:xfrm>
            <a:prstGeom prst="rect">
              <a:avLst/>
            </a:prstGeom>
            <a:solidFill>
              <a:srgbClr val="ffffff"/>
            </a:solidFill>
            <a:ln cap="sq"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Garamond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Garamond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cherche culturelle et culture scientifi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6899760" y="5759640"/>
              <a:ext cx="298440" cy="74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mission « Recherche et enseignement supérieur »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12 programmes / 6 ministèr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54C7-A8C4-476A-8362-DC661B19DD9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 programme : cadre d’autorisation et de gestion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130 programmes pour le budget généra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Le programme regroupe les crédits (quelle qu’en soit la nature) destinés à mettre en œuvre une action ou un ensemble cohérent d'actions (600)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relève d'un seul minist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Unité de spécialité des crédits et de définition des objectifs et indicateurs de résulta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Pas de budgétisation analytiqu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Il nécessite un pilotage qui fait apparaître de nouvelles fonctions managériale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204840"/>
            <a:ext cx="701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55520" y="204840"/>
            <a:ext cx="765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8E6CA-7527-4F82-9150-9CB3F86BBA3B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181480" y="2967120"/>
            <a:ext cx="3657600" cy="53496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dministration pénitent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5110200"/>
            <a:ext cx="3657600" cy="99864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Conduite et pilotag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la politique de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et organismes rattach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2349360"/>
            <a:ext cx="3657600" cy="45720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Justice judici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3662280"/>
            <a:ext cx="3657600" cy="7444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Protection judiciaire </a:t>
            </a:r>
            <a:br>
              <a:rPr sz="2000"/>
            </a:b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de la jeun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4567320"/>
            <a:ext cx="3657600" cy="382680"/>
          </a:xfrm>
          <a:prstGeom prst="rect">
            <a:avLst/>
          </a:prstGeom>
          <a:solidFill>
            <a:srgbClr val="0099ff">
              <a:alpha val="50000"/>
            </a:srgbClr>
          </a:solidFill>
          <a:ln cap="sq"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5f5f5f"/>
                </a:solidFill>
                <a:latin typeface="Arial"/>
              </a:rPr>
              <a:t>Accès au droit et à la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globalisation des crédits</a:t>
            </a:r>
            <a:br>
              <a:rPr sz="3000"/>
            </a:br>
            <a:r>
              <a:rPr b="1" lang="pl-PL" sz="2700" spc="-1" strike="noStrike">
                <a:solidFill>
                  <a:srgbClr val="ffffff"/>
                </a:solidFill>
                <a:latin typeface="Arial"/>
              </a:rPr>
              <a:t>L’exemple de la mission «justice»</a:t>
            </a:r>
            <a:endParaRPr b="1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2200" y="1484280"/>
            <a:ext cx="4267080" cy="4897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vant : 30 chapi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160 articles de pré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II - Moyens des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- rémunérations d'activ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retraite - pensions et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Personnel en activité et en retraite - charges so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Matériel et fonctionnement des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Subventions de foncti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Dépenses diver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IV - Interventions publ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Interventions politiques et administr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Actions sociale - assistance et solidar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 - Investissements exécuté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administratifs et div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Titre VI - Subventions d'investissement accordées par l'É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96920" indent="-468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Équipement culturel et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95840" y="3044880"/>
            <a:ext cx="380880" cy="1600200"/>
          </a:xfrm>
          <a:prstGeom prst="rightArrow">
            <a:avLst>
              <a:gd name="adj1" fmla="val 71824"/>
              <a:gd name="adj2" fmla="val 50833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48360" y="1679400"/>
            <a:ext cx="366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a50021"/>
                </a:solidFill>
                <a:latin typeface="Arial"/>
              </a:rPr>
              <a:t>Après : 5 progra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D32F1-B2CF-482A-9938-65B65E9FF1C9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0:25:37Z</dcterms:created>
  <dc:creator>MINEFI</dc:creator>
  <dc:description/>
  <dc:language>en-US</dc:language>
  <cp:lastModifiedBy>KAS</cp:lastModifiedBy>
  <dcterms:modified xsi:type="dcterms:W3CDTF">2009-02-05T12:50:16Z</dcterms:modified>
  <cp:revision>168</cp:revision>
  <dc:subject/>
  <dc:title>La gestion de la réforme budgétaire </dc:title>
</cp:coreProperties>
</file>