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481E4-30C5-4E9C-90EE-67B26E4691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3DB8A-D373-4644-B685-D2C5F7FA75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FF111-24CB-4CEF-B753-7419F85234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2185A-35E5-40E9-8A20-9E49A3E49F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66D34-7930-47C1-86A2-5D0E70A696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6D8CA-6981-4BB5-8C3D-A7D1721D41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E74D4-1A6D-4603-93DE-CEEC9CC19D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68F10-13F8-4E6E-82D4-FFBC40ECBC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21C78-C807-47B0-A450-DB7F31EC4D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B571D-CB7E-4B5F-AB96-FACE9DFB3F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D6CB1-6C83-4D5A-BEE5-1C6E873A37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E0342-1D5B-4D26-BCC1-E45A56F58B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74A0816-EC2B-42AC-BB52-B162BC8A975E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ervice-public.fr/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6920" y="1412640"/>
            <a:ext cx="72392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kl wykładów</a:t>
            </a:r>
            <a:r>
              <a:rPr b="0" lang="fr-FR" sz="3400" spc="-1" strike="noStrike">
                <a:solidFill>
                  <a:srgbClr val="ffffff"/>
                </a:solidFill>
                <a:latin typeface="Arial"/>
              </a:rPr>
              <a:t>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Od modernizacji</a:t>
            </a:r>
            <a:br>
              <a:rPr sz="38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do reformy państwa</a:t>
            </a:r>
            <a:br>
              <a:rPr sz="38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we Francji </a:t>
            </a:r>
            <a:br>
              <a:rPr sz="3800"/>
            </a:br>
            <a:br>
              <a:rPr sz="3400"/>
            </a:b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erstwo Budżetu</a:t>
            </a:r>
            <a:r>
              <a:rPr b="0" lang="fr-FR" sz="28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Rachunków Publicznych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i Służby Cywilnej</a:t>
            </a:r>
            <a:r>
              <a:rPr b="0" lang="fr-FR" sz="2800" spc="-1" strike="noStrike">
                <a:solidFill>
                  <a:srgbClr val="ffffff"/>
                </a:solidFill>
                <a:latin typeface="Arial Narrow"/>
              </a:rPr>
              <a:t> - </a:t>
            </a: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Paryż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40360" y="6016680"/>
            <a:ext cx="30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arszawa</a:t>
            </a:r>
            <a:r>
              <a:rPr b="0" lang="fr-FR" sz="1800" spc="-1" strike="noStrike">
                <a:solidFill>
                  <a:srgbClr val="ffffff"/>
                </a:solidFill>
                <a:latin typeface="Arial Narrow"/>
              </a:rPr>
              <a:t>, 11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grudnia</a:t>
            </a:r>
            <a:r>
              <a:rPr b="0" lang="fr-FR" sz="1800" spc="-1" strike="noStrike">
                <a:solidFill>
                  <a:srgbClr val="ffffff"/>
                </a:solidFill>
                <a:latin typeface="Arial Narrow"/>
              </a:rPr>
              <a:t>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6477120"/>
            <a:ext cx="670536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190512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6324480" y="6548400"/>
          <a:ext cx="83844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6548400"/>
                    <a:ext cx="83844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287280" y="1197000"/>
            <a:ext cx="8530920" cy="5668200"/>
            <a:chOff x="287280" y="1197000"/>
            <a:chExt cx="8530920" cy="5668200"/>
          </a:xfrm>
        </p:grpSpPr>
        <p:sp>
          <p:nvSpPr>
            <p:cNvPr id="149" name=""/>
            <p:cNvSpPr/>
            <p:nvPr/>
          </p:nvSpPr>
          <p:spPr>
            <a:xfrm>
              <a:off x="749160" y="5113440"/>
              <a:ext cx="2937240" cy="15397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66680" y="5397480"/>
              <a:ext cx="23119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Każda administracja oddaje do dyspozycji użytkownika</a:t>
              </a: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informacje i dokumenty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«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surowe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287280" y="1342800"/>
              <a:ext cx="5452200" cy="468468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41280" y="1197000"/>
              <a:ext cx="261792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W kierunku administracji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skoncentrowanej na użytkownik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560" y="3560760"/>
              <a:ext cx="2935800" cy="15397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70640" y="3844800"/>
              <a:ext cx="23115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Łańcuch obróbki</a:t>
              </a: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 «</a:t>
              </a: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on line</a:t>
              </a: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» </a:t>
              </a: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skłania do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ponownego przemyślenia procesów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,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organizacji i zawod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24680" y="2082960"/>
              <a:ext cx="2759400" cy="140148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41120" y="2368440"/>
              <a:ext cx="23115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pl-PL" sz="1400" spc="-1" strike="noStrike">
                  <a:solidFill>
                    <a:srgbClr val="003399"/>
                  </a:solidFill>
                  <a:latin typeface="Arial"/>
                </a:rPr>
                <a:t>Administracja zwraca się w stronę użytkownika, aby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</a:t>
              </a:r>
              <a:r>
                <a:rPr b="1" i="1" lang="pl-PL" sz="1400" spc="-1" strike="noStrike">
                  <a:solidFill>
                    <a:srgbClr val="003399"/>
                  </a:solidFill>
                  <a:latin typeface="Arial"/>
                </a:rPr>
                <a:t>lepiej spełniać jego oczekiwan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3680" y="3390840"/>
              <a:ext cx="19825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Wady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cji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 «auto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centrycznej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»: </a:t>
              </a: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złożoność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br>
                <a:rPr sz="1600"/>
              </a:b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terminy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394520" y="5261040"/>
              <a:ext cx="1284480" cy="291960"/>
            </a:xfrm>
            <a:custGeom>
              <a:avLst/>
              <a:gdLst>
                <a:gd name="textAreaLeft" fmla="*/ 224640 w 1284480"/>
                <a:gd name="textAreaRight" fmla="*/ 931320 w 1284480"/>
                <a:gd name="textAreaTop" fmla="*/ 38880 h 291960"/>
                <a:gd name="textAreaBottom" fmla="*/ 25308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598360" y="4670280"/>
              <a:ext cx="2689560" cy="14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ykład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. :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dematerializacja deklaracji podatku od dochodów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Télé-I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ortal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: Administration24h24.gouv.fr : 600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formalności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«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zdematerializowanych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741280" y="3708360"/>
              <a:ext cx="1284120" cy="292320"/>
            </a:xfrm>
            <a:custGeom>
              <a:avLst/>
              <a:gdLst>
                <a:gd name="textAreaLeft" fmla="*/ 224640 w 1284120"/>
                <a:gd name="textAreaRight" fmla="*/ 930960 w 1284120"/>
                <a:gd name="textAreaTop" fmla="*/ 38880 h 292320"/>
                <a:gd name="textAreaBottom" fmla="*/ 253440 h 29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84440" y="2452680"/>
              <a:ext cx="1733760" cy="238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Co do 1 tematu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zmiana adresu on 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ekrojowo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on.service-public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estrzeń przechowywania certyfikowanych danych administracyjnych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i dostęp do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czynności on 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32520" y="6442200"/>
              <a:ext cx="1284120" cy="291960"/>
            </a:xfrm>
            <a:custGeom>
              <a:avLst/>
              <a:gdLst>
                <a:gd name="textAreaLeft" fmla="*/ 224640 w 1284120"/>
                <a:gd name="textAreaRight" fmla="*/ 930960 w 1284120"/>
                <a:gd name="textAreaTop" fmla="*/ 38880 h 291960"/>
                <a:gd name="textAreaBottom" fmla="*/ 25308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07640" y="6221520"/>
              <a:ext cx="219420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Przykład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.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formularze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pdf 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do wydruku na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service-public.f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48680" y="510300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89000" y="355212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59480" y="207252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813744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Rozwój administracji elektronicznej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</a:rPr>
              <a:t>dźwignia zmian każdego rodzaju administracj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75F90-CB2D-4FD2-A097-EB74B24F423F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Rozwój usług w czasie rzeczywisty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Dematerializacja czynności i oferta nowych usług on line</a:t>
            </a:r>
            <a:r>
              <a:rPr b="1" lang="fr-FR" sz="24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materializacja formularz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dostęp za pośrednictwem jednolitej witryny internetow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fr-FR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service-public.fr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miana adresu on li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15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30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prowadzek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kty urodzenia on li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5.000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niosków dzien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ruchomienie na począt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9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roku portal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 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mon.service-public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testow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Relais de Services Public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nios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 dotacje on li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td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5373720"/>
            <a:ext cx="8064360" cy="86364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Francja weszła do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europejskiego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Top 5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 dziedzinie usług publicznych on lin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badani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Capgemini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la Komisji Europejskiej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czerwiec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40D7C-3985-4A6B-AD28-C9ABD6D934A6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Wyzwania modernizacji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Pilotaż reformy państw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Od modernizacji do reformy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Ogólny Przegląd Polityk Publicznych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pis tre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260CE-1C52-4039-9508-83747F2DA6D6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Prowadzenie reformy państ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995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forma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odległa Premierow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omisariat ds. Reformy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CRE)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997-2005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forma państwa podległ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inistrowi odpowiedzialnemu za służbę cywilną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iędzyresortowa Delegatura ds. Reformy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DIRE)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raz różne urzęd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DMGPSE, DUSA, ADAE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2003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yrekcja ds. Reformy Budżetow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DRB)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ministerstwie budżet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lem wdroże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LOLF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2005 :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kotwiczenie reformy państwa przy budżeci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tworzenie Generalnej Dyrekcji ds. Modernizacji Pańs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DGME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wola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lityczn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iągłość pomiędzy reformą budżetową i reformą państw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ynergi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mpetencji i dźwigni działani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2007 : Bud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ż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et +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forma państwa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łużba cywilna przy ministrze budżet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89A81-BA92-4C2F-9E5C-97D3A0A7F1C2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DG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Zakotwiczenie przy ministrze budżetu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Fuzja wszystkich istniejących struktur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zapewniająca synergię kompetencji oraz dźwigni działania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Zadania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DGME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«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Koordynacja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pomoc i zachęta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na szczeblu międzyresortowym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instancji administracyjnych w celu modernizacji sposobów funkcjonowania i zarządzania państwem, aby zapewnić lepszą jakość usługi świadczonej użytkownikom, przyczynić się do bardziej wydajnego wykorzystywania środków publicznych i mobilizować urzędników publicznych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Organizacja, w zasadniczej mierze, w trybie projektu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: 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rada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/ 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sługi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/inno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wacja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Kultura mieszana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 public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zny</a:t>
            </a:r>
            <a:r>
              <a:rPr b="1" lang="fr-FR" sz="1800" spc="-1" strike="noStrike">
                <a:solidFill>
                  <a:srgbClr val="5f5f5f"/>
                </a:solidFill>
                <a:latin typeface="Arial"/>
              </a:rPr>
              <a:t>/pr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ywatny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: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urzędnicy państwowi i pracownicy najemni sektora prywatnego</a:t>
            </a:r>
            <a:r>
              <a:rPr b="0" lang="fr-FR" sz="1800" spc="-1" strike="noStrike">
                <a:solidFill>
                  <a:srgbClr val="5f5f5f"/>
                </a:solidFill>
                <a:latin typeface="Arial"/>
              </a:rPr>
              <a:t> +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 pomoc usługodawców zewnętrznych z firm konsultingowej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Opracowywanie dokumentacji i zapewnianie spójności kluczowych tematów międzyresortowych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Tworzenie impulsów do podejmowania nowych konkretnych zadań modernizacyjnych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Pomoc i wspieranie administracji w czasie transformacji</a:t>
            </a:r>
            <a:r>
              <a:rPr b="0" lang="fr-FR" sz="16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779B4-ECF1-46E3-A6FF-E5A6BB94AFC3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Audyty modernizacyjn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2005-2007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odejście innowacyjn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80000" y="2090880"/>
            <a:ext cx="4968720" cy="119376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przynajmniej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1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udyt na ministerstwo co </a:t>
            </a:r>
            <a:br>
              <a:rPr sz="1600"/>
            </a:b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2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miesiąc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 następnie co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3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miesiąc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(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lipiec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150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udytów rozpoczętych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6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kcjach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obejmujących ponad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 150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mld 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20890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Ambitny ry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35956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dejście global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80000" y="3417840"/>
            <a:ext cx="4968720" cy="16668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óżnorodność działó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rocedur i funkcji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obejmujących główne wyzwania w sferze modernizacji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Akcje sektorow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esortow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)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 przekrojow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zakupy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łaca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archi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wizacja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biurotyka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537372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dejście partnersk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80000" y="5229360"/>
            <a:ext cx="4968720" cy="14396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obór temató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to sprawa każdego ministra i premi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odejście to pozwala ministerstwom przyswojenie sobie diagnozy i występowania w roli aktorów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odejścia modernizacyjn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1344600"/>
            <a:ext cx="792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diografia funkcjonowania państwa w celu poprawy jakości usługi świadczonej na rzecz Francuzów w warunkach optymalizacji kosztó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A12FC-ACF0-4947-8ED7-1556348F19BD}" type="slidenum">
              <a:t>15</a:t>
            </a:fld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780000" y="3137040"/>
            <a:ext cx="4870440" cy="723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nspekcje międzyresortowe i ministerialne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6760" algn="just">
              <a:spcBef>
                <a:spcPts val="400"/>
              </a:spcBef>
              <a:tabLst>
                <a:tab algn="l" pos="0"/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rzy wsparciu konsultantów z sektora prywatne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7520" y="287496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Mieszane zespoły audyto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80000" y="1365120"/>
            <a:ext cx="4870440" cy="1440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ropozycje konkretne i skwantyfikow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Wdrażanie uzgadniane z interesariusz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Konkretne plany zmian w ciągu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br>
              <a:rPr sz="1600"/>
            </a:b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18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miesię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7520" y="1400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el operacyj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80000" y="4433760"/>
            <a:ext cx="4870440" cy="714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Ogłaszanie sprawozdań w internec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Tablica rozdzielcza audyt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7520" y="4226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odejście przejrzy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5200" y="5761080"/>
            <a:ext cx="4870440" cy="7142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Wzrost produktywnoś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odnoszenie jakości usł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2720" y="555300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Konkretne wyn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Audyty modernizacyjne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2005-2007 :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odejście innowacyjn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74B60-3E60-4FE0-9403-2CB9115D3AB8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Nowy kontekst polityczn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280" y="141264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bór prezydenta Sarkozy’ego w maj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7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wa organizacja rządowa: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ylko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5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inisterstw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Ministerstwo finansów podzielone na 2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nisterstwo gospodarki, finansów i zatrudnienia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Ministerstwo budżetu</a:t>
            </a:r>
            <a:r>
              <a:rPr b="0" lang="fr-FR" sz="22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200" spc="-1" strike="noStrike">
                <a:solidFill>
                  <a:srgbClr val="4d4d4d"/>
                </a:solidFill>
                <a:latin typeface="Arial"/>
              </a:rPr>
              <a:t>rachunków publicznych i służby cywilnej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forma państwa jest pilotowana przez urząd prezydenta Republiki oraz gabinet premiera i opiera się na ministerstwie budżet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stanowienie Ogólnego Przeglądu Polityk Publicz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RGPP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eguła niezastępowania pracowników odchodzących na emeryturę w proporcji większej niż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sferze służby cywilnej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7F759-E334-45E1-A96F-93F527C1964C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Wyzwania modernizacji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Pilotaż reformy państw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Od modernizacji do reformy państwa</a:t>
            </a:r>
            <a:r>
              <a:rPr b="1" lang="fr-FR" sz="2800" spc="-1" strike="noStrike">
                <a:solidFill>
                  <a:srgbClr val="a50021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a50021"/>
                </a:solidFill>
                <a:latin typeface="Arial"/>
              </a:rPr>
              <a:t>Ogólny Przegląd Polityk Publicznych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pis tre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3C1E6-01E4-49D3-BE3B-959C1F7246D0}" type="slidenum">
              <a:t>18</a:t>
            </a:fld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Ogólny Przegląd Polityk Publicznych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nowi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gólnego przeglądu polityk publicz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RGPP)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zez prezydenta Republiki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Nicola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SARKOZY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’eg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de la RGPP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pewnić możliwie jak najlepszą usługę publiczn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jak najtańszym koszt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eryfikacja zadań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szczędności budżetowych i zmniejszania deficyt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da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mbit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2007-2008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Pilotaż polityczny na najwyższym szczeblu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komitet monitorujący składający się z wielkich decydentów publicznych, rozstrzyga Prezydent Republiki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na posiedzeniu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900" spc="-1" strike="noStrike">
                <a:solidFill>
                  <a:srgbClr val="4d4d4d"/>
                </a:solidFill>
                <a:latin typeface="Arial"/>
              </a:rPr>
              <a:t>rady do spraw modernizacji polityk publicznych</a:t>
            </a:r>
            <a:r>
              <a:rPr b="1" lang="fr-FR" sz="1900" spc="-1" strike="noStrike">
                <a:solidFill>
                  <a:srgbClr val="4d4d4d"/>
                </a:solidFill>
                <a:latin typeface="Arial"/>
              </a:rPr>
              <a:t>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Podejście wyczerpujące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wszystkie domeny działań publicznych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wszystkie resorty i wielcy operatorzy państwa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Narzędzia dotyczące sfery praworządności i celów działania państwa, zanim padnie propozycja reform</a:t>
            </a:r>
            <a:r>
              <a:rPr b="0" lang="fr-FR" sz="19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RGPP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korzystuj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obre praktyki międzynarodow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głównie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anady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która przeprowadził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przegląd program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»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już w rok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994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i gdzie deficyt publiczny został sprowadzony z poziom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5,9 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992 à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 nadwyżk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0,4 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1998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EE904-F06E-43DB-A4CB-31F10609C1CE}" type="slidenum">
              <a:t>19</a:t>
            </a:fld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Wyzwania związane z modernizacją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Pilotaż reformy państw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Od modernizacji do reformy państwa</a:t>
            </a: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Ogólny Przegląd Polityk Publicznych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pis treści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EE7A6-7E6D-457A-886B-9A593E94F78D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880920" y="765000"/>
            <a:ext cx="8261640" cy="6096600"/>
            <a:chOff x="880920" y="765000"/>
            <a:chExt cx="8261640" cy="6096600"/>
          </a:xfrm>
        </p:grpSpPr>
        <p:sp>
          <p:nvSpPr>
            <p:cNvPr id="201" name=""/>
            <p:cNvSpPr/>
            <p:nvPr/>
          </p:nvSpPr>
          <p:spPr>
            <a:xfrm>
              <a:off x="1279440" y="765000"/>
              <a:ext cx="2722680" cy="54000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Co robimy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88080" y="765000"/>
              <a:ext cx="2722680" cy="54000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Jakie są potrzeby i oczekiwania zbiorowe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80920" y="3875040"/>
              <a:ext cx="216072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Kto musi płacić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76840" y="5608800"/>
              <a:ext cx="2170080" cy="566640"/>
            </a:xfrm>
            <a:prstGeom prst="rect">
              <a:avLst/>
            </a:prstGeom>
            <a:solidFill>
              <a:srgbClr val="006600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Jaki scenariusz transformacj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5" name=""/>
            <p:cNvCxnSpPr>
              <a:stCxn id="206" idx="1"/>
              <a:endCxn id="203" idx="0"/>
            </p:cNvCxnSpPr>
            <p:nvPr/>
          </p:nvCxnSpPr>
          <p:spPr>
            <a:xfrm flipV="1" rot="10800000">
              <a:off x="1959840" y="2506320"/>
              <a:ext cx="186444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07" name=""/>
            <p:cNvSpPr/>
            <p:nvPr/>
          </p:nvSpPr>
          <p:spPr>
            <a:xfrm>
              <a:off x="1341360" y="1427040"/>
              <a:ext cx="249732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są cele polityki publicznej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zapewnia ona usług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o gwarantuj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Do czego się przyczyni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emu zaradz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Kim są beneficjenci, o których mowa, i jakie posiadają cechy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95680" y="6272280"/>
              <a:ext cx="2751120" cy="5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scenariusze zmian celem uzyskania skuteczniejszej i mniej kosztownej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polityki publicznej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 zapewnić skuteczne wdrożeni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13720" y="4522680"/>
              <a:ext cx="2328840" cy="9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wprowadzić należy zmiany celem modernizacj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optymalizującej środk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realizacji takiej polityk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przy zapewnieniu przestrzegania jej celów oraz poprawy ram pracy urzędników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W jaki sposób uprościć struktury i procedury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14920" y="4514760"/>
              <a:ext cx="2288880" cy="5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uzasadnione jest finansowanie takiej polityki przez państwo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go rodzaju współfinansowanie mlożna tu sobie wyobrazii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81840" y="1336680"/>
              <a:ext cx="2889000" cy="14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ta polityka zawsze służy interesowi publicznemu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działy odpowiadają potrzebom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są nowe oczekiwani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ą nową ofertę usług zaproponowa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W jaki sposób ewoluowali beneficjenc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Kim rzeczywiście są beneficjenci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tego rodzaju polityka niesie w sobie skutki przewrotn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lub też środki będące swoistą manną z nieba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19600" y="389412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Kto musi płacić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96160" y="387504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Jak zrobić lepiej i taniej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24280" y="2170080"/>
              <a:ext cx="2160720" cy="67320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Czy wciąż należy tak postępować</a:t>
              </a: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4" name=""/>
            <p:cNvCxnSpPr>
              <a:stCxn id="201" idx="3"/>
              <a:endCxn id="206" idx="0"/>
            </p:cNvCxnSpPr>
            <p:nvPr/>
          </p:nvCxnSpPr>
          <p:spPr>
            <a:xfrm>
              <a:off x="4003200" y="1034640"/>
              <a:ext cx="9010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5" name=""/>
            <p:cNvCxnSpPr>
              <a:stCxn id="202" idx="1"/>
              <a:endCxn id="206" idx="0"/>
            </p:cNvCxnSpPr>
            <p:nvPr/>
          </p:nvCxnSpPr>
          <p:spPr>
            <a:xfrm flipV="1" rot="10800000">
              <a:off x="4903200" y="1034640"/>
              <a:ext cx="8848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>
              <a:stCxn id="206" idx="2"/>
              <a:endCxn id="212" idx="0"/>
            </p:cNvCxnSpPr>
            <p:nvPr/>
          </p:nvCxnSpPr>
          <p:spPr>
            <a:xfrm rot="5400000">
              <a:off x="4377600" y="3364920"/>
              <a:ext cx="1048320" cy="7200"/>
            </a:xfrm>
            <a:prstGeom prst="bentConnector3">
              <a:avLst>
                <a:gd name="adj1" fmla="val 52421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17" name=""/>
            <p:cNvCxnSpPr>
              <a:stCxn id="206" idx="3"/>
              <a:endCxn id="213" idx="0"/>
            </p:cNvCxnSpPr>
            <p:nvPr/>
          </p:nvCxnSpPr>
          <p:spPr>
            <a:xfrm>
              <a:off x="5986080" y="2506320"/>
              <a:ext cx="198972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18" name=""/>
            <p:cNvSpPr/>
            <p:nvPr/>
          </p:nvSpPr>
          <p:spPr>
            <a:xfrm>
              <a:off x="3462480" y="2913120"/>
              <a:ext cx="2919240" cy="84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należy taką politykę utrzymywa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należy dokonać rewizji celów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Jakie usługi powinna ona świadczy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W jaki sposób dostosować narzędzia polityki publicznej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 Czy należy zmieniać zakres beneficjentów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"/>
            <p:cNvCxnSpPr>
              <a:stCxn id="210" idx="2"/>
              <a:endCxn id="204" idx="0"/>
            </p:cNvCxnSpPr>
            <p:nvPr/>
          </p:nvCxnSpPr>
          <p:spPr>
            <a:xfrm flipH="1" rot="16200000">
              <a:off x="4708440" y="5354280"/>
              <a:ext cx="504000" cy="2160"/>
            </a:xfrm>
            <a:prstGeom prst="bentConnector3">
              <a:avLst>
                <a:gd name="adj1" fmla="val 49749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0" name=""/>
            <p:cNvCxnSpPr>
              <a:stCxn id="203" idx="2"/>
              <a:endCxn id="204" idx="1"/>
            </p:cNvCxnSpPr>
            <p:nvPr/>
          </p:nvCxnSpPr>
          <p:spPr>
            <a:xfrm flipH="1" rot="16200000">
              <a:off x="2189880" y="4205520"/>
              <a:ext cx="1458000" cy="19137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1" name=""/>
            <p:cNvCxnSpPr>
              <a:stCxn id="209" idx="2"/>
              <a:endCxn id="204" idx="3"/>
            </p:cNvCxnSpPr>
            <p:nvPr/>
          </p:nvCxnSpPr>
          <p:spPr>
            <a:xfrm rot="5400000">
              <a:off x="6816240" y="4728960"/>
              <a:ext cx="392760" cy="193248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22" name=""/>
            <p:cNvSpPr/>
            <p:nvPr/>
          </p:nvSpPr>
          <p:spPr>
            <a:xfrm>
              <a:off x="1428840" y="93204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89600" y="92700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02040" y="21718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61920" y="40798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71800" y="408636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69240" y="4194000"/>
              <a:ext cx="187200" cy="20196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38480" y="602460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00000" y="4552920"/>
              <a:ext cx="2184480" cy="149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Ta polityka może być skuteczniej zabezpieczana za pośrednictwem innych aktorów lub form 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Czy to państwo powinno taką politykę prowadzić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Na jakim poziomie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"/>
                </a:rPr>
                <a:t>Dzięki jakiej współpracy i powiązaniom z innymi aktorami o charakterze publicznym lub prywatnym</a:t>
              </a:r>
              <a:r>
                <a:rPr b="0" i="1" lang="fr-FR" sz="1000" spc="-1" strike="noStrike">
                  <a:solidFill>
                    <a:srgbClr val="000000"/>
                  </a:solidFill>
                  <a:latin typeface="Arial Narrow"/>
                </a:rPr>
                <a:t>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 rot="16200000">
            <a:off x="-1652400" y="1654200"/>
            <a:ext cx="42055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927920" cy="5349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Siatka analizy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RGPP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56C44-49F8-4460-9F5E-2BB25A227F04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Analiza dotyczy różnego rodzaju wydatków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187280" y="1773360"/>
            <a:ext cx="7054920" cy="4532040"/>
            <a:chOff x="1187280" y="1773360"/>
            <a:chExt cx="7054920" cy="4532040"/>
          </a:xfrm>
        </p:grpSpPr>
        <p:sp>
          <p:nvSpPr>
            <p:cNvPr id="234" name=""/>
            <p:cNvSpPr/>
            <p:nvPr/>
          </p:nvSpPr>
          <p:spPr>
            <a:xfrm>
              <a:off x="1187280" y="1773360"/>
              <a:ext cx="3395880" cy="63000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763280" y="1892160"/>
              <a:ext cx="2391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Aparat produkcyj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30840" y="1774800"/>
              <a:ext cx="3397320" cy="6256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894640" y="1892160"/>
              <a:ext cx="1401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Interwencj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187280" y="2544840"/>
              <a:ext cx="3395880" cy="149220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47960" y="2606760"/>
              <a:ext cx="19447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Rodzaj wydat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44880" y="2546280"/>
              <a:ext cx="3397320" cy="149220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07000" y="2608200"/>
              <a:ext cx="19447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Rodzaj wydatk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25440" y="2846520"/>
              <a:ext cx="332424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ydatki osobow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ydatki bieżąc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 (y.c.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dotacje dla operatorów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inwestycj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 « 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administracyjne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 » (informat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yka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obrót nieruchomościami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itd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913280" y="2927520"/>
              <a:ext cx="3325680" cy="10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Wydatki interwencyjne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 (transfer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y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dotacje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)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inwestycje strukturujące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 (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obrona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infrastruktura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Wydatki o charakterze fiskalny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187280" y="4246560"/>
              <a:ext cx="1638360" cy="203040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48120" y="4246560"/>
              <a:ext cx="1640160" cy="205884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02400" y="4246560"/>
              <a:ext cx="1638360" cy="205884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38320" y="4246560"/>
              <a:ext cx="1641600" cy="205884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68360" y="4317840"/>
              <a:ext cx="13669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unkcje wsparc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05000" y="4317840"/>
              <a:ext cx="13669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unkcje operacyj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913280" y="4317840"/>
              <a:ext cx="150984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wencje dyskrecjonal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721560" y="4317840"/>
              <a:ext cx="13669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wencje przy „otwartym okienku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25440" y="4876920"/>
              <a:ext cx="151632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Administracja central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spieranie polityk publiczny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Przekrojowe funkcje wspierają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033720" y="4876920"/>
              <a:ext cx="151596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Stosunki bezpośrednie z użytkowniki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Wykonanie usługi publicznej</a:t>
              </a:r>
              <a:r>
                <a:rPr b="1" lang="fr-FR" sz="1200" spc="-1" strike="noStrike">
                  <a:solidFill>
                    <a:srgbClr val="1c782d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świadczen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13280" y="4876920"/>
              <a:ext cx="151776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Klasyczna logika dotacj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Ewentualnie na zasadzie umownej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49920" y="4876920"/>
              <a:ext cx="151776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Logika świadczeń</a:t>
              </a:r>
              <a:r>
                <a:rPr b="1" lang="fr-FR" sz="1200" spc="-1" strike="noStrike">
                  <a:solidFill>
                    <a:srgbClr val="993366"/>
                  </a:solidFill>
                  <a:latin typeface="Arial"/>
                </a:rPr>
                <a:t>, </a:t>
              </a: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transferów bezpośredni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Na podstawie kryteriów otwierających dane praw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4AD47-9404-461A-856F-8A6277B03631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601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Organizacja prac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95200" y="981000"/>
            <a:ext cx="8739360" cy="7095960"/>
            <a:chOff x="295200" y="981000"/>
            <a:chExt cx="8739360" cy="7095960"/>
          </a:xfrm>
        </p:grpSpPr>
        <p:sp>
          <p:nvSpPr>
            <p:cNvPr id="258" name=""/>
            <p:cNvSpPr/>
            <p:nvPr/>
          </p:nvSpPr>
          <p:spPr>
            <a:xfrm>
              <a:off x="295200" y="981000"/>
              <a:ext cx="5932440" cy="6333840"/>
            </a:xfrm>
            <a:prstGeom prst="rect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5280" y="1198440"/>
              <a:ext cx="2727360" cy="106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15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ministerialnych zespołów audytowy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(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szef zespołu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,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członkowie ciała inspekcyjnego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,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konsultanci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348000" y="1214280"/>
              <a:ext cx="2735280" cy="133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6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zespołów do spraw</a:t>
              </a: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wielkich polityk interwencyjny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Metoda specjalna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 –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później przypisanie do zespołów audytowyc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64360" y="1198440"/>
              <a:ext cx="2741400" cy="1068120"/>
            </a:xfrm>
            <a:prstGeom prst="roundRect">
              <a:avLst>
                <a:gd name="adj" fmla="val 16667"/>
              </a:avLst>
            </a:prstGeom>
            <a:solidFill>
              <a:srgbClr val="5642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4 </a:t>
              </a: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międzyresortowe grupy robocz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Pilotaż automatyczny</a:t>
              </a:r>
              <a:r>
                <a:rPr b="1" lang="fr-FR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, </a:t>
              </a:r>
              <a:r>
                <a:rPr b="1" lang="pl-PL" sz="1000" spc="-1" strike="noStrike">
                  <a:solidFill>
                    <a:srgbClr val="ffffff"/>
                  </a:solidFill>
                  <a:latin typeface="Arial"/>
                </a:rPr>
                <a:t>odmienny od zespołów audytowyc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8360" y="2754720"/>
              <a:ext cx="2662200" cy="451224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ewnętrzne działania pańs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ubliczna pomoc na rzecz rozwoj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lnictwo i rybołówstw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Kultura i komunikacja oraz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łużby Premie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bro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kologia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trwały rozwój i zagospodarowanie przestrzen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Nauczanie szkol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zkolnictwo wyższe i badania nauk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ieci finans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Wymiar sprawiedliwośc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chrona zdrowia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olidarność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– s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Bezpieczeństw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migracja a integracj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prawy wewnętrz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Terytoria zamo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k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21080" y="2754720"/>
              <a:ext cx="2662200" cy="402912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dzina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bezpieczenie chorob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olityki solidarności oraz zwalczania ubós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Miasta i mieszkan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trudnienie a kształcenie zawod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ozwój przedsiębiorst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72360" y="2754720"/>
              <a:ext cx="2662200" cy="273852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rządzanie zasobami ludzkim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rganizacja administracji samorządowej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lacje łączące państwo z samorządami lokalnym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Uproszczenie procedur wewnętrzn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72360" y="5574960"/>
              <a:ext cx="2662200" cy="120708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adanie specjalne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: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zmniejszenie obciążeń administracyjnych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rzedsiębiorstw i samorządów lokalny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6" name=""/>
            <p:cNvCxnSpPr>
              <a:stCxn id="262" idx="2"/>
              <a:endCxn id="263" idx="2"/>
            </p:cNvCxnSpPr>
            <p:nvPr/>
          </p:nvCxnSpPr>
          <p:spPr>
            <a:xfrm flipH="1" flipV="1" rot="5400000">
              <a:off x="3033000" y="5550120"/>
              <a:ext cx="485640" cy="2951640"/>
            </a:xfrm>
            <a:prstGeom prst="bentConnector3">
              <a:avLst>
                <a:gd name="adj1" fmla="val -166468"/>
              </a:avLst>
            </a:prstGeom>
            <a:ln cap="sq" w="9360">
              <a:solidFill>
                <a:srgbClr val="564294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62" idx="2"/>
              <a:endCxn id="265" idx="2"/>
            </p:cNvCxnSpPr>
            <p:nvPr/>
          </p:nvCxnSpPr>
          <p:spPr>
            <a:xfrm flipH="1" flipV="1" rot="5400000">
              <a:off x="4507920" y="4074120"/>
              <a:ext cx="487080" cy="5902920"/>
            </a:xfrm>
            <a:prstGeom prst="bentConnector3">
              <a:avLst>
                <a:gd name="adj1" fmla="val -166050"/>
              </a:avLst>
            </a:prstGeom>
            <a:ln cap="sq" w="9360">
              <a:solidFill>
                <a:srgbClr val="564294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A5652-7BB5-4134-A672-5B05DFC76727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50920" y="2062080"/>
            <a:ext cx="1393560" cy="71928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18" y="0"/>
                </a:lnTo>
                <a:lnTo>
                  <a:pt x="21600" y="10800"/>
                </a:lnTo>
                <a:lnTo>
                  <a:pt x="1891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uruchomienie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ra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9236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91" y="0"/>
                </a:lnTo>
                <a:lnTo>
                  <a:pt x="21600" y="10800"/>
                </a:lnTo>
                <a:lnTo>
                  <a:pt x="203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Komitet Monitorujący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prace analityczne i scenariusze pośrednie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4824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0" y="0"/>
                </a:lnTo>
                <a:lnTo>
                  <a:pt x="21600" y="10800"/>
                </a:lnTo>
                <a:lnTo>
                  <a:pt x="206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Komitet Monitorujący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Ostateczne scenariusze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24360" y="1341360"/>
            <a:ext cx="1368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ada ds. Modernizacji Polityk Publicz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45080" y="1341360"/>
            <a:ext cx="1368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ada ds. Modernizacji Polityk Publiczn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80360" y="2062080"/>
            <a:ext cx="1763640" cy="71928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34" y="0"/>
                </a:lnTo>
                <a:lnTo>
                  <a:pt x="21600" y="10800"/>
                </a:lnTo>
                <a:lnTo>
                  <a:pt x="19034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ziałania transformacyj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0920" y="1844640"/>
            <a:ext cx="1225440" cy="217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Lipiec-sierpień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92360" y="1844640"/>
            <a:ext cx="265752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Wrzesień-grudzień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46440" y="1844640"/>
            <a:ext cx="2678400" cy="216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Styczeń-maj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80360" y="1844640"/>
            <a:ext cx="155268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2008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9280" y="2925720"/>
            <a:ext cx="1441440" cy="31687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ruchomienie podejścia przez Premi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stanowienie zespołów audytowy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92360" y="2925720"/>
            <a:ext cx="280836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niec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 2007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– każde ministerstwo staje przed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mitetem Monitorującym celem zbadania scenariuszy zmiany polityk ministerstw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ierwsza Rada ds. modernizacji polityk publicznych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da stan zaawansowania prac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 grudniu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2925720"/>
            <a:ext cx="266400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rugie stawiennictwo przed Komitetem Monitorującym celem zgłębienia scenariuszy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eny ich wpływu oraz zbadani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arunków wsparci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zerwiec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– Rada ds. Modernizacji Polityk Publicznych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zostaje powiadomiona o strategicznych scenariuszach wszystkich resortów i przyjmuje zasadnicze decyzj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15360" y="4483080"/>
            <a:ext cx="162864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51640" y="2925720"/>
            <a:ext cx="151308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drażanie reform przewidzianych na okres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2009-2011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 ramach budżetu wieloletni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bilizacja wszystkich dźwigni modernizacyjny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1636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24360" y="2781360"/>
            <a:ext cx="180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10108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6896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3600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823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Kalendarz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7093080" y="208080"/>
            <a:ext cx="1906560" cy="1058760"/>
            <a:chOff x="7093080" y="208080"/>
            <a:chExt cx="1906560" cy="1058760"/>
          </a:xfrm>
        </p:grpSpPr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7093080" y="208080"/>
              <a:ext cx="1906560" cy="105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B7C28-4433-418A-9C50-804817D37E4A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nik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 (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65160" y="1522080"/>
            <a:ext cx="771048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SzPct val="150000"/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350 </a:t>
            </a: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środków reformy ogłoszonych w czerwcu</a:t>
            </a: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 2008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0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4d4d4d"/>
                </a:solidFill>
                <a:latin typeface="Arial"/>
              </a:rPr>
              <a:t>Oszczędności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szczędność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7,7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mld 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€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w ciągu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4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lat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czyli około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5 %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szczędności w omawianym zakresi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Redukcja zatrudnienia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50 %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niezastąpionych pracowników po ich odejściu na emeryturę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30.600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likwidowanych miejsc pracy w budżecie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2009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0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4d4d4d"/>
                </a:solidFill>
                <a:latin typeface="Arial"/>
              </a:rPr>
              <a:t>Modernizacja resortów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Konsekwencje fuzji kilku ministerstw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mniejszenie o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50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liczby dyrekcji w administracji centralnej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200) (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Finanse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Generalna Dyrekcja Finansów Publicz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do spraw podatkow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0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4d4d4d"/>
                </a:solidFill>
                <a:latin typeface="Arial"/>
              </a:rPr>
              <a:t>Reforma państwa samorządowego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mniejszenie liczby placówek w terenie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brona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wymiar sprawiedliwości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ochrona zdrowia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Szczebel regionalny podlega prawu powszechnemu, jeśli chodzi o programowanie polityk publicz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hierarchiczna zwierzchność prefekta regionu nad prefektem departamentu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+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mniejszenie liczby dyrekcji regional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8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amiast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30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34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Departament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wykonanie polityk publicznych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zawężenie struktur wokół prefekta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3 </a:t>
            </a:r>
            <a:r>
              <a:rPr b="0" lang="pl-PL" sz="1400" spc="-1" strike="noStrike">
                <a:solidFill>
                  <a:srgbClr val="4d4d4d"/>
                </a:solidFill>
                <a:latin typeface="Arial"/>
              </a:rPr>
              <a:t>nowe międzyresortowe dyrekcje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A0F61-AF1D-4B1D-B79D-43A24143B505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nik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 (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55640" y="1415880"/>
            <a:ext cx="7920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dania przekrojow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aństwo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samorządy lokaln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yjaśnienie spraw kompetencyjnych po przyjęciu ustaw decentralizacyj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łagodzenie i ujęcie w ramy norm narzucanych przez państwo samorządo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psze przestrzeganie globalnego wymogu finansów publicz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W kierunku reformy szczebli administracji w roku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2009 ?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gmin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wiązki gmin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d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partament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/r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gion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proszczenie wewnętrznych procedur państ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tworze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« 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gencji usług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 »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dających w łonie państwa większą elastyczność zarządzania autonomicznym strukturom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gulowanie inflacji normatyw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przednie badanie wpływu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praszczanie procedur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ganizacja ministerst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składanie zamówień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onsultacj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forma kontroli wydatków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ksperyment z komitetem budżetowania zamiast uprzedniego wizowania aktów kontroli finansow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9F6C6-91CD-4E4F-8604-149420438BEF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Wyniki</a:t>
            </a: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 RGPP (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55280" y="1522080"/>
            <a:ext cx="838836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rządzanie finansami publicznym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ieloletni budżet dla państw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2009-2011)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stawa w sprawie programowania finansów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yjęta w grudniu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2008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Ściślejsze reguły przyjmowania w dziedzinie wydatków podatk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jonalizacja i mutualizacja funkcji wspierając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stanowienie krajowego operatora ds. płacow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entralizacja polityki w dziedzinie obrotu nieruchomościam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dukcj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«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datku papierowego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»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łagodzenie obciążeń dla przedsiębiorst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ozwój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e-gov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eforma organizacji zakup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rajowa agencja zakupów zmutualizowa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prawa obsługi w sferze usług publicz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bsługa wielokanałow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spieranie restrukturyza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przez odpowiednią politykę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dziedzini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sobów ludzki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emie za mobilność i dodatek za dobrowolne przejście na emeryturę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487D2-EF53-45B6-A619-26F9F6FC4973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W kierunku zmiany statusu służby cywilnej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just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iała księg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40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ropozycji modernizacji służby cywilnej w roku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8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o projektu ustawy 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9,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ty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organizacja statusu tego korpusu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i utworzenie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7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ielkich działów zawodowych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administracja ogóln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fina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prawy socjal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dukacja i badania naukow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prawy kultur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echnik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ezpieczeństwo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za sprawami wojskowości i sądownictw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definicja miejsca umowy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mowy publicznoprawne w przypadku suwerennych miejsc prac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umowy prywatnoprawne w przypadku pozostałych miejsc pracy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lenie części wynagrodzenia za zasług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kładowa uwzględniająca usytuowanie w hierarchi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sługa la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 +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składowa związana z zatrudnieniem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zęść stała i część zmienna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wiązana z wynikam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362320" y="645480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"/>
          <p:cNvGraphicFramePr/>
          <p:nvPr/>
        </p:nvGraphicFramePr>
        <p:xfrm>
          <a:off x="6705720" y="6400800"/>
          <a:ext cx="914400" cy="33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05720" y="6400800"/>
                    <a:ext cx="91440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2590920" y="6324480"/>
            <a:ext cx="4876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438280" y="6477120"/>
            <a:ext cx="53341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362320" y="6095880"/>
            <a:ext cx="5257800" cy="9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Konferencja współfinansowana przez Unię Europejską w rama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9A3EA-4FF8-4F71-8C88-75B3F3FAE35D}" type="slidenum">
              <a:t>27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44720" y="4940280"/>
            <a:ext cx="3095640" cy="1584360"/>
          </a:xfrm>
          <a:prstGeom prst="cloudCallout">
            <a:avLst>
              <a:gd name="adj1" fmla="val 50462"/>
              <a:gd name="adj2" fmla="val -100601"/>
            </a:avLst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ytuacja finansów publicznych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ficyt i zadłużeni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00720" y="2133720"/>
            <a:ext cx="2592360" cy="1871640"/>
          </a:xfrm>
          <a:prstGeom prst="cloudCallout">
            <a:avLst>
              <a:gd name="adj1" fmla="val -93722"/>
              <a:gd name="adj2" fmla="val 44995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mografi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trakcyjność służby cywiln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53080" y="4581360"/>
            <a:ext cx="2808360" cy="1727280"/>
          </a:xfrm>
          <a:prstGeom prst="cloudCallout">
            <a:avLst>
              <a:gd name="adj1" fmla="val -70972"/>
              <a:gd name="adj2" fmla="val -7628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miany społeczn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czekiwania obywate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2360" y="1339920"/>
            <a:ext cx="3167280" cy="1800000"/>
          </a:xfrm>
          <a:prstGeom prst="cloudCallout">
            <a:avLst>
              <a:gd name="adj1" fmla="val -11652"/>
              <a:gd name="adj2" fmla="val 8015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lobalna konkurencyjność państwa w zglobalizowanej gospoda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2494080"/>
            <a:ext cx="2952720" cy="1871640"/>
          </a:xfrm>
          <a:prstGeom prst="cloudCallout">
            <a:avLst>
              <a:gd name="adj1" fmla="val 65055"/>
              <a:gd name="adj2" fmla="val 23708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łączenie różnych poziomów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dministra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aństwo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amorządy lokaln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ia Europejska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79800" y="3413160"/>
            <a:ext cx="3219480" cy="911160"/>
          </a:xfrm>
          <a:prstGeom prst="ellipse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Wyzw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Państwo musi stawić czoło poważnym wyzwaniom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C2476-16F2-409D-B88D-8C15D006BCCB}" type="slidenum">
              <a:t>3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Kontekst i zasięg reformy państ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ontekst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udna sytuacja finansów publicz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dłużeni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63,9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KB i deficyt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,7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KB 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7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sięg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aństwo to tylko część sfery publicznej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awet obywatele zawsze zwracają się do rząd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Trudność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lityki publiczne określane przez państwo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hociaż niektóre spośród nich są zarządzane przez podmioty autonomicz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69880" y="3933720"/>
            <a:ext cx="8535960" cy="2080080"/>
            <a:chOff x="569880" y="3933720"/>
            <a:chExt cx="8535960" cy="2080080"/>
          </a:xfrm>
        </p:grpSpPr>
        <p:sp>
          <p:nvSpPr>
            <p:cNvPr id="104" name=""/>
            <p:cNvSpPr/>
            <p:nvPr/>
          </p:nvSpPr>
          <p:spPr>
            <a:xfrm>
              <a:off x="2914560" y="4121640"/>
              <a:ext cx="157824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Państw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różne podmio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03640" y="3993840"/>
              <a:ext cx="1870200" cy="10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cja publiczna szczebla lokalneg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07280" y="4226760"/>
              <a:ext cx="172728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Ubezpieczenia społecz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9880" y="3933720"/>
              <a:ext cx="1913040" cy="12286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0880" y="4259160"/>
              <a:ext cx="175896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cja publicz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16360" y="3940200"/>
              <a:ext cx="16542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03640" y="3940200"/>
              <a:ext cx="18720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07280" y="3940200"/>
              <a:ext cx="179856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8436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7200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7708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4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991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mld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2,4%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K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16360" y="5380200"/>
              <a:ext cx="158256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340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ld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%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K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48360" y="5380200"/>
              <a:ext cx="158256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207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ld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%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K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51640" y="5380200"/>
              <a:ext cx="1582920" cy="61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444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ld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,5%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K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CF348-E613-448D-AC43-5123A3C9FD4D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Elementy składowe budżetu państwa francuskiego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odzaj wydatk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43%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datków osobow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22% d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ydatków interwencyjn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6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iężar dług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4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ania bieżąc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5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nwestycj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lowość wydatk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21,5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dukacja narodo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3,5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ziałania społeczne-zatrudnienie-ochrona zdrowi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13 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bron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8,6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dania naukowe i szkolnictwo wyższ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Kadr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2,2 M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rzędnikó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5 M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azem z samorządami lokalnymi 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i szpitalnictwem, czyl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%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awodowo czynnej lud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 czego połowa to nauczyciele finansowani z budżetu państ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48AA7-9A7E-46AF-8121-1CE26546852F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Dźwignie modernizacji państw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84360" y="1758960"/>
            <a:ext cx="7829280" cy="4189320"/>
            <a:chOff x="684360" y="1758960"/>
            <a:chExt cx="7829280" cy="4189320"/>
          </a:xfrm>
        </p:grpSpPr>
        <p:sp>
          <p:nvSpPr>
            <p:cNvPr id="123" name=""/>
            <p:cNvSpPr/>
            <p:nvPr/>
          </p:nvSpPr>
          <p:spPr>
            <a:xfrm>
              <a:off x="684360" y="1758960"/>
              <a:ext cx="7829280" cy="418932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840084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82560" y="1963080"/>
              <a:ext cx="684072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>
                <a:lnSpc>
                  <a:spcPct val="150000"/>
                </a:lnSpc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800" spc="-1" strike="noStrike">
                  <a:solidFill>
                    <a:srgbClr val="a50021"/>
                  </a:solidFill>
                  <a:latin typeface="Arial"/>
                </a:rPr>
                <a:t>Trzy zasadnicze dźwignie</a:t>
              </a:r>
              <a:r>
                <a:rPr b="1" lang="fr-FR" sz="2800" spc="-1" strike="noStrike">
                  <a:solidFill>
                    <a:srgbClr val="a50021"/>
                  </a:solidFill>
                  <a:latin typeface="Arial"/>
                </a:rPr>
                <a:t> «</a:t>
              </a:r>
              <a:r>
                <a:rPr b="1" lang="pl-PL" sz="2800" spc="-1" strike="noStrike">
                  <a:solidFill>
                    <a:srgbClr val="a50021"/>
                  </a:solidFill>
                  <a:latin typeface="Arial"/>
                </a:rPr>
                <a:t>klasyczne</a:t>
              </a:r>
              <a:r>
                <a:rPr b="1" lang="fr-FR" sz="2800" spc="-1" strike="noStrike">
                  <a:solidFill>
                    <a:srgbClr val="a50021"/>
                  </a:solidFill>
                  <a:latin typeface="Arial"/>
                </a:rPr>
                <a:t>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owe zarządzanie publiczne</a:t>
              </a:r>
              <a:r>
                <a:rPr b="0" lang="fr-FR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(LOLF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proszczenie i wymóg jakośc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ozwój administracji elektroniczne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54080" y="2984400"/>
              <a:ext cx="847800" cy="435240"/>
            </a:xfrm>
            <a:prstGeom prst="ellips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054080" y="3776760"/>
              <a:ext cx="847800" cy="434880"/>
            </a:xfrm>
            <a:prstGeom prst="ellipse">
              <a:avLst/>
            </a:prstGeom>
            <a:solidFill>
              <a:srgbClr val="ff0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54080" y="4640400"/>
              <a:ext cx="847800" cy="434880"/>
            </a:xfrm>
            <a:prstGeom prst="ellipse">
              <a:avLst/>
            </a:prstGeom>
            <a:solidFill>
              <a:srgbClr val="840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1B302-8CE8-41BE-9882-E44E0DE804F2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1360" indent="0">
              <a:buNone/>
              <a:tabLst>
                <a:tab algn="l" pos="0"/>
                <a:tab algn="l" pos="441360"/>
                <a:tab algn="l" pos="1355760"/>
                <a:tab algn="l" pos="2270160"/>
                <a:tab algn="l" pos="3184560"/>
                <a:tab algn="l" pos="4098960"/>
                <a:tab algn="l" pos="5013360"/>
                <a:tab algn="l" pos="5927760"/>
                <a:tab algn="l" pos="6842160"/>
                <a:tab algn="l" pos="7756560"/>
                <a:tab algn="l" pos="8670960"/>
                <a:tab algn="l" pos="9585360"/>
                <a:tab algn="l" pos="10499760"/>
                <a:tab algn="l" pos="1078236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Nowe zarządzanie publiczne promowane przez</a:t>
            </a:r>
            <a:r>
              <a:rPr b="1" lang="fr-FR" sz="2600" spc="-1" strike="noStrike">
                <a:solidFill>
                  <a:srgbClr val="ffffff"/>
                </a:solidFill>
                <a:latin typeface="Arial"/>
              </a:rPr>
              <a:t> LOLF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792792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efleksja na temat sensu działani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formalizacja strategii i celów polityk publicznych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wobod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lobalizacja limitów środków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koncentracja decyzji zarządczych celem poszukiwania zysków wydajności jak najbliżej terenu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dpowiedzialność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ogika wydajności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cele i wskaźniki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rzędzia pilotażu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ystem informacji budżetowo-księgowej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chunkowość roku obrachunkowego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ontrola zarządzani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55640" y="2986200"/>
            <a:ext cx="8135640" cy="3890520"/>
            <a:chOff x="755640" y="2986200"/>
            <a:chExt cx="8135640" cy="3890520"/>
          </a:xfrm>
        </p:grpSpPr>
        <p:sp>
          <p:nvSpPr>
            <p:cNvPr id="131" name=""/>
            <p:cNvSpPr/>
            <p:nvPr/>
          </p:nvSpPr>
          <p:spPr>
            <a:xfrm>
              <a:off x="3567600" y="4008600"/>
              <a:ext cx="2162520" cy="97920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5640" y="3751200"/>
              <a:ext cx="2402280" cy="1495440"/>
            </a:xfrm>
            <a:prstGeom prst="rect">
              <a:avLst/>
            </a:prstGeom>
            <a:solidFill>
              <a:srgbClr val="66cc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Aktorz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26920" y="4303800"/>
              <a:ext cx="2173680" cy="7077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Dokładnie zidentyfikowa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Mniej licz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Bardziej odpowiedzialn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56320" y="4255920"/>
              <a:ext cx="1489320" cy="4906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Zdolność do działan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89800" y="4087800"/>
              <a:ext cx="742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4400" spc="-1" strike="noStrike">
                  <a:solidFill>
                    <a:srgbClr val="fc0128"/>
                  </a:solidFill>
                  <a:latin typeface="Arial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06480" y="3373560"/>
              <a:ext cx="2405520" cy="3349440"/>
            </a:xfrm>
            <a:prstGeom prst="rect">
              <a:avLst/>
            </a:prstGeom>
            <a:noFill/>
            <a:ln cap="sq"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200000">
              <a:off x="5691240" y="4369320"/>
              <a:ext cx="520920" cy="322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c0128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586200" y="3419640"/>
              <a:ext cx="2116440" cy="34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Większa skuteczność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praktyczna dział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Zespoły umotywowane i zmobilizowane na osiąganiu wytyczonych wyników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Większa zdolność dostosowania działań z uwzględnieniem wyników celem rozwiązywania problemów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43200" y="3586320"/>
              <a:ext cx="299880" cy="3492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43200" y="4672080"/>
              <a:ext cx="301680" cy="3492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43200" y="5989680"/>
              <a:ext cx="301680" cy="34920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1600" y="5067360"/>
              <a:ext cx="2737080" cy="708120"/>
            </a:xfrm>
            <a:prstGeom prst="rect">
              <a:avLst/>
            </a:pr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Wymóg wstępny celem budowy</a:t>
              </a: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systemu odpowiedzialności ukierunkowanego na wyniki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27280" y="2986200"/>
              <a:ext cx="26640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99"/>
                  </a:solidFill>
                  <a:latin typeface="Arial"/>
                </a:rPr>
                <a:t>Spodziewane korzyśc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C8951-694E-4DA3-81C1-180B8F6FAA5F}" type="slidenum">
              <a:t>7</a:t>
            </a:fld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Jakość i uproszczeni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Ustawy upraszczając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oczne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la osób fizycznych i przedsiębiorstw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Walka z inflacją normatywną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e współpracy z Generalnym Sekretariatem Rząd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SGG)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badania wpływ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yfikacja/labelizacja działów obsługi petent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rok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powszechnienie testów jak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miana karty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Mariann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kierunku udokumentowa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ertyfikacji/labelizacji jakośc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Pomiar 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mniejszenie obciążeń administra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iążących na użytkownika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osobach fizycznych i przedsiębiorstwa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stanowienie wskaźnika złożonośc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zynności administracyjnych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Zmniejszenie 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cjonalizacja komisji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administra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yjnych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kret z dni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8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zerwca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2006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w sprawie powoływania komisji wyłącznie na określony okres czasu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06D2A-C61F-4B54-B84A-29E09342420B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1800" indent="0">
              <a:buNone/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Rozwój administracji elektronicznej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Zapewnienie wymiany elektronicznej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Zarządzenie z dnia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8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grudnia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 2005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 sprawie wymiany elektronicznej stanowi podstawę prawną konieczną do przyspieszenia i upowszechnienie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ażność prawna poczty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dpis elektroniczny aktów administracyj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rzestrzeń przechowywania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utualizacja inwestycji celem uniknięcia ich redundancji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Schemat przewodni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ganizuje międzyresortowy pilotaż rozwoju administracji elektronicznej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z ustanowieniem zasady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4d4d4d"/>
                </a:solidFill>
                <a:latin typeface="Arial"/>
              </a:rPr>
              <a:t>mutuali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zacji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oraz skuteczności działów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(47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nicjatyw zgłoszonych przez ministerstwo przewod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Opracowanie ogólnych przepisów interoperacyjności i bezpieczeństw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W przypadku państwa chodzi o określenie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korpusu reguł,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który łączy w sobie zarazem specyfikę zawodową administracji, przestrzeganie poufności danych, płynność wymiany danych cyfrowych, bezpieczeństwo systemów informacyjnych</a:t>
            </a: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377CE-497C-4669-8DB4-072D098004AE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21:39:02Z</dcterms:created>
  <dc:creator>Alexandre MONTAY</dc:creator>
  <dc:description/>
  <dc:language>en-US</dc:language>
  <cp:lastModifiedBy>KAS</cp:lastModifiedBy>
  <cp:lastPrinted>2006-05-04T09:07:55Z</cp:lastPrinted>
  <dcterms:modified xsi:type="dcterms:W3CDTF">2009-02-05T11:39:53Z</dcterms:modified>
  <cp:revision>577</cp:revision>
  <dc:subject/>
  <dc:title>Présentation PowerPoint</dc:title>
</cp:coreProperties>
</file>