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0"/>
            <a:ext cx="6796080" cy="9925200"/>
          </a:xfrm>
          <a:custGeom>
            <a:avLst/>
            <a:gdLst>
              <a:gd name="textAreaLeft" fmla="*/ 360 w 6796080"/>
              <a:gd name="textAreaRight" fmla="*/ 6795720 w 6796080"/>
              <a:gd name="textAreaTop" fmla="*/ 360 h 9925200"/>
              <a:gd name="textAreaBottom" fmla="*/ 9924840 h 9925200"/>
            </a:gdLst>
            <a:ahLst/>
            <a:rect l="textAreaLeft" t="textAreaTop" r="textAreaRight" b="textAreaBottom"/>
            <a:pathLst>
              <a:path w="21600" h="31545">
                <a:moveTo>
                  <a:pt x="5" y="0"/>
                </a:moveTo>
                <a:arcTo wR="5" hR="5" stAng="16200000" swAng="-5400000"/>
                <a:lnTo>
                  <a:pt x="0" y="31540"/>
                </a:lnTo>
                <a:arcTo wR="5" hR="5" stAng="10800000" swAng="-5400000"/>
                <a:lnTo>
                  <a:pt x="21595" y="3154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2"/>
          </p:nvPr>
        </p:nvSpPr>
        <p:spPr>
          <a:xfrm>
            <a:off x="384984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4400" cy="372132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744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3"/>
          </p:nvPr>
        </p:nvSpPr>
        <p:spPr>
          <a:xfrm>
            <a:off x="0" y="942804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4"/>
          </p:nvPr>
        </p:nvSpPr>
        <p:spPr>
          <a:xfrm>
            <a:off x="3849840" y="942804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4A4154-54BF-49F8-A150-9348FE5A299E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D8BB7A-4583-40FF-9B5A-43037971094E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605D37-9915-4E0F-8CA1-F8300A8B5C40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C57A71-1BAE-4602-B733-1F2FFA76DD24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71C200-7E7E-47FE-8A1A-87AD76B08B7E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49BAD9-59C2-4E44-9B97-A71CA824263C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59CFE4-FCF2-4FB9-86EA-1E01EBF93954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52770D-15C8-43F0-9FB5-05C0CEC7794D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9C24D3-215A-4C0D-8DA4-3A088681C1AD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3C1F47-A719-4DAC-8B3C-5D4886783710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920880" y="744480"/>
            <a:ext cx="4960800" cy="372276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907920" y="4716000"/>
            <a:ext cx="498168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449500-BB8E-47F9-BFE0-9A4A2E044B59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A17E1E-8879-4D16-B202-62C909C74113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660460-3C8E-484B-9322-85FF04AD5911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92D6AC-D2ED-4A07-ADAC-D1489E757C7A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457417-2EE6-4A60-898C-CA8A1B0FAEA0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29F0C1-48DC-42D4-849D-9B3977CB2F87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464A1E-B29B-43D4-AA93-5C9026B7A497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E07531-57EE-4F81-A7C8-0539C9C28CE3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49C29C-B70A-455A-AB14-9A93443A51E1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906480" y="4714920"/>
            <a:ext cx="498456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B586EF-D6FF-4391-BD4A-A6508A70A7D1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3B9F8D-AC39-4429-897D-936B60B4EE56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DACDF3-5511-4F68-B757-50F089988C37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4E78CF-44EE-445C-A652-535CD54C38A9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852720" y="11160"/>
            <a:ext cx="29466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9450360"/>
            <a:ext cx="29466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-1440" y="9450360"/>
            <a:ext cx="29462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-1440" y="11160"/>
            <a:ext cx="29462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852720" y="4680"/>
            <a:ext cx="29466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3852720" y="9450360"/>
            <a:ext cx="29466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pl-PL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-1440" y="9450360"/>
            <a:ext cx="29462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-1440" y="4680"/>
            <a:ext cx="29462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227240" y="1058760"/>
            <a:ext cx="4413240" cy="331164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420480" y="5241960"/>
            <a:ext cx="593244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004CEB-690E-4C1A-97AF-EB0EA961BF8F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6279C4-BCB1-49CC-9AE2-8D0D639C03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92648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5640" y="3931920"/>
            <a:ext cx="792648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B87EB5-1F9A-4F1A-B92C-E63A483F82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564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716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E00445-BCBA-44A9-9D6E-20956F29AC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35840" y="141300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15680" y="141300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5640" y="393192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35840" y="393192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15680" y="393192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8BEC98-8124-43C9-B640-F8AEEE0352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5640" y="1413000"/>
            <a:ext cx="7926480" cy="48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92648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55640" y="301320"/>
            <a:ext cx="792648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564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5640" y="1413000"/>
            <a:ext cx="7926480" cy="48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843AC8-1EC3-4D08-BFB9-87DAE4CDE6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1716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5640" y="3931920"/>
            <a:ext cx="792648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92648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5640" y="3931920"/>
            <a:ext cx="792648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564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1716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35840" y="141300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15680" y="141300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5640" y="393192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35840" y="393192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15680" y="393192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92648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7F8458-14E7-4A7B-9261-5DA09C5D8A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418F0D-D1E9-4F22-BCD7-776228F6B8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795CC1-AFE8-433F-A856-9435676C58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301320"/>
            <a:ext cx="792648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596F77-3FCD-496B-80E3-84D7B4DD52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564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772022-4A6C-46B3-B69E-5D8161FE85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716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80B303-F79B-4BFC-965A-E6A66BA6A1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5640" y="3931920"/>
            <a:ext cx="792648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29C08B-7451-4D08-90F0-4DC7D71EDA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5640" y="1413000"/>
            <a:ext cx="792648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2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3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4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5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6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95280" y="260280"/>
            <a:ext cx="152280" cy="633744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68120" y="260280"/>
            <a:ext cx="155880" cy="63374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459280" y="6356160"/>
            <a:ext cx="6829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223DA99-EECC-4F8F-A3DF-53F0B64C2CF4}" type="slidenum">
              <a:rPr b="0" lang="fr-FR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748720" y="6350040"/>
            <a:ext cx="144360" cy="4046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106200" y="6404040"/>
            <a:ext cx="649440" cy="403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755640" y="404640"/>
            <a:ext cx="8064360" cy="6120000"/>
          </a:xfrm>
          <a:prstGeom prst="rect">
            <a:avLst/>
          </a:prstGeom>
          <a:solidFill>
            <a:srgbClr val="a50021"/>
          </a:solidFill>
          <a:ln cap="sq"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87280" y="2636640"/>
            <a:ext cx="723744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95280" y="404640"/>
            <a:ext cx="144360" cy="61200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8120" y="404640"/>
            <a:ext cx="147960" cy="61200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144360" y="141120"/>
          <a:ext cx="1187640" cy="695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4360" y="141120"/>
                    <a:ext cx="118764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just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2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3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4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5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6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26560" y="1412640"/>
            <a:ext cx="792180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6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3400" spc="-1" strike="noStrike">
                <a:solidFill>
                  <a:srgbClr val="ffffff"/>
                </a:solidFill>
                <a:latin typeface="Arial"/>
              </a:rPr>
              <a:t>Cykl wykładów</a:t>
            </a:r>
            <a:r>
              <a:rPr b="0" lang="fr-FR" sz="3400" spc="-1" strike="noStrike">
                <a:solidFill>
                  <a:srgbClr val="ffffff"/>
                </a:solidFill>
                <a:latin typeface="Arial"/>
              </a:rPr>
              <a:t> KSAP-ENA</a:t>
            </a:r>
            <a:br>
              <a:rPr sz="3400"/>
            </a:br>
            <a:br>
              <a:rPr sz="3400"/>
            </a:br>
            <a:r>
              <a:rPr b="1" lang="pl-PL" sz="3800" spc="-1" strike="noStrike">
                <a:solidFill>
                  <a:srgbClr val="ffffff"/>
                </a:solidFill>
                <a:latin typeface="Arial"/>
              </a:rPr>
              <a:t>Reforma budżetowa</a:t>
            </a:r>
            <a:br>
              <a:rPr sz="3800"/>
            </a:br>
            <a:br>
              <a:rPr sz="3400"/>
            </a:br>
            <a:r>
              <a:rPr b="0" lang="fr-FR" sz="3000" spc="-1" strike="noStrike">
                <a:solidFill>
                  <a:srgbClr val="ffffff"/>
                </a:solidFill>
                <a:latin typeface="Arial"/>
              </a:rPr>
              <a:t>Frank MORDACQ</a:t>
            </a:r>
            <a:br>
              <a:rPr sz="3000"/>
            </a:b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Ministerstwo Budżetu, Rachunków Publicznych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i Służby Cywilnej - Paryż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438240" y="6014880"/>
            <a:ext cx="250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 Narrow"/>
              </a:rPr>
              <a:t>Warszawa, 11 grudnia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rcRect l="11527" t="21188" r="11121" b="21855"/>
          <a:stretch/>
        </p:blipFill>
        <p:spPr>
          <a:xfrm>
            <a:off x="2209680" y="6531120"/>
            <a:ext cx="914400" cy="326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7" name=""/>
          <p:cNvGraphicFramePr/>
          <p:nvPr/>
        </p:nvGraphicFramePr>
        <p:xfrm>
          <a:off x="6553080" y="6548400"/>
          <a:ext cx="838440" cy="309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553080" y="6548400"/>
                    <a:ext cx="838440" cy="3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"/>
          <p:cNvSpPr/>
          <p:nvPr/>
        </p:nvSpPr>
        <p:spPr>
          <a:xfrm>
            <a:off x="1523880" y="6491160"/>
            <a:ext cx="6629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900" spc="-1" strike="noStrike">
                <a:solidFill>
                  <a:srgbClr val="000000"/>
                </a:solidFill>
                <a:latin typeface="Arial"/>
              </a:rPr>
              <a:t>Konferencja współfinansowana przez Unię Europejską w ramach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900" spc="-1" strike="noStrike">
                <a:solidFill>
                  <a:srgbClr val="000000"/>
                </a:solidFill>
                <a:latin typeface="Arial"/>
              </a:rPr>
              <a:t>Europejskiego Funduszu Społeczneg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Sfera wymiany: wolność - odpowiedzialność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187280" y="1663560"/>
            <a:ext cx="2735280" cy="207036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900" spc="-1" strike="noStrike">
                <a:solidFill>
                  <a:srgbClr val="000099"/>
                </a:solidFill>
                <a:latin typeface="Arial"/>
              </a:rPr>
              <a:t>Zwiększona swoboda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900" spc="-1" strike="noStrike">
                <a:solidFill>
                  <a:srgbClr val="000099"/>
                </a:solidFill>
                <a:latin typeface="Arial"/>
              </a:rPr>
              <a:t>aktorów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900" spc="-1" strike="noStrike">
                <a:solidFill>
                  <a:srgbClr val="000099"/>
                </a:solidFill>
                <a:latin typeface="Arial"/>
              </a:rPr>
              <a:t>administracji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55640" y="3786120"/>
            <a:ext cx="36003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just">
              <a:spcBef>
                <a:spcPts val="42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72880"/>
                <a:tab algn="l" pos="1187280"/>
                <a:tab algn="l" pos="2101680"/>
                <a:tab algn="l" pos="3016080"/>
                <a:tab algn="l" pos="3930480"/>
                <a:tab algn="l" pos="4844880"/>
                <a:tab algn="l" pos="5759280"/>
                <a:tab algn="l" pos="6673680"/>
                <a:tab algn="l" pos="7588080"/>
                <a:tab algn="l" pos="8502480"/>
                <a:tab algn="l" pos="9416880"/>
                <a:tab algn="l" pos="1033128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4d4d4d"/>
                </a:solidFill>
                <a:latin typeface="Arial"/>
              </a:rPr>
              <a:t>Globalizacja środków w danym programi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spcBef>
                <a:spcPts val="42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72880"/>
                <a:tab algn="l" pos="1187280"/>
                <a:tab algn="l" pos="2101680"/>
                <a:tab algn="l" pos="3016080"/>
                <a:tab algn="l" pos="3930480"/>
                <a:tab algn="l" pos="4844880"/>
                <a:tab algn="l" pos="5759280"/>
                <a:tab algn="l" pos="6673680"/>
                <a:tab algn="l" pos="7588080"/>
                <a:tab algn="l" pos="8502480"/>
                <a:tab algn="l" pos="9416880"/>
                <a:tab algn="l" pos="1033128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4d4d4d"/>
                </a:solidFill>
                <a:latin typeface="Arial"/>
              </a:rPr>
              <a:t>Rodzajowa zamienność środków z ograniczeniem do funduszu płac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spcBef>
                <a:spcPts val="42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72880"/>
                <a:tab algn="l" pos="1187280"/>
                <a:tab algn="l" pos="2101680"/>
                <a:tab algn="l" pos="3016080"/>
                <a:tab algn="l" pos="3930480"/>
                <a:tab algn="l" pos="4844880"/>
                <a:tab algn="l" pos="5759280"/>
                <a:tab algn="l" pos="6673680"/>
                <a:tab algn="l" pos="7588080"/>
                <a:tab algn="l" pos="8502480"/>
                <a:tab algn="l" pos="9416880"/>
                <a:tab algn="l" pos="1033128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4d4d4d"/>
                </a:solidFill>
                <a:latin typeface="Arial"/>
              </a:rPr>
              <a:t>Swoboda rozwoju kadrowego </a:t>
            </a:r>
            <a:r>
              <a:rPr b="0" lang="fr-FR" sz="17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1700" spc="-1" strike="noStrike">
                <a:solidFill>
                  <a:srgbClr val="4d4d4d"/>
                </a:solidFill>
                <a:latin typeface="Arial"/>
              </a:rPr>
              <a:t>z limitem liczby zatrudnionych w przeliczeniu na pełne etaty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308560" y="1663560"/>
            <a:ext cx="2792520" cy="207036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900" spc="-1" strike="noStrike">
                <a:solidFill>
                  <a:srgbClr val="000099"/>
                </a:solidFill>
                <a:latin typeface="Arial"/>
              </a:rPr>
              <a:t>Większa odpowiedzialność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900" spc="-1" strike="noStrike">
                <a:solidFill>
                  <a:srgbClr val="000099"/>
                </a:solidFill>
                <a:latin typeface="Arial"/>
              </a:rPr>
              <a:t>Zarządzających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900" spc="-1" strike="noStrike">
                <a:solidFill>
                  <a:srgbClr val="000099"/>
                </a:solidFill>
                <a:latin typeface="Arial"/>
              </a:rPr>
              <a:t>programami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076720" y="3786120"/>
            <a:ext cx="3527640" cy="273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just">
              <a:spcBef>
                <a:spcPts val="42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72880"/>
                <a:tab algn="l" pos="1187280"/>
                <a:tab algn="l" pos="2101680"/>
                <a:tab algn="l" pos="3016080"/>
                <a:tab algn="l" pos="3930480"/>
                <a:tab algn="l" pos="4844880"/>
                <a:tab algn="l" pos="5759280"/>
                <a:tab algn="l" pos="6673680"/>
                <a:tab algn="l" pos="7588080"/>
                <a:tab algn="l" pos="8502480"/>
                <a:tab algn="l" pos="9416880"/>
                <a:tab algn="l" pos="1033128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4d4d4d"/>
                </a:solidFill>
                <a:latin typeface="Arial"/>
              </a:rPr>
              <a:t>Zobowiązanie co do celów i sprawozdawczość z osiąganych wyników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spcBef>
                <a:spcPts val="42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72880"/>
                <a:tab algn="l" pos="1187280"/>
                <a:tab algn="l" pos="2101680"/>
                <a:tab algn="l" pos="3016080"/>
                <a:tab algn="l" pos="3930480"/>
                <a:tab algn="l" pos="4844880"/>
                <a:tab algn="l" pos="5759280"/>
                <a:tab algn="l" pos="6673680"/>
                <a:tab algn="l" pos="7588080"/>
                <a:tab algn="l" pos="8502480"/>
                <a:tab algn="l" pos="9416880"/>
                <a:tab algn="l" pos="1033128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4d4d4d"/>
                </a:solidFill>
                <a:latin typeface="Arial"/>
              </a:rPr>
              <a:t>Sprawozdawczość wykorzystania środków</a:t>
            </a:r>
            <a:r>
              <a:rPr b="0" lang="fr-FR" sz="17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1700" spc="-1" strike="noStrike">
                <a:solidFill>
                  <a:srgbClr val="4d4d4d"/>
                </a:solidFill>
                <a:latin typeface="Arial"/>
              </a:rPr>
              <a:t>w podziale: rodzajowe i celow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spcBef>
                <a:spcPts val="42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72880"/>
                <a:tab algn="l" pos="1187280"/>
                <a:tab algn="l" pos="2101680"/>
                <a:tab algn="l" pos="3016080"/>
                <a:tab algn="l" pos="3930480"/>
                <a:tab algn="l" pos="4844880"/>
                <a:tab algn="l" pos="5759280"/>
                <a:tab algn="l" pos="6673680"/>
                <a:tab algn="l" pos="7588080"/>
                <a:tab algn="l" pos="8502480"/>
                <a:tab algn="l" pos="9416880"/>
                <a:tab algn="l" pos="1033128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4d4d4d"/>
                </a:solidFill>
                <a:latin typeface="Arial"/>
              </a:rPr>
              <a:t>Więcej informacji dotyczących wykonania budżetu: </a:t>
            </a:r>
            <a:r>
              <a:rPr b="0" lang="fr-FR" sz="17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1700" spc="-1" strike="noStrike">
                <a:solidFill>
                  <a:srgbClr val="4d4d4d"/>
                </a:solidFill>
                <a:latin typeface="Arial"/>
              </a:rPr>
              <a:t>środki zabudżetowane i realizacj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spcBef>
                <a:spcPts val="425"/>
              </a:spcBef>
              <a:tabLst>
                <a:tab algn="l" pos="0"/>
                <a:tab algn="l" pos="272880"/>
                <a:tab algn="l" pos="1187280"/>
                <a:tab algn="l" pos="2101680"/>
                <a:tab algn="l" pos="3016080"/>
                <a:tab algn="l" pos="3930480"/>
                <a:tab algn="l" pos="4844880"/>
                <a:tab algn="l" pos="5759280"/>
                <a:tab algn="l" pos="6673680"/>
                <a:tab algn="l" pos="7588080"/>
                <a:tab algn="l" pos="8502480"/>
                <a:tab algn="l" pos="9416880"/>
                <a:tab algn="l" pos="1033128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85435C-F383-4131-B6C3-22C98170663F}" type="slidenum">
              <a:t>10</a:t>
            </a:fld>
          </a:p>
        </p:txBody>
      </p:sp>
    </p:spTree>
  </p:cSld>
  <p:transition spd="med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1314360" y="836640"/>
            <a:ext cx="7247160" cy="595800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3990960" y="4481640"/>
            <a:ext cx="138420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520" rIns="83520" tIns="41760" bIns="4176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a40079"/>
                </a:solidFill>
                <a:latin typeface="Arial"/>
              </a:rPr>
              <a:t>zamienność</a:t>
            </a:r>
            <a:r>
              <a:rPr b="0" lang="fr-FR" sz="1600" spc="-1" strike="noStrike">
                <a:solidFill>
                  <a:srgbClr val="a40079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5238720" y="2963880"/>
            <a:ext cx="1962360" cy="1432080"/>
            <a:chOff x="5238720" y="2963880"/>
            <a:chExt cx="1962360" cy="1432080"/>
          </a:xfrm>
        </p:grpSpPr>
        <p:sp>
          <p:nvSpPr>
            <p:cNvPr id="181" name=""/>
            <p:cNvSpPr/>
            <p:nvPr/>
          </p:nvSpPr>
          <p:spPr>
            <a:xfrm>
              <a:off x="5425920" y="3681360"/>
              <a:ext cx="1775160" cy="714600"/>
            </a:xfrm>
            <a:custGeom>
              <a:avLst/>
              <a:gdLst>
                <a:gd name="textAreaLeft" fmla="*/ 310680 w 1775160"/>
                <a:gd name="textAreaRight" fmla="*/ 1287000 w 1775160"/>
                <a:gd name="textAreaTop" fmla="*/ 95760 h 714600"/>
                <a:gd name="textAreaBottom" fmla="*/ 618840 h 714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33cccc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>
              <a:off x="5238720" y="2963880"/>
              <a:ext cx="1774800" cy="717480"/>
            </a:xfrm>
            <a:custGeom>
              <a:avLst/>
              <a:gdLst>
                <a:gd name="textAreaLeft" fmla="*/ 310320 w 1774800"/>
                <a:gd name="textAreaRight" fmla="*/ 1286640 w 1774800"/>
                <a:gd name="textAreaTop" fmla="*/ 96120 h 717480"/>
                <a:gd name="textAreaBottom" fmla="*/ 621360 h 717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33cccc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4106880" y="5616720"/>
            <a:ext cx="1359000" cy="358560"/>
          </a:xfrm>
          <a:prstGeom prst="rightArrow">
            <a:avLst>
              <a:gd name="adj1" fmla="val 50000"/>
              <a:gd name="adj2" fmla="val 94754"/>
            </a:avLst>
          </a:prstGeom>
          <a:solidFill>
            <a:srgbClr val="33cccc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4032360" y="4971960"/>
            <a:ext cx="1358640" cy="358920"/>
          </a:xfrm>
          <a:prstGeom prst="rightArrow">
            <a:avLst>
              <a:gd name="adj1" fmla="val 50000"/>
              <a:gd name="adj2" fmla="val 94634"/>
            </a:avLst>
          </a:prstGeom>
          <a:solidFill>
            <a:srgbClr val="33cccc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3655800" y="3179880"/>
            <a:ext cx="903600" cy="787320"/>
            <a:chOff x="3655800" y="3179880"/>
            <a:chExt cx="903600" cy="787320"/>
          </a:xfrm>
        </p:grpSpPr>
        <p:sp>
          <p:nvSpPr>
            <p:cNvPr id="186" name=""/>
            <p:cNvSpPr/>
            <p:nvPr/>
          </p:nvSpPr>
          <p:spPr>
            <a:xfrm>
              <a:off x="3741840" y="3575160"/>
              <a:ext cx="817560" cy="392040"/>
            </a:xfrm>
            <a:custGeom>
              <a:avLst/>
              <a:gdLst>
                <a:gd name="textAreaLeft" fmla="*/ 142920 w 817560"/>
                <a:gd name="textAreaRight" fmla="*/ 592920 w 817560"/>
                <a:gd name="textAreaTop" fmla="*/ 52560 h 392040"/>
                <a:gd name="textAreaBottom" fmla="*/ 339480 h 39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33cccc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3655440" y="3179880"/>
              <a:ext cx="817560" cy="393480"/>
            </a:xfrm>
            <a:custGeom>
              <a:avLst/>
              <a:gdLst>
                <a:gd name="textAreaLeft" fmla="*/ 142560 w 817560"/>
                <a:gd name="textAreaRight" fmla="*/ 592560 w 817560"/>
                <a:gd name="textAreaTop" fmla="*/ 52560 h 393480"/>
                <a:gd name="textAreaBottom" fmla="*/ 340920 h 393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33cccc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4560840" y="4900680"/>
            <a:ext cx="527040" cy="43020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559040" y="4900680"/>
            <a:ext cx="455400" cy="43020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927920" cy="60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Zamienność w łonie progamu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4A0D4-D36A-4685-A32F-522FE7EC63B7}" type="slidenum">
              <a:t>11</a:t>
            </a:fld>
          </a:p>
        </p:txBody>
      </p:sp>
    </p:spTree>
  </p:cSld>
  <p:transition spd="med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Budżet ukierunkowany wynikowo</a:t>
            </a:r>
            <a:r>
              <a:rPr b="1" lang="fr-FR" sz="2600" spc="-1" strike="noStrike">
                <a:solidFill>
                  <a:srgbClr val="ffffff"/>
                </a:solidFill>
                <a:latin typeface="Arial"/>
              </a:rPr>
              <a:t> : </a:t>
            </a: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dążenie do </a:t>
            </a:r>
            <a:r>
              <a:rPr b="1" lang="fr-FR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WYDAJNOŚCI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755640" y="1628640"/>
            <a:ext cx="792792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2600" spc="-1" strike="noStrike">
                <a:solidFill>
                  <a:srgbClr val="4d4d4d"/>
                </a:solidFill>
                <a:latin typeface="Wingdings 3"/>
                <a:ea typeface="Wingdings 3"/>
              </a:rPr>
              <a:t>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Cele określane w ramach zabudżetowanych środków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  <a:ea typeface="Arial"/>
              </a:rPr>
              <a:t>≠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  <a:ea typeface="Arial"/>
              </a:rPr>
              <a:t>budżetowanie celow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  <a:ea typeface="Arial"/>
              </a:rPr>
              <a:t>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2600" spc="-1" strike="noStrike">
                <a:solidFill>
                  <a:srgbClr val="4d4d4d"/>
                </a:solidFill>
                <a:latin typeface="Wingdings 3"/>
                <a:ea typeface="Wingdings 3"/>
              </a:rPr>
              <a:t>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  <a:ea typeface="Arial"/>
              </a:rPr>
              <a:t>Cele dot. poprawy skuteczności wydatków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  <a:ea typeface="Arial"/>
              </a:rPr>
              <a:t>Zobowiązania wynikow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  <a:ea typeface="Arial"/>
              </a:rPr>
              <a:t> : </a:t>
            </a:r>
            <a:r>
              <a:rPr b="0" i="1" lang="pl-PL" sz="2000" spc="-1" strike="noStrike">
                <a:solidFill>
                  <a:srgbClr val="4d4d4d"/>
                </a:solidFill>
                <a:latin typeface="Arial"/>
                <a:ea typeface="Arial"/>
              </a:rPr>
              <a:t>roczny plan wydajności</a:t>
            </a:r>
            <a:r>
              <a:rPr b="0" i="1" lang="fr-FR" sz="2000" spc="-1" strike="noStrike">
                <a:solidFill>
                  <a:srgbClr val="4d4d4d"/>
                </a:solidFill>
                <a:latin typeface="Arial"/>
                <a:ea typeface="Arial"/>
              </a:rPr>
              <a:t> (LFI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  <a:ea typeface="Arial"/>
              </a:rPr>
              <a:t>Sprawozdawczość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  <a:ea typeface="Arial"/>
              </a:rPr>
              <a:t> : </a:t>
            </a:r>
            <a:r>
              <a:rPr b="0" i="1" lang="pl-PL" sz="2000" spc="-1" strike="noStrike">
                <a:solidFill>
                  <a:srgbClr val="4d4d4d"/>
                </a:solidFill>
                <a:latin typeface="Arial"/>
                <a:ea typeface="Arial"/>
              </a:rPr>
              <a:t>roczne sprawozdanie nt. wydajności</a:t>
            </a:r>
            <a:r>
              <a:rPr b="0" i="1" lang="fr-FR" sz="2000" spc="-1" strike="noStrike">
                <a:solidFill>
                  <a:srgbClr val="4d4d4d"/>
                </a:solidFill>
                <a:latin typeface="Arial"/>
                <a:ea typeface="Arial"/>
              </a:rPr>
              <a:t> (LR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  <a:ea typeface="Arial"/>
              </a:rPr>
              <a:t>Ta sama prezentacj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  <a:ea typeface="Arial"/>
              </a:rPr>
              <a:t>,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  <a:ea typeface="Arial"/>
              </a:rPr>
              <a:t>struktura co rocznego planu wydajności 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  <a:ea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  <a:ea typeface="Arial"/>
              </a:rPr>
              <a:t>celem ułatwienia porównani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  <a:ea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  <a:ea typeface="Arial"/>
              </a:rPr>
              <a:t>prognoza/realizacja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  <a:ea typeface="Arial"/>
              </a:rPr>
              <a:t>Przyjęcie w pierwszym czytaniu ustawy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  <a:ea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  <a:ea typeface="Arial"/>
              </a:rPr>
              <a:t>rozliczeni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  <a:ea typeface="Arial"/>
              </a:rPr>
              <a:t> n-1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  <a:ea typeface="Arial"/>
              </a:rPr>
              <a:t>przed zbadaniem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  <a:ea typeface="Arial"/>
              </a:rPr>
              <a:t> PLF n+1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95F5BF-A296-4FF6-9B0D-50CC2D9723FC}" type="slidenum">
              <a:t>12</a:t>
            </a:fld>
          </a:p>
        </p:txBody>
      </p:sp>
    </p:spTree>
  </p:cSld>
  <p:transition spd="med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Sens wydajności</a:t>
            </a:r>
            <a:r>
              <a:rPr b="1" lang="fr-FR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755280" y="1628640"/>
            <a:ext cx="806436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9440" indent="-379440">
              <a:lnSpc>
                <a:spcPct val="9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Metodologiczny przewodnik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na użytek rządu, parlamentu, najwyższego organu kontroli i 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CIAP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79440" indent="-379440" algn="just">
              <a:lnSpc>
                <a:spcPct val="90000"/>
              </a:lnSpc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obór celów i wskaźników reprezentatywny dla priorytetów programu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817560" indent="-342720" algn="just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Strategi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yjaśniania spójności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817560" indent="-342720" algn="just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Cel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możliwiające zaspokojenie oczekiwać obywatel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,</a:t>
            </a:r>
            <a:br>
              <a:rPr sz="2000"/>
            </a:b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żytkownika i podatnik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: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ybór polityczny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817560" indent="-342720" algn="just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Wskaźnik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służące do pomiaru realizacji przyjętych celów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79440" indent="-379440" algn="just">
              <a:lnSpc>
                <a:spcPct val="90000"/>
              </a:lnSpc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Cele i wskaźnik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: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817560" indent="-342720" algn="just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objaśniają polityki i są przedstawiane parlamentowi w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PAP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sprawozdanie zaś w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RAP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817560" indent="-342720" algn="just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są wykorzystywane i przenoszone na szczebel zarządzania wewnętrznego, nadają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sens działalności każdego pracownika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7329600" y="114480"/>
            <a:ext cx="1419120" cy="1585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840157-4F0A-4DD9-9459-FC81319935EF}" type="slidenum">
              <a:t>13</a:t>
            </a:fld>
          </a:p>
        </p:txBody>
      </p:sp>
    </p:spTree>
  </p:cSld>
  <p:transition spd="med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Wymiary wydajności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755640" y="1557360"/>
            <a:ext cx="792792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Trzy wymiary wydajnośc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: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1125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skuteczność</a:t>
            </a:r>
            <a:r>
              <a:rPr b="1" lang="fr-FR" sz="1800" spc="-1" strike="noStrike">
                <a:solidFill>
                  <a:srgbClr val="4d4d4d"/>
                </a:solidFill>
                <a:latin typeface="Arial"/>
              </a:rPr>
              <a:t> s</a:t>
            </a: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połeczno-ekonomiczna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punkt widzenia obywatela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) :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oczekiwane skutki polityk publicznych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jakość świadczonej usługi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punkt widzenia użytkownika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) :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wymóg jakości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skuteczność zarządzania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punkt widzenia podatnika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) :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optymalizacja środków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Wskaźnik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pomiaru wyników w przypadku każdego ustalonego celu 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(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zyskiwane i oczekiwane poziomy wydajnośc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)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Cel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wydajnośc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a nie działalności czy środków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Cel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dające się przypisać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kierownictwu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Stała kontrola sprawowana przez niezależny organ publiczny 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: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Międzyresortowy Komitet Audytów Programowych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 (CIAP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647CE2-84B9-400A-8C40-F26C0126AF9A}" type="slidenum">
              <a:t>14</a:t>
            </a:fld>
          </a:p>
        </p:txBody>
      </p:sp>
    </p:spTree>
  </p:cSld>
  <p:transition spd="med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Pilotaż wydajności</a:t>
            </a:r>
            <a:r>
              <a:rPr b="1" lang="fr-FR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755640" y="1557000"/>
            <a:ext cx="79279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spcBef>
                <a:spcPts val="5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5 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celów na program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, 2 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wskaźniki na cel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5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500 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celów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– 1.000 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wskaźników w roku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2009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822240" y="2349360"/>
            <a:ext cx="7818480" cy="3458880"/>
            <a:chOff x="822240" y="2349360"/>
            <a:chExt cx="7818480" cy="3458880"/>
          </a:xfrm>
        </p:grpSpPr>
        <p:sp>
          <p:nvSpPr>
            <p:cNvPr id="201" name=""/>
            <p:cNvSpPr/>
            <p:nvPr/>
          </p:nvSpPr>
          <p:spPr>
            <a:xfrm>
              <a:off x="826920" y="4989600"/>
              <a:ext cx="7694640" cy="0"/>
            </a:xfrm>
            <a:prstGeom prst="line">
              <a:avLst/>
            </a:prstGeom>
            <a:ln cap="sq" w="3168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 flipV="1">
              <a:off x="826920" y="3898440"/>
              <a:ext cx="7694640" cy="11160"/>
            </a:xfrm>
            <a:prstGeom prst="line">
              <a:avLst/>
            </a:prstGeom>
            <a:ln cap="sq" w="3168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26920" y="5767560"/>
              <a:ext cx="7694640" cy="0"/>
            </a:xfrm>
            <a:prstGeom prst="line">
              <a:avLst/>
            </a:prstGeom>
            <a:ln cap="sq" w="3168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826920" y="3042720"/>
              <a:ext cx="7694640" cy="11160"/>
            </a:xfrm>
            <a:prstGeom prst="line">
              <a:avLst/>
            </a:prstGeom>
            <a:ln cap="sq" w="3168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826920" y="2505240"/>
              <a:ext cx="1851120" cy="4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2000" spc="-1" strike="noStrike">
                  <a:solidFill>
                    <a:srgbClr val="ff9933"/>
                  </a:solidFill>
                  <a:latin typeface="Arial"/>
                </a:rPr>
                <a:t>Punkt </a:t>
              </a:r>
              <a:r>
                <a:rPr b="0" lang="pl-PL" sz="1800" spc="-1" strike="noStrike">
                  <a:solidFill>
                    <a:srgbClr val="ff9933"/>
                  </a:solidFill>
                  <a:latin typeface="Arial"/>
                </a:rPr>
                <a:t>widzeni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425680" y="2505240"/>
              <a:ext cx="1474920" cy="4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2000" spc="-1" strike="noStrike">
                  <a:solidFill>
                    <a:srgbClr val="ff9933"/>
                  </a:solidFill>
                  <a:latin typeface="Arial"/>
                </a:rPr>
                <a:t>  </a:t>
              </a:r>
              <a:r>
                <a:rPr b="0" lang="pl-PL" sz="2000" spc="-1" strike="noStrike">
                  <a:solidFill>
                    <a:srgbClr val="ff9933"/>
                  </a:solidFill>
                  <a:latin typeface="Arial"/>
                </a:rPr>
                <a:t>Oś analiz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253760" y="2349360"/>
              <a:ext cx="1973520" cy="4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2000" spc="-1" strike="noStrike">
                  <a:solidFill>
                    <a:srgbClr val="ff9933"/>
                  </a:solidFill>
                  <a:latin typeface="Arial"/>
                </a:rPr>
                <a:t>Przykłady celów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236280" y="2349360"/>
              <a:ext cx="1507320" cy="75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2000" spc="-1" strike="noStrike">
                  <a:solidFill>
                    <a:srgbClr val="ff9933"/>
                  </a:solidFill>
                  <a:latin typeface="Arial"/>
                </a:rPr>
                <a:t>Przykłady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2000" spc="-1" strike="noStrike">
                  <a:solidFill>
                    <a:srgbClr val="ff9933"/>
                  </a:solidFill>
                  <a:latin typeface="Arial"/>
                </a:rPr>
                <a:t>wskaźników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22240" y="3132000"/>
              <a:ext cx="1095840" cy="41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Arial"/>
                </a:rPr>
                <a:t>Obywat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822240" y="3909960"/>
              <a:ext cx="1298520" cy="41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Arial"/>
                </a:rPr>
                <a:t>Użytkowni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26200" y="4989600"/>
              <a:ext cx="1031760" cy="41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Arial"/>
                </a:rPr>
                <a:t>Podatni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426040" y="3102120"/>
              <a:ext cx="1624680" cy="57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skuteczność spo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łeczno-ekonomicz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425320" y="3932280"/>
              <a:ext cx="1775520" cy="57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Jakość świadczonej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usług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426400" y="5024520"/>
              <a:ext cx="1130760" cy="57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skuteczność</a:t>
              </a:r>
              <a:br>
                <a:rPr sz="1400"/>
              </a:b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zarządzani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254480" y="3078000"/>
              <a:ext cx="1873080" cy="78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zwiększenie integracj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zawodowej młodyc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dyplomantów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232680" y="3044880"/>
              <a:ext cx="2408040" cy="78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%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dyplomantów pracującyc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6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miesięcy po uzyskaniu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dyplomu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252320" y="3932280"/>
              <a:ext cx="1924920" cy="57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przyspieszenie decyzj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sądowyc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254480" y="5024520"/>
              <a:ext cx="1873080" cy="78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zmniejszenie kosztów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zarządzania podat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kie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229080" y="3900600"/>
              <a:ext cx="2177640" cy="99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Średnia długość wydawa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nia opinii</a:t>
              </a: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 ;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średnia długość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postępowania sądoweg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236640" y="4991040"/>
              <a:ext cx="2203560" cy="57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koszt na płatnika każdeg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rodzaju podatku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668671-CF9F-4AFF-AFF1-75DAD7A70DFD}" type="slidenum">
              <a:t>15</a:t>
            </a:fld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3000" spc="-1" strike="noStrike">
                <a:solidFill>
                  <a:srgbClr val="ffffff"/>
                </a:solidFill>
                <a:latin typeface="Arial"/>
              </a:rPr>
              <a:t>4. </a:t>
            </a: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Przejrzystość informacji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755640" y="1628640"/>
            <a:ext cx="792792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Wydatki osobow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 postaci kosztu całkowitego z uwzględnieniem składek pracodawców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+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całość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etatów 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ynagradzanych przez państwo w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« 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przeliczeniu na pełne etaty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 » 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ETPT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uzasadnienie pierwszego euro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środków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elementy fizyczno-finansow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zmocnienie zasady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uniwersalnośc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budżetowej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Przedstawieni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operatorów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etaty i środk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Generalizacj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Zatwierdzania środków budżetowanych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la każdego rodzaju wydatków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Rachunkowość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analizy kosztu działań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rozdział funkcji wspierających i usług wielofunkcyjnych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9F3879-A2B6-4A54-8E15-ADEC216148BE}" type="slidenum">
              <a:t>16</a:t>
            </a:fld>
          </a:p>
        </p:txBody>
      </p:sp>
    </p:spTree>
  </p:cSld>
  <p:transition spd="med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755640" y="301680"/>
            <a:ext cx="7927920" cy="125568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3000" spc="-1" strike="noStrike">
                <a:solidFill>
                  <a:srgbClr val="ffffff"/>
                </a:solidFill>
                <a:latin typeface="Arial"/>
              </a:rPr>
              <a:t>5. </a:t>
            </a: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Nowa rachunkowość</a:t>
            </a:r>
            <a:br>
              <a:rPr sz="3000"/>
            </a:br>
            <a:r>
              <a:rPr b="1" lang="pl-PL" sz="2700" spc="-1" strike="noStrike">
                <a:solidFill>
                  <a:srgbClr val="ffffff"/>
                </a:solidFill>
                <a:latin typeface="Arial"/>
              </a:rPr>
              <a:t>Narzędzia pomiaru sytuacji finansowej państwa</a:t>
            </a:r>
            <a:endParaRPr b="1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39280" y="1773360"/>
            <a:ext cx="860436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spcBef>
                <a:spcPts val="18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Wysoka kompatybilność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na poziomie ustawy organicznej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8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Obok rachunkowości budżetowej w kasie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wprowadzenie 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400" spc="-1" strike="noStrike">
                <a:solidFill>
                  <a:srgbClr val="4d4d4d"/>
                </a:solidFill>
                <a:latin typeface="Arial"/>
              </a:rPr>
              <a:t>rachunkowości roku finansowego</a:t>
            </a:r>
            <a:r>
              <a:rPr b="1" lang="fr-FR" sz="24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1" lang="pl-PL" sz="2400" spc="-1" strike="noStrike">
                <a:solidFill>
                  <a:srgbClr val="4d4d4d"/>
                </a:solidFill>
                <a:latin typeface="Arial"/>
              </a:rPr>
              <a:t>uwzględniającej prawa stwierdzone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celem zapewnienia przejrzystości sytuacji finansowej państwa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 (bilan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s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 + 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sytuacja pozabilansowa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8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4d4d4d"/>
                </a:solidFill>
                <a:latin typeface="Arial"/>
              </a:rPr>
              <a:t>Rachunki prawidłowe</a:t>
            </a:r>
            <a:r>
              <a:rPr b="1" lang="fr-FR" sz="24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1" lang="pl-PL" sz="2400" spc="-1" strike="noStrike">
                <a:solidFill>
                  <a:srgbClr val="4d4d4d"/>
                </a:solidFill>
                <a:latin typeface="Arial"/>
              </a:rPr>
              <a:t>rzetelne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dające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400" spc="-1" strike="noStrike">
                <a:solidFill>
                  <a:srgbClr val="4d4d4d"/>
                </a:solidFill>
                <a:latin typeface="Arial"/>
              </a:rPr>
              <a:t>wierny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obraz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majątku i sytuacji finansowej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8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Wymóg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400" spc="-1" strike="noStrike">
                <a:solidFill>
                  <a:srgbClr val="4d4d4d"/>
                </a:solidFill>
                <a:latin typeface="Arial"/>
              </a:rPr>
              <a:t>jakości księgowej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powierzanej księgowym wyposażonym w sprzęt komputerowy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738F2A-F318-44CA-94BC-7CD8B8DD59B5}" type="slidenum">
              <a:t>17</a:t>
            </a:fld>
          </a:p>
        </p:txBody>
      </p:sp>
    </p:spTree>
  </p:cSld>
  <p:transition spd="med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Nowa rachunkowość trójwymiarowa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90520" indent="-290520" algn="just">
              <a:spcBef>
                <a:spcPts val="5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863640"/>
                <a:tab algn="l" pos="1778040"/>
                <a:tab algn="l" pos="2692440"/>
                <a:tab algn="l" pos="3606840"/>
                <a:tab algn="l" pos="4521240"/>
                <a:tab algn="l" pos="5435640"/>
                <a:tab algn="l" pos="6350040"/>
                <a:tab algn="l" pos="7264440"/>
                <a:tab algn="l" pos="8178840"/>
                <a:tab algn="l" pos="9093240"/>
                <a:tab algn="l" pos="10007640"/>
                <a:tab algn="l" pos="10333080"/>
                <a:tab algn="l" pos="10782360"/>
              </a:tabLst>
            </a:pP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Rachunkowość budżetowa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: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988560" indent="-41976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863640"/>
                <a:tab algn="l" pos="1778040"/>
                <a:tab algn="l" pos="2692440"/>
                <a:tab algn="l" pos="3606840"/>
                <a:tab algn="l" pos="4521240"/>
                <a:tab algn="l" pos="5435640"/>
                <a:tab algn="l" pos="6350040"/>
                <a:tab algn="l" pos="7264440"/>
                <a:tab algn="l" pos="8178840"/>
                <a:tab algn="l" pos="9093240"/>
                <a:tab algn="l" pos="1000764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opiera się na księgowaniu przychodów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i wydatków budżetowych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inkaso/płatność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988560" indent="-41976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863640"/>
                <a:tab algn="l" pos="1778040"/>
                <a:tab algn="l" pos="2692440"/>
                <a:tab algn="l" pos="3606840"/>
                <a:tab algn="l" pos="4521240"/>
                <a:tab algn="l" pos="5435640"/>
                <a:tab algn="l" pos="6350040"/>
                <a:tab algn="l" pos="7264440"/>
                <a:tab algn="l" pos="8178840"/>
                <a:tab algn="l" pos="9093240"/>
                <a:tab algn="l" pos="1000764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odatkowy okres księgowy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20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ni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988560" indent="-41976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863640"/>
                <a:tab algn="l" pos="1778040"/>
                <a:tab algn="l" pos="2692440"/>
                <a:tab algn="l" pos="3606840"/>
                <a:tab algn="l" pos="4521240"/>
                <a:tab algn="l" pos="5435640"/>
                <a:tab algn="l" pos="6350040"/>
                <a:tab algn="l" pos="7264440"/>
                <a:tab algn="l" pos="8178840"/>
                <a:tab algn="l" pos="9093240"/>
                <a:tab algn="l" pos="1000764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podwójne monitorowani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AE/CP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290520" indent="-290520" algn="just">
              <a:spcBef>
                <a:spcPts val="137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863640"/>
                <a:tab algn="l" pos="1778040"/>
                <a:tab algn="l" pos="2692440"/>
                <a:tab algn="l" pos="3606840"/>
                <a:tab algn="l" pos="4521240"/>
                <a:tab algn="l" pos="5435640"/>
                <a:tab algn="l" pos="6350040"/>
                <a:tab algn="l" pos="7264440"/>
                <a:tab algn="l" pos="8178840"/>
                <a:tab algn="l" pos="9093240"/>
                <a:tab algn="l" pos="10007640"/>
                <a:tab algn="l" pos="10333080"/>
                <a:tab algn="l" pos="10782360"/>
              </a:tabLst>
            </a:pP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Rachunkowość roku finansowego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 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opiera się na stwierdzenie praw i zobowiązań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bliskie powiązania z regułami rachunkowości przedsiębiorstw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: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988560" indent="-41976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863640"/>
                <a:tab algn="l" pos="1778040"/>
                <a:tab algn="l" pos="2692440"/>
                <a:tab algn="l" pos="3606840"/>
                <a:tab algn="l" pos="4521240"/>
                <a:tab algn="l" pos="5435640"/>
                <a:tab algn="l" pos="6350040"/>
                <a:tab algn="l" pos="7264440"/>
                <a:tab algn="l" pos="8178840"/>
                <a:tab algn="l" pos="9093240"/>
                <a:tab algn="l" pos="1000764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względnia się operacje z tytułu roku finansowego,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o którego się one odnoszą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niezależnie od daty ich płatności lub inkasa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290520" indent="-290520" algn="just">
              <a:spcBef>
                <a:spcPts val="137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863640"/>
                <a:tab algn="l" pos="1778040"/>
                <a:tab algn="l" pos="2692440"/>
                <a:tab algn="l" pos="3606840"/>
                <a:tab algn="l" pos="4521240"/>
                <a:tab algn="l" pos="5435640"/>
                <a:tab algn="l" pos="6350040"/>
                <a:tab algn="l" pos="7264440"/>
                <a:tab algn="l" pos="8178840"/>
                <a:tab algn="l" pos="9093240"/>
                <a:tab algn="l" pos="10007640"/>
                <a:tab algn="l" pos="10333080"/>
                <a:tab algn="l" pos="10782360"/>
              </a:tabLst>
            </a:pP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Analiza kosztów działań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 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w służbie zarządzającego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por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. CAC)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979640" y="189000"/>
            <a:ext cx="66387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C16F47-736C-4C83-AD02-93A7123401AD}" type="slidenum">
              <a:t>18</a:t>
            </a:fld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Uwzględnianie nowej księgowości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just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Font typeface="Arial"/>
              <a:buAutoNum type="arabicPeriod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efinicja ram pojęciowych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: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normy rachunkow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895320" indent="-417600" algn="just">
              <a:lnSpc>
                <a:spcPct val="90000"/>
              </a:lnSpc>
              <a:buClr>
                <a:srgbClr val="a50021"/>
              </a:buClr>
              <a:buFont typeface="Wingdings" charset="2"/>
              <a:buChar char="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13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norm ustanowionych przez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Komitet ds. Norm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na podstawie stanów finansowych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kosztów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środków trwałych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zobowiązań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itd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.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895320" indent="-417600" algn="just">
              <a:lnSpc>
                <a:spcPct val="90000"/>
              </a:lnSpc>
              <a:buClr>
                <a:srgbClr val="a50021"/>
              </a:buClr>
              <a:buFont typeface="Wingdings" charset="2"/>
              <a:buChar char="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21 ma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ja 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2004 : </a:t>
            </a: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zatwierdzenie mocą rozporządzenia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457200" indent="-457200" algn="just">
              <a:lnSpc>
                <a:spcPct val="90000"/>
              </a:lnSpc>
              <a:spcBef>
                <a:spcPts val="1250"/>
              </a:spcBef>
              <a:buClr>
                <a:srgbClr val="006666"/>
              </a:buClr>
              <a:buFont typeface="Arial"/>
              <a:buAutoNum type="arabicPeriod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Rodzaje norm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895320" indent="-417600" algn="just">
              <a:lnSpc>
                <a:spcPct val="90000"/>
              </a:lnSpc>
              <a:buClr>
                <a:srgbClr val="a50021"/>
              </a:buClr>
              <a:buFont typeface="Wingdings" charset="2"/>
              <a:buChar char="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4d4d4d"/>
                </a:solidFill>
                <a:latin typeface="Arial"/>
              </a:rPr>
              <a:t>plan </a:t>
            </a: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rachunków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rodzajowy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(PCE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895320" indent="-417600" algn="just">
              <a:lnSpc>
                <a:spcPct val="90000"/>
              </a:lnSpc>
              <a:buClr>
                <a:srgbClr val="a50021"/>
              </a:buClr>
              <a:buFont typeface="Wingdings" charset="2"/>
              <a:buChar char="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zbiór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instrukcji księgowych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457200" indent="-457200" algn="just">
              <a:lnSpc>
                <a:spcPct val="90000"/>
              </a:lnSpc>
              <a:spcBef>
                <a:spcPts val="1250"/>
              </a:spcBef>
              <a:buClr>
                <a:srgbClr val="006666"/>
              </a:buClr>
              <a:buFont typeface="Arial"/>
              <a:buAutoNum type="arabicPeriod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Konstrukcja bilansu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895320" indent="-417600" algn="just">
              <a:lnSpc>
                <a:spcPct val="90000"/>
              </a:lnSpc>
              <a:buClr>
                <a:srgbClr val="a50021"/>
              </a:buClr>
              <a:buFont typeface="Wingdings" charset="2"/>
              <a:buChar char="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Inwentaryzacja i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wycena nieruchomości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koszt rynkowy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895320" indent="-417600" algn="just">
              <a:lnSpc>
                <a:spcPct val="90000"/>
              </a:lnSpc>
              <a:buClr>
                <a:srgbClr val="a50021"/>
              </a:buClr>
              <a:buFont typeface="Wingdings" charset="2"/>
              <a:buChar char="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Inne środki trwałe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rzeczowe i zapasy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457200" indent="-457200" algn="just">
              <a:lnSpc>
                <a:spcPct val="90000"/>
              </a:lnSpc>
              <a:spcBef>
                <a:spcPts val="1250"/>
              </a:spcBef>
              <a:buClr>
                <a:srgbClr val="006666"/>
              </a:buClr>
              <a:buFont typeface="Arial"/>
              <a:buAutoNum type="arabicPeriod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Roczna certyfikacj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przez Naczelny Organ Kontrol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: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rachunki za lata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 2006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-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 2007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certyfikowane przez Trybunał Obrachunkowy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z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13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a potem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12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zastrzeżeniam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 tym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2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o charakterze ogólnym dot. systemów informacji oraz kontroli wewnętrznej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165775-798F-4D5B-959F-A1BA39FB511E}" type="slidenum">
              <a:t>19</a:t>
            </a:fld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Ustawa organiczna z dnia 1 sierpnia</a:t>
            </a:r>
            <a:r>
              <a:rPr b="1" lang="fr-FR" sz="2600" spc="-1" strike="noStrike">
                <a:solidFill>
                  <a:srgbClr val="ffffff"/>
                </a:solidFill>
                <a:latin typeface="Arial"/>
              </a:rPr>
              <a:t> 2001</a:t>
            </a: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 roku</a:t>
            </a:r>
            <a:r>
              <a:rPr b="1" lang="fr-FR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w sprawie ustaw budżetowych</a:t>
            </a:r>
            <a:r>
              <a:rPr b="1" lang="fr-FR" sz="2600" spc="-1" strike="noStrike">
                <a:solidFill>
                  <a:srgbClr val="ffffff"/>
                </a:solidFill>
                <a:latin typeface="Arial"/>
              </a:rPr>
              <a:t> ( LOLF) </a:t>
            </a: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we Francji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640" y="1699920"/>
            <a:ext cx="792792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spcBef>
                <a:spcPts val="29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Nowa konstytucja finansowa dla państwa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29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Inicjatywa parlamentarna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29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Polityczne porozumienie ponad podziałami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29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Konsensus z rządem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2CCDFC-70AE-487E-BB73-DB773C2BFED7}" type="slidenum">
              <a:t>2</a:t>
            </a:fld>
          </a:p>
        </p:txBody>
      </p:sp>
    </p:spTree>
  </p:cSld>
  <p:transition spd="med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3000" spc="-1" strike="noStrike">
                <a:solidFill>
                  <a:srgbClr val="ffffff"/>
                </a:solidFill>
                <a:latin typeface="Arial"/>
              </a:rPr>
              <a:t>6. </a:t>
            </a: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Wzrost roli parlamentu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755640" y="1557360"/>
            <a:ext cx="79279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80000"/>
              </a:lnSpc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Budżet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bardziej czytelny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dyskusja i przyjęcie wielkich polityk publicznych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zadanie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dyskusja o środkach pierwszego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euro,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zatrudnieniu 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informacja wzbogacona celem kontroli wydatków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(PAP –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załączniki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– RAP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débat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potencjalnie bogatsza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poszerzenie prawa do poprawki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: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przenoszenie między programami w ramach tego samego zadania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 trakci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wykonani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zmocniony dostęp do informacji dla 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komisji ds. finansów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akty normatywn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zmocnione uprawnienia śledcze i do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przesłuchiwani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sparcie ze strony Trybunału Obrachunkowego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nowe znaczeni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ustawy rozliczeniowej,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względniającej rachunki oraz roczne sprawozdania wydajności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820167-9EDF-4C98-801F-989B93F77762}" type="slidenum">
              <a:t>20</a:t>
            </a:fld>
          </a:p>
        </p:txBody>
      </p:sp>
    </p:spTree>
  </p:cSld>
  <p:transition spd="med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1295280" y="1600200"/>
            <a:ext cx="3581640" cy="49528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0000"/>
                </a:solidFill>
                <a:latin typeface="Arial"/>
              </a:rPr>
              <a:t>Do</a:t>
            </a:r>
            <a:r>
              <a:rPr b="0" lang="fr-FR" sz="1800" spc="-1" strike="noStrike">
                <a:solidFill>
                  <a:srgbClr val="ff0000"/>
                </a:solidFill>
                <a:latin typeface="Arial"/>
              </a:rPr>
              <a:t>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371600" y="5162400"/>
            <a:ext cx="3352680" cy="12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94% 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środków przenoszonych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prawie automatycznie z roku na rok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działy  głosowane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bez kwestionowania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Zasadnicza część debaty dotyczy jedynie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6%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budżetu ogólnego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257800" y="5024520"/>
            <a:ext cx="3276720" cy="99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100% 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środków przedmiotem dyskusji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parlamentarnej z uwzględnieniem poszczególnych zadań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257800" y="1600200"/>
            <a:ext cx="3581280" cy="4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0000"/>
                </a:solidFill>
                <a:latin typeface="Arial"/>
              </a:rPr>
              <a:t>Od budżetu</a:t>
            </a:r>
            <a:r>
              <a:rPr b="0" lang="fr-FR" sz="1800" spc="-1" strike="noStrike">
                <a:solidFill>
                  <a:srgbClr val="ff0000"/>
                </a:solidFill>
                <a:latin typeface="Arial"/>
              </a:rPr>
              <a:t>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667480" y="2577960"/>
            <a:ext cx="2333520" cy="232416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776240" y="2575080"/>
            <a:ext cx="2419560" cy="23778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1733400" y="2819520"/>
            <a:ext cx="533520" cy="228600"/>
          </a:xfrm>
          <a:custGeom>
            <a:avLst/>
            <a:gdLst/>
            <a:ahLst/>
            <a:rect l="l" t="t" r="r" b="b"/>
            <a:pathLst>
              <a:path w="288" h="96">
                <a:moveTo>
                  <a:pt x="192" y="48"/>
                </a:moveTo>
                <a:lnTo>
                  <a:pt x="288" y="0"/>
                </a:lnTo>
                <a:lnTo>
                  <a:pt x="0" y="0"/>
                </a:lnTo>
                <a:lnTo>
                  <a:pt x="0" y="96"/>
                </a:lnTo>
                <a:lnTo>
                  <a:pt x="192" y="96"/>
                </a:lnTo>
                <a:lnTo>
                  <a:pt x="288" y="0"/>
                </a:lnTo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381480" y="2581200"/>
            <a:ext cx="1353960" cy="285840"/>
          </a:xfrm>
          <a:custGeom>
            <a:avLst/>
            <a:gdLst/>
            <a:ahLst/>
            <a:rect l="l" t="t" r="r" b="b"/>
            <a:pathLst>
              <a:path w="912" h="192">
                <a:moveTo>
                  <a:pt x="0" y="0"/>
                </a:moveTo>
                <a:lnTo>
                  <a:pt x="48" y="96"/>
                </a:lnTo>
                <a:lnTo>
                  <a:pt x="336" y="96"/>
                </a:lnTo>
                <a:lnTo>
                  <a:pt x="432" y="192"/>
                </a:lnTo>
                <a:lnTo>
                  <a:pt x="912" y="192"/>
                </a:lnTo>
                <a:lnTo>
                  <a:pt x="912" y="0"/>
                </a:lnTo>
                <a:lnTo>
                  <a:pt x="0" y="0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429000" y="2057400"/>
            <a:ext cx="1600200" cy="6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owe środki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97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głosowań w roku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20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295280" y="2347920"/>
            <a:ext cx="1219320" cy="6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Działy głosowane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: 1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glosowan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315200" y="2438280"/>
            <a:ext cx="762120" cy="457200"/>
          </a:xfrm>
          <a:custGeom>
            <a:avLst/>
            <a:gdLst/>
            <a:ahLst/>
            <a:rect l="l" t="t" r="r" b="b"/>
            <a:pathLst>
              <a:path w="480" h="288">
                <a:moveTo>
                  <a:pt x="0" y="96"/>
                </a:moveTo>
                <a:lnTo>
                  <a:pt x="336" y="288"/>
                </a:lnTo>
                <a:lnTo>
                  <a:pt x="480" y="288"/>
                </a:lnTo>
                <a:lnTo>
                  <a:pt x="480" y="0"/>
                </a:lnTo>
                <a:lnTo>
                  <a:pt x="0" y="9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696080" y="2517840"/>
            <a:ext cx="106704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47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zadań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47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głosowa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11280" y="301320"/>
            <a:ext cx="835344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Wzmocniona i unowocześniona debata budżetowa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806B45-134C-45CC-B4A4-2A60495BD1AF}" type="slidenum">
              <a:t>21</a:t>
            </a:fld>
          </a:p>
        </p:txBody>
      </p:sp>
    </p:spTree>
  </p:cSld>
  <p:transition spd="med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3000" spc="-1" strike="noStrike">
                <a:solidFill>
                  <a:srgbClr val="ffffff"/>
                </a:solidFill>
                <a:latin typeface="Arial"/>
              </a:rPr>
              <a:t>7. </a:t>
            </a: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Nowy system odpowiedzialności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 algn="just">
              <a:spcBef>
                <a:spcPts val="4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855720"/>
                <a:tab algn="l" pos="1770120"/>
                <a:tab algn="l" pos="2684520"/>
                <a:tab algn="l" pos="3598920"/>
                <a:tab algn="l" pos="4513320"/>
                <a:tab algn="l" pos="5427720"/>
                <a:tab algn="l" pos="6342120"/>
                <a:tab algn="l" pos="7256520"/>
                <a:tab algn="l" pos="8170920"/>
                <a:tab algn="l" pos="9085320"/>
                <a:tab algn="l" pos="999972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Pilotaż kierownika programu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57080" indent="-27936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855720"/>
                <a:tab algn="l" pos="1770120"/>
                <a:tab algn="l" pos="2684520"/>
                <a:tab algn="l" pos="3598920"/>
                <a:tab algn="l" pos="4513320"/>
                <a:tab algn="l" pos="5427720"/>
                <a:tab algn="l" pos="6342120"/>
                <a:tab algn="l" pos="7256520"/>
                <a:tab algn="l" pos="8170920"/>
                <a:tab algn="l" pos="9085320"/>
                <a:tab algn="l" pos="999972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po uzgodnieniach przeprowadzanych przez dyrektora ds. finansowych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57080" indent="-27936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855720"/>
                <a:tab algn="l" pos="1770120"/>
                <a:tab algn="l" pos="2684520"/>
                <a:tab algn="l" pos="3598920"/>
                <a:tab algn="l" pos="4513320"/>
                <a:tab algn="l" pos="5427720"/>
                <a:tab algn="l" pos="6342120"/>
                <a:tab algn="l" pos="7256520"/>
                <a:tab algn="l" pos="8170920"/>
                <a:tab algn="l" pos="9085320"/>
                <a:tab algn="l" pos="999972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ysponowanie środkami i rozdzielanie ich na potrzeby zarządzania wewnętrznego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57080" indent="-27936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855720"/>
                <a:tab algn="l" pos="1770120"/>
                <a:tab algn="l" pos="2684520"/>
                <a:tab algn="l" pos="3598920"/>
                <a:tab algn="l" pos="4513320"/>
                <a:tab algn="l" pos="5427720"/>
                <a:tab algn="l" pos="6342120"/>
                <a:tab algn="l" pos="7256520"/>
                <a:tab algn="l" pos="8170920"/>
                <a:tab algn="l" pos="9085320"/>
                <a:tab algn="l" pos="999972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zobowiązanie wydajności podejmowane wobec Parlamentu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: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roczny plan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wydajności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57080" indent="-27936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855720"/>
                <a:tab algn="l" pos="1770120"/>
                <a:tab algn="l" pos="2684520"/>
                <a:tab algn="l" pos="3598920"/>
                <a:tab algn="l" pos="4513320"/>
                <a:tab algn="l" pos="5427720"/>
                <a:tab algn="l" pos="6342120"/>
                <a:tab algn="l" pos="7256520"/>
                <a:tab algn="l" pos="8170920"/>
                <a:tab algn="l" pos="9085320"/>
                <a:tab algn="l" pos="999972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zdaje sprawę Parlamentow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: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roczny plan wydajności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285840" indent="-285840" algn="just"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855720"/>
                <a:tab algn="l" pos="1770120"/>
                <a:tab algn="l" pos="2684520"/>
                <a:tab algn="l" pos="3598920"/>
                <a:tab algn="l" pos="4513320"/>
                <a:tab algn="l" pos="5427720"/>
                <a:tab algn="l" pos="6342120"/>
                <a:tab algn="l" pos="7256520"/>
                <a:tab algn="l" pos="8170920"/>
                <a:tab algn="l" pos="9085320"/>
                <a:tab algn="l" pos="999972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kierownicy programu mogą pilotować kilka dyrekcji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285840" indent="-285840" algn="just"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855720"/>
                <a:tab algn="l" pos="1770120"/>
                <a:tab algn="l" pos="2684520"/>
                <a:tab algn="l" pos="3598920"/>
                <a:tab algn="l" pos="4513320"/>
                <a:tab algn="l" pos="5427720"/>
                <a:tab algn="l" pos="6342120"/>
                <a:tab algn="l" pos="7256520"/>
                <a:tab algn="l" pos="8170920"/>
                <a:tab algn="l" pos="9085320"/>
                <a:tab algn="l" pos="999972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Odpowiedzialność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«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menedżersk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»,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ynagradzanie zasług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D9749D-B1A3-465A-A91A-65C6FC4A1645}" type="slidenum">
              <a:t>22</a:t>
            </a:fld>
          </a:p>
        </p:txBody>
      </p:sp>
    </p:spTree>
  </p:cSld>
  <p:transition spd="med"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Arial"/>
              </a:rPr>
              <a:t>8. </a:t>
            </a:r>
            <a:r>
              <a:rPr b="1" lang="pl-PL" sz="2800" spc="-1" strike="noStrike">
                <a:solidFill>
                  <a:srgbClr val="ffffff"/>
                </a:solidFill>
                <a:latin typeface="Arial"/>
              </a:rPr>
              <a:t>Dekoncentracja zarządzania budżete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Programy krajowe przekładają się na</a:t>
            </a:r>
            <a:r>
              <a:rPr b="0" lang="fr-FR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5f5f5f"/>
                </a:solidFill>
                <a:latin typeface="Arial"/>
              </a:rPr>
              <a:t>bud</a:t>
            </a:r>
            <a:r>
              <a:rPr b="1" lang="pl-PL" sz="2000" spc="-1" strike="noStrike">
                <a:solidFill>
                  <a:srgbClr val="5f5f5f"/>
                </a:solidFill>
                <a:latin typeface="Arial"/>
              </a:rPr>
              <a:t>ż</a:t>
            </a:r>
            <a:r>
              <a:rPr b="1" lang="fr-FR" sz="2000" spc="-1" strike="noStrike">
                <a:solidFill>
                  <a:srgbClr val="5f5f5f"/>
                </a:solidFill>
                <a:latin typeface="Arial"/>
              </a:rPr>
              <a:t>et </a:t>
            </a:r>
            <a:r>
              <a:rPr b="1" lang="pl-PL" sz="2000" spc="-1" strike="noStrike">
                <a:solidFill>
                  <a:srgbClr val="5f5f5f"/>
                </a:solidFill>
                <a:latin typeface="Arial"/>
              </a:rPr>
              <a:t>operacyjny programu</a:t>
            </a:r>
            <a:r>
              <a:rPr b="1" lang="fr-FR" sz="2000" spc="-1" strike="noStrike">
                <a:solidFill>
                  <a:srgbClr val="5f5f5f"/>
                </a:solidFill>
                <a:latin typeface="Arial"/>
              </a:rPr>
              <a:t> (BOP)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any obszar lub teren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plan działania z celami i wskaźnikami wydajności dostosowanymi do wyzwań operacyjnych zdekoncentrowanych działów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preliminarz budżetowy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ściślający cele i rodzaje wydatków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Schemat organizacji finansowej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zarządzani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: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kierownik operacyjnego budżetu programu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spcBef>
                <a:spcPts val="400"/>
              </a:spcBef>
              <a:buClr>
                <a:srgbClr val="a50021"/>
              </a:buClr>
              <a:buFont typeface="Wingdings" charset="2"/>
              <a:buChar char=""/>
              <a:tabLst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dysponent operacyjnego budżetu programu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spcBef>
                <a:spcPts val="400"/>
              </a:spcBef>
              <a:buClr>
                <a:srgbClr val="a50021"/>
              </a:buClr>
              <a:buFont typeface="Wingdings" charset="2"/>
              <a:buChar char=""/>
              <a:tabLst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budżetowanie środków i sprawozdanie kierownikowi programu w ramach dialogu zarządczego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F74933-958D-4082-8D90-A80E431F62C5}" type="slidenum">
              <a:t>23</a:t>
            </a:fld>
          </a:p>
        </p:txBody>
      </p:sp>
    </p:spTree>
  </p:cSld>
  <p:transition spd="med"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Arial"/>
              </a:rPr>
              <a:t>9. </a:t>
            </a: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Rozluźnienie kontroli ministerstwa finansów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just">
              <a:spcBef>
                <a:spcPts val="499"/>
              </a:spcBef>
              <a:buClr>
                <a:srgbClr val="a50021"/>
              </a:buClr>
              <a:buFont typeface="Wingdings 3" charset="2"/>
              <a:buChar char="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kontrola budżetowa wykonalnośc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ekret z dni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27/01/05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457200" indent="-45720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rezygnacja z kontroli prawidłowośc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powierzona zarządcom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457200" indent="-45720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stępne wizowanie początkowego planu budżetowego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457200" indent="-45720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 trakcie zarządzani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: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modularność kontroli z kontrolą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a priori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 zależności od wyzwań i zagrożeń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457200" indent="-45720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kwartalne sprawozdania zarządcze składane przez zarządzających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457200" indent="-457200" algn="just">
              <a:spcBef>
                <a:spcPts val="2500"/>
              </a:spcBef>
              <a:buClr>
                <a:srgbClr val="a50021"/>
              </a:buClr>
              <a:buFont typeface="Wingdings 3" charset="2"/>
              <a:buChar char="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rozluźniona kontrola księgowa wydatków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: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zhierarchizowana lub partnerska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457200" indent="-457200" algn="just">
              <a:spcBef>
                <a:spcPts val="2500"/>
              </a:spcBef>
              <a:buClr>
                <a:srgbClr val="a50021"/>
              </a:buClr>
              <a:buFont typeface="Wingdings 3" charset="2"/>
              <a:buChar char="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Ale wzmocnion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wewnętrzna kontrola księgow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gwarantująca 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«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jakość księgową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»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1CC4C7-07F8-4482-90B4-5075D18F7B4C}" type="slidenum">
              <a:t>24</a:t>
            </a:fld>
          </a:p>
        </p:txBody>
      </p:sp>
    </p:spTree>
  </p:cSld>
  <p:transition spd="med"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Realizacja kontroli należy do ministerstw zarządzających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Rozwój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400" spc="-1" strike="noStrike" u="sng">
                <a:solidFill>
                  <a:srgbClr val="4d4d4d"/>
                </a:solidFill>
                <a:uFillTx/>
                <a:latin typeface="Arial"/>
              </a:rPr>
              <a:t>kontroli zarządzania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 : «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poprawić stosunek środków zabudżetowanych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i działalności albo uzyskanych wyników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»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ministerialna i programowa kontrola zarządzania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jak też  na szczeblu lokalnym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29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Wzmocnienie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400" spc="-1" strike="noStrike" u="sng">
                <a:solidFill>
                  <a:srgbClr val="4d4d4d"/>
                </a:solidFill>
                <a:uFillTx/>
                <a:latin typeface="Arial"/>
              </a:rPr>
              <a:t>kontroli wewnętrznej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 :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konsekwencja reorganizacji ministerstw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oraz złagodzenie kontroli finansowych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ustanowienie wewnętrznej kontroli księgowej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29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Rozwój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400" spc="-1" strike="noStrike" u="sng">
                <a:solidFill>
                  <a:srgbClr val="4d4d4d"/>
                </a:solidFill>
                <a:uFillTx/>
                <a:latin typeface="Arial"/>
              </a:rPr>
              <a:t>audytu wewnętrznego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 :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działalność wewnętrzna prowadzona przez dedykowane zespoły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inspekcje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217B7B-7307-4A54-A8D7-99F2A329F1D5}" type="slidenum">
              <a:t>25</a:t>
            </a:fld>
          </a:p>
        </p:txBody>
      </p:sp>
    </p:spTree>
  </p:cSld>
  <p:transition spd="med"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Arial"/>
              </a:rPr>
              <a:t>10. </a:t>
            </a: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Ustanowienie nowych systemów informacyjnych</a:t>
            </a:r>
            <a:r>
              <a:rPr b="1" lang="fr-FR" sz="2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System prowizoryczny od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2006 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ale mało zadowalający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27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Nowe zintegrowane oprogramowanie zarządcze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(ERP) 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w budowie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(CHORUS) 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obejmujące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: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całość centralnej i zdekoncentrowanej administracji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wszystkie cele wydatkowe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przychody oraz każdy rodzaj księgowości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infocentra danych umożliwiające zwroty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27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Dźwignia modernizacji i poprawy produktywności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poprzedzona przez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«</a:t>
            </a: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reinżynierię procesów finansowych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» (23.000 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licencje zamiast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45.000)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27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Postępujący rozwój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przewidziany w okresie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2009 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-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2011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27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Niezbędne wsparcie rozwoju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BFDD59-4CE0-4EC9-A6D0-A484B8C41C94}" type="slidenum">
              <a:t>26</a:t>
            </a:fld>
          </a:p>
        </p:txBody>
      </p:sp>
    </p:spTree>
  </p:cSld>
  <p:transition spd="med"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755640" y="301680"/>
            <a:ext cx="7927920" cy="125568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Konkludując</a:t>
            </a:r>
            <a:r>
              <a:rPr b="1" lang="fr-FR" sz="26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długotrwałość reformy</a:t>
            </a:r>
            <a:r>
              <a:rPr b="1" lang="fr-FR" sz="26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600"/>
            </a:b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Główne etapy reformy budżetowej</a:t>
            </a:r>
            <a:r>
              <a:rPr b="1" lang="fr-FR" sz="2600" spc="-1" strike="noStrike">
                <a:solidFill>
                  <a:srgbClr val="ffffff"/>
                </a:solidFill>
                <a:latin typeface="Arial"/>
              </a:rPr>
              <a:t> : 2001-2007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24000" y="2421000"/>
            <a:ext cx="8351640" cy="1440"/>
          </a:xfrm>
          <a:prstGeom prst="line">
            <a:avLst/>
          </a:prstGeom>
          <a:ln cap="sq" w="76320">
            <a:solidFill>
              <a:srgbClr val="00ad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66560" y="1916280"/>
            <a:ext cx="79236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1403280" y="1916280"/>
            <a:ext cx="79236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486160" y="1916280"/>
            <a:ext cx="7920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00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710160" y="1916280"/>
            <a:ext cx="7920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0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300720" y="1916280"/>
            <a:ext cx="79236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0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76720" y="1916280"/>
            <a:ext cx="79236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00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V="1">
            <a:off x="2916360" y="2490480"/>
            <a:ext cx="1440" cy="579240"/>
          </a:xfrm>
          <a:prstGeom prst="line">
            <a:avLst/>
          </a:prstGeom>
          <a:ln cap="sq" w="57240">
            <a:solidFill>
              <a:srgbClr val="00add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flipV="1">
            <a:off x="4932360" y="2490480"/>
            <a:ext cx="1440" cy="579240"/>
          </a:xfrm>
          <a:prstGeom prst="line">
            <a:avLst/>
          </a:prstGeom>
          <a:ln cap="sq" w="57240">
            <a:solidFill>
              <a:srgbClr val="00add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flipV="1">
            <a:off x="8317080" y="2490480"/>
            <a:ext cx="1440" cy="579240"/>
          </a:xfrm>
          <a:prstGeom prst="line">
            <a:avLst/>
          </a:prstGeom>
          <a:ln cap="sq" w="57240">
            <a:solidFill>
              <a:srgbClr val="00add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V="1">
            <a:off x="1027080" y="2490480"/>
            <a:ext cx="1800" cy="579240"/>
          </a:xfrm>
          <a:prstGeom prst="line">
            <a:avLst/>
          </a:prstGeom>
          <a:ln cap="sq" w="57240">
            <a:solidFill>
              <a:srgbClr val="00add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79440" y="3141720"/>
            <a:ext cx="1312920" cy="9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L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Głosowan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 Parlamenc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978200" y="3149640"/>
            <a:ext cx="1873080" cy="73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Utworzenie Dyrekcji ds. Reformy Budżetowe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780000" y="3141720"/>
            <a:ext cx="1800000" cy="15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1 projekt ustawy budżetowej w trybie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LOL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Cele wydajności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/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skaźniki programow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5580000" y="3135240"/>
            <a:ext cx="19432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aport Lambert/Migaud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 sprawie wdrożenia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LOL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006 :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1 ustawa budżetowa w trybie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LOLF &amp;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debata parlamentar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7451640" y="3135240"/>
            <a:ext cx="169236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1 roczne sprawozdania wydajnoś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certyfikacja rachunków przez Trybunał Obrachunkow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596360" y="1916280"/>
            <a:ext cx="7920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00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6372360" y="2490480"/>
            <a:ext cx="1440" cy="579240"/>
          </a:xfrm>
          <a:prstGeom prst="line">
            <a:avLst/>
          </a:prstGeom>
          <a:ln cap="sq" w="57240">
            <a:solidFill>
              <a:srgbClr val="00add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900000" y="5589720"/>
            <a:ext cx="2667240" cy="6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1 etap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budowanie podwal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073400" y="5589720"/>
            <a:ext cx="1722600" cy="6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2 etap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:</a:t>
            </a:r>
            <a:r>
              <a:rPr b="0" lang="fr-FR" sz="1800" spc="-1" strike="noStrike">
                <a:solidFill>
                  <a:srgbClr val="000000"/>
                </a:solidFill>
                <a:latin typeface="Garamond"/>
                <a:ea typeface="ＭＳ Ｐゴシック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prefiguracj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659640" y="5589720"/>
            <a:ext cx="1890720" cy="6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3 etap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:</a:t>
            </a:r>
            <a:r>
              <a:rPr b="0" lang="fr-FR" sz="1800" spc="-1" strike="noStrike">
                <a:solidFill>
                  <a:srgbClr val="000000"/>
                </a:solidFill>
                <a:latin typeface="Garamond"/>
                <a:ea typeface="ＭＳ Ｐゴシック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wdrożenie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rot="5400000">
            <a:off x="2019240" y="4173480"/>
            <a:ext cx="431640" cy="2520720"/>
          </a:xfrm>
          <a:custGeom>
            <a:avLst/>
            <a:gdLst>
              <a:gd name="textAreaLeft" fmla="*/ 275760 w 431640"/>
              <a:gd name="textAreaRight" fmla="*/ 432000 w 431640"/>
              <a:gd name="textAreaTop" fmla="*/ 65520 h 2520720"/>
              <a:gd name="textAreaBottom" fmla="*/ 2455200 h 252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28440">
            <a:solidFill>
              <a:srgbClr val="009e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rot="5400000">
            <a:off x="4754520" y="4173480"/>
            <a:ext cx="431640" cy="2520720"/>
          </a:xfrm>
          <a:custGeom>
            <a:avLst/>
            <a:gdLst>
              <a:gd name="textAreaLeft" fmla="*/ 275760 w 431640"/>
              <a:gd name="textAreaRight" fmla="*/ 432000 w 431640"/>
              <a:gd name="textAreaTop" fmla="*/ 65520 h 2520720"/>
              <a:gd name="textAreaBottom" fmla="*/ 2455200 h 252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28440">
            <a:solidFill>
              <a:srgbClr val="009e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rot="5400000">
            <a:off x="7418160" y="4173480"/>
            <a:ext cx="431640" cy="2521080"/>
          </a:xfrm>
          <a:custGeom>
            <a:avLst/>
            <a:gdLst>
              <a:gd name="textAreaLeft" fmla="*/ 275760 w 431640"/>
              <a:gd name="textAreaRight" fmla="*/ 432000 w 431640"/>
              <a:gd name="textAreaTop" fmla="*/ 65520 h 2521080"/>
              <a:gd name="textAreaBottom" fmla="*/ 2455560 h 252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28440">
            <a:solidFill>
              <a:srgbClr val="009e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372360" y="2492280"/>
            <a:ext cx="252072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Nowa agencja zarządzania systemami informacyjnym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766954-0D6B-4A3C-9B25-0742792D29C7}" type="slidenum">
              <a:t>27</a:t>
            </a:fld>
          </a:p>
        </p:txBody>
      </p:sp>
    </p:spTree>
  </p:cSld>
  <p:transition spd="med"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Pilotaż reformy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pilotaż zapewnia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minister finansów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27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utworzenie dedykowanej struktury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: </a:t>
            </a: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dyrekcja ds. reformy budżetowej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dyrekcja projektu utworzona na okres ograniczony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: 50 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urzędników wysokiego szczebla wspieranych przez konsultantów celem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: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zdefiniowania nowych reguł budżetowo-księgowych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we współpracy dyrekcji ds. budżetu i rachunkowości publicznej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zapewnienia międzyresortowego pilotażu reformy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komitet dyrektorów finansowych ministerstw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, forum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kierowników programu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animowanie lokalnych komitetów ds. reformy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…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27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Mapa drogowa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kalendarz, kamienie milowe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27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stała konsultacje z komisjami ds. finansów w </a:t>
            </a:r>
            <a:r>
              <a:rPr b="1" lang="fr-FR" sz="2200" spc="-1" strike="noStrike">
                <a:solidFill>
                  <a:srgbClr val="4d4d4d"/>
                </a:solidFill>
                <a:latin typeface="Arial"/>
              </a:rPr>
              <a:t>Parl</a:t>
            </a: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a</a:t>
            </a:r>
            <a:r>
              <a:rPr b="1" lang="fr-FR" sz="2200" spc="-1" strike="noStrike">
                <a:solidFill>
                  <a:srgbClr val="4d4d4d"/>
                </a:solidFill>
                <a:latin typeface="Arial"/>
              </a:rPr>
              <a:t>men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cie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AB2383-2AB9-4728-9418-C69CED7B1928}" type="slidenum">
              <a:t>28</a:t>
            </a:fld>
          </a:p>
        </p:txBody>
      </p:sp>
    </p:spTree>
  </p:cSld>
  <p:transition spd="med"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Nauki płynące z wdrażania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92792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-284040" algn="just">
              <a:spcBef>
                <a:spcPts val="137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853920"/>
                <a:tab algn="l" pos="1768320"/>
                <a:tab algn="l" pos="2682720"/>
                <a:tab algn="l" pos="3597120"/>
                <a:tab algn="l" pos="4511520"/>
                <a:tab algn="l" pos="5425920"/>
                <a:tab algn="l" pos="6340320"/>
                <a:tab algn="l" pos="7254720"/>
                <a:tab algn="l" pos="8169120"/>
                <a:tab algn="l" pos="9083520"/>
                <a:tab algn="l" pos="999792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konieczność zaangażowania na najwyższym szczeblu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wsparcie polityczne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284040" indent="-284040" algn="just">
              <a:spcBef>
                <a:spcPts val="137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853920"/>
                <a:tab algn="l" pos="1768320"/>
                <a:tab algn="l" pos="2682720"/>
                <a:tab algn="l" pos="3597120"/>
                <a:tab algn="l" pos="4511520"/>
                <a:tab algn="l" pos="5425920"/>
                <a:tab algn="l" pos="6340320"/>
                <a:tab algn="l" pos="7254720"/>
                <a:tab algn="l" pos="8169120"/>
                <a:tab algn="l" pos="9083520"/>
                <a:tab algn="l" pos="999792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kształcenie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menedżerów publicznych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w sferze kultury odpowiedzialności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284040" indent="-284040" algn="just">
              <a:spcBef>
                <a:spcPts val="137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853920"/>
                <a:tab algn="l" pos="1768320"/>
                <a:tab algn="l" pos="2682720"/>
                <a:tab algn="l" pos="3597120"/>
                <a:tab algn="l" pos="4511520"/>
                <a:tab algn="l" pos="5425920"/>
                <a:tab algn="l" pos="6340320"/>
                <a:tab algn="l" pos="7254720"/>
                <a:tab algn="l" pos="8169120"/>
                <a:tab algn="l" pos="9083520"/>
                <a:tab algn="l" pos="9997920"/>
                <a:tab algn="l" pos="10333080"/>
                <a:tab algn="l" pos="10782360"/>
              </a:tabLst>
            </a:pP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kształcenie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niezbędne na szczeblu ministerstw dla wszystkich pracowników,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niezależnie od ich poziomu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 (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kształcenie instruktorów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284040" indent="-284040" algn="just">
              <a:spcBef>
                <a:spcPts val="137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853920"/>
                <a:tab algn="l" pos="1768320"/>
                <a:tab algn="l" pos="2682720"/>
                <a:tab algn="l" pos="3597120"/>
                <a:tab algn="l" pos="4511520"/>
                <a:tab algn="l" pos="5425920"/>
                <a:tab algn="l" pos="6340320"/>
                <a:tab algn="l" pos="7254720"/>
                <a:tab algn="l" pos="8169120"/>
                <a:tab algn="l" pos="9083520"/>
                <a:tab algn="l" pos="999792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korzystanie z możliwości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eksperymentowania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celem przyswojenia sobie reformy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284040" indent="-284040" algn="just">
              <a:spcBef>
                <a:spcPts val="137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853920"/>
                <a:tab algn="l" pos="1768320"/>
                <a:tab algn="l" pos="2682720"/>
                <a:tab algn="l" pos="3597120"/>
                <a:tab algn="l" pos="4511520"/>
                <a:tab algn="l" pos="5425920"/>
                <a:tab algn="l" pos="6340320"/>
                <a:tab algn="l" pos="7254720"/>
                <a:tab algn="l" pos="8169120"/>
                <a:tab algn="l" pos="9083520"/>
                <a:tab algn="l" pos="9997920"/>
                <a:tab algn="l" pos="10333080"/>
                <a:tab algn="l" pos="10782360"/>
              </a:tabLst>
            </a:pP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komunikacja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zewnętrzna i wewnętrzna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284040" indent="-284040" algn="just">
              <a:spcBef>
                <a:spcPts val="137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853920"/>
                <a:tab algn="l" pos="1768320"/>
                <a:tab algn="l" pos="2682720"/>
                <a:tab algn="l" pos="3597120"/>
                <a:tab algn="l" pos="4511520"/>
                <a:tab algn="l" pos="5425920"/>
                <a:tab algn="l" pos="6340320"/>
                <a:tab algn="l" pos="7254720"/>
                <a:tab algn="l" pos="8169120"/>
                <a:tab algn="l" pos="9083520"/>
                <a:tab algn="l" pos="999792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konieczne napięcie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kalendarzowe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DB5105-4A49-4CEA-B350-EE71ED9B1629}" type="slidenum">
              <a:t>29</a:t>
            </a:fld>
          </a:p>
        </p:txBody>
      </p:sp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3000" spc="-1" strike="noStrike">
                <a:solidFill>
                  <a:srgbClr val="ffffff"/>
                </a:solidFill>
                <a:latin typeface="Arial"/>
              </a:rPr>
              <a:t>LOLF </a:t>
            </a: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musi zaspokajać oczekiwania</a:t>
            </a:r>
            <a:r>
              <a:rPr b="1" lang="fr-FR" sz="3000" spc="-1" strike="noStrike">
                <a:solidFill>
                  <a:srgbClr val="ffffff"/>
                </a:solidFill>
                <a:latin typeface="Arial"/>
              </a:rPr>
              <a:t> ….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971720" y="1471680"/>
            <a:ext cx="344520" cy="372960"/>
          </a:xfrm>
          <a:prstGeom prst="downArrow">
            <a:avLst>
              <a:gd name="adj1" fmla="val 50000"/>
              <a:gd name="adj2" fmla="val 27064"/>
            </a:avLst>
          </a:prstGeom>
          <a:solidFill>
            <a:srgbClr val="000099"/>
          </a:solidFill>
          <a:ln cap="sq" w="316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98560" y="1879560"/>
            <a:ext cx="2519280" cy="207000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900" spc="-1" strike="noStrike">
                <a:solidFill>
                  <a:srgbClr val="000099"/>
                </a:solidFill>
                <a:latin typeface="Arial"/>
              </a:rPr>
              <a:t>radnych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55640" y="3933720"/>
            <a:ext cx="2806560" cy="26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1160" indent="-281160">
              <a:lnSpc>
                <a:spcPct val="10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81160"/>
                <a:tab algn="l" pos="1195560"/>
                <a:tab algn="l" pos="2109960"/>
                <a:tab algn="l" pos="3024360"/>
                <a:tab algn="l" pos="3938760"/>
                <a:tab algn="l" pos="4853160"/>
                <a:tab algn="l" pos="5767560"/>
                <a:tab algn="l" pos="6681960"/>
                <a:tab algn="l" pos="7596360"/>
                <a:tab algn="l" pos="8510760"/>
                <a:tab algn="l" pos="9425160"/>
                <a:tab algn="l" pos="1033956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 Narrow"/>
              </a:rPr>
              <a:t>Zwiększona czytelność budżetu i przejrzystość wykonan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112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81160"/>
                <a:tab algn="l" pos="1195560"/>
                <a:tab algn="l" pos="2109960"/>
                <a:tab algn="l" pos="3024360"/>
                <a:tab algn="l" pos="3938760"/>
                <a:tab algn="l" pos="4853160"/>
                <a:tab algn="l" pos="5767560"/>
                <a:tab algn="l" pos="6681960"/>
                <a:tab algn="l" pos="7596360"/>
                <a:tab algn="l" pos="8510760"/>
                <a:tab algn="l" pos="9425160"/>
                <a:tab algn="l" pos="1033956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 Narrow"/>
              </a:rPr>
              <a:t>Lepsze przeznaczanie zasobów na realizację polityk publiczny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467480" y="1471680"/>
            <a:ext cx="344520" cy="372960"/>
          </a:xfrm>
          <a:prstGeom prst="downArrow">
            <a:avLst>
              <a:gd name="adj1" fmla="val 50000"/>
              <a:gd name="adj2" fmla="val 27064"/>
            </a:avLst>
          </a:prstGeom>
          <a:solidFill>
            <a:srgbClr val="000099"/>
          </a:solidFill>
          <a:ln cap="sq" w="316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386400" y="1879560"/>
            <a:ext cx="2519640" cy="207000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900" spc="-1" strike="noStrike">
                <a:solidFill>
                  <a:srgbClr val="000099"/>
                </a:solidFill>
                <a:latin typeface="Arial"/>
              </a:rPr>
              <a:t>urzędników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443640" y="3930480"/>
            <a:ext cx="252108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4040" indent="-284040">
              <a:lnSpc>
                <a:spcPct val="10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84040"/>
                <a:tab algn="l" pos="1198440"/>
                <a:tab algn="l" pos="2112840"/>
                <a:tab algn="l" pos="3027240"/>
                <a:tab algn="l" pos="3941640"/>
                <a:tab algn="l" pos="4856040"/>
                <a:tab algn="l" pos="5770440"/>
                <a:tab algn="l" pos="6684840"/>
                <a:tab algn="l" pos="7599240"/>
                <a:tab algn="l" pos="8513640"/>
                <a:tab algn="l" pos="9428040"/>
                <a:tab algn="l" pos="1034244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 Narrow"/>
              </a:rPr>
              <a:t>Większa swoboda i wzmożona odpowiedzialność aktorów administracji</a:t>
            </a:r>
            <a:r>
              <a:rPr b="0" lang="fr-FR" sz="1800" spc="-1" strike="noStrike">
                <a:solidFill>
                  <a:srgbClr val="4d4d4d"/>
                </a:solidFill>
                <a:latin typeface="Arial Narro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10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84040"/>
                <a:tab algn="l" pos="1198440"/>
                <a:tab algn="l" pos="2112840"/>
                <a:tab algn="l" pos="3027240"/>
                <a:tab algn="l" pos="3941640"/>
                <a:tab algn="l" pos="4856040"/>
                <a:tab algn="l" pos="5770440"/>
                <a:tab algn="l" pos="6684840"/>
                <a:tab algn="l" pos="7599240"/>
                <a:tab algn="l" pos="8513640"/>
                <a:tab algn="l" pos="9428040"/>
                <a:tab algn="l" pos="1034244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 Narrow"/>
              </a:rPr>
              <a:t>Jasne ce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713120" y="1471680"/>
            <a:ext cx="344520" cy="372960"/>
          </a:xfrm>
          <a:prstGeom prst="downArrow">
            <a:avLst>
              <a:gd name="adj1" fmla="val 50000"/>
              <a:gd name="adj2" fmla="val 27064"/>
            </a:avLst>
          </a:prstGeom>
          <a:solidFill>
            <a:srgbClr val="000099"/>
          </a:solidFill>
          <a:ln cap="sq" w="316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492360" y="3933720"/>
            <a:ext cx="2746440" cy="29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4040" indent="-284040">
              <a:lnSpc>
                <a:spcPct val="10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84040"/>
                <a:tab algn="l" pos="1198440"/>
                <a:tab algn="l" pos="2112840"/>
                <a:tab algn="l" pos="3027240"/>
                <a:tab algn="l" pos="3941640"/>
                <a:tab algn="l" pos="4856040"/>
                <a:tab algn="l" pos="5770440"/>
                <a:tab algn="l" pos="6684840"/>
                <a:tab algn="l" pos="7599240"/>
                <a:tab algn="l" pos="8513640"/>
                <a:tab algn="l" pos="9428040"/>
                <a:tab algn="l" pos="1034244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 Narrow"/>
              </a:rPr>
              <a:t>Obywatele</a:t>
            </a:r>
            <a:r>
              <a:rPr b="0" lang="fr-FR" sz="1800" spc="-1" strike="noStrike">
                <a:solidFill>
                  <a:srgbClr val="4d4d4d"/>
                </a:solidFill>
                <a:latin typeface="Arial Narrow"/>
              </a:rPr>
              <a:t> : </a:t>
            </a:r>
            <a:r>
              <a:rPr b="0" lang="pl-PL" sz="1800" spc="-1" strike="noStrike">
                <a:solidFill>
                  <a:srgbClr val="4d4d4d"/>
                </a:solidFill>
                <a:latin typeface="Arial Narrow"/>
              </a:rPr>
              <a:t>lepsze rozumienie wykorzystania podatkó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 algn="just">
              <a:lnSpc>
                <a:spcPct val="10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84040"/>
                <a:tab algn="l" pos="1198440"/>
                <a:tab algn="l" pos="2112840"/>
                <a:tab algn="l" pos="3027240"/>
                <a:tab algn="l" pos="3941640"/>
                <a:tab algn="l" pos="4856040"/>
                <a:tab algn="l" pos="5770440"/>
                <a:tab algn="l" pos="6684840"/>
                <a:tab algn="l" pos="7599240"/>
                <a:tab algn="l" pos="8513640"/>
                <a:tab algn="l" pos="9428040"/>
                <a:tab algn="l" pos="1034244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 Narrow"/>
              </a:rPr>
              <a:t>Użytkownicy</a:t>
            </a:r>
            <a:r>
              <a:rPr b="0" lang="fr-FR" sz="1800" spc="-1" strike="noStrike">
                <a:solidFill>
                  <a:srgbClr val="4d4d4d"/>
                </a:solidFill>
                <a:latin typeface="Arial Narrow"/>
              </a:rPr>
              <a:t> : </a:t>
            </a:r>
            <a:r>
              <a:rPr b="0" lang="pl-PL" sz="1800" spc="-1" strike="noStrike">
                <a:solidFill>
                  <a:srgbClr val="4d4d4d"/>
                </a:solidFill>
                <a:latin typeface="Arial Narrow"/>
              </a:rPr>
              <a:t>lepsze dostosowanie służb publicznych do potrze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10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84040"/>
                <a:tab algn="l" pos="1198440"/>
                <a:tab algn="l" pos="2112840"/>
                <a:tab algn="l" pos="3027240"/>
                <a:tab algn="l" pos="3941640"/>
                <a:tab algn="l" pos="4856040"/>
                <a:tab algn="l" pos="5770440"/>
                <a:tab algn="l" pos="6684840"/>
                <a:tab algn="l" pos="7599240"/>
                <a:tab algn="l" pos="8513640"/>
                <a:tab algn="l" pos="9428040"/>
                <a:tab algn="l" pos="1034244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 Narrow"/>
              </a:rPr>
              <a:t>podatnicy</a:t>
            </a:r>
            <a:r>
              <a:rPr b="0" lang="fr-FR" sz="1800" spc="-1" strike="noStrike">
                <a:solidFill>
                  <a:srgbClr val="4d4d4d"/>
                </a:solidFill>
                <a:latin typeface="Arial Narrow"/>
              </a:rPr>
              <a:t> : </a:t>
            </a:r>
            <a:r>
              <a:rPr b="0" lang="pl-PL" sz="1800" spc="-1" strike="noStrike">
                <a:solidFill>
                  <a:srgbClr val="4d4d4d"/>
                </a:solidFill>
                <a:latin typeface="Arial Narrow"/>
              </a:rPr>
              <a:t>lepsze wykorzystanie podatkó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645000" y="1879560"/>
            <a:ext cx="2519280" cy="207000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000099"/>
                </a:solidFill>
                <a:latin typeface="Arial Narrow"/>
              </a:rPr>
              <a:t>obywatel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056CED-E00E-47AE-80C3-FD969D5E8BD3}" type="slidenum">
              <a:t>3</a:t>
            </a:fld>
          </a:p>
        </p:txBody>
      </p:sp>
    </p:spTree>
  </p:cSld>
  <p:transition spd="med"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Pierwsze wyniki zachęcając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Francj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dotrzymała terminów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ytyczonych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spcBef>
                <a:spcPts val="1125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1 ustawa budżetowa przyjęta w trybie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LOLF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w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2006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1 rachunki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2006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certyfikowane przez Trybunał Obrachunkowy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narodziny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nowej formy odpowiedzialnośc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zachęcającej resorty do redefinicji celów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delegując odpowiedzialność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nowy system zachęca do poprawy jakośc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sługi publicznej oraz lepszego wykorzystania zasobów publicznych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otwarci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ziałów operacyjnych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finansowych i zasobów ludzkich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rzeczywiste wzbogaceni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dialogu zarządczego,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ale przełożenie na poprawę wydajności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E502FF-D431-40B3-942D-85361C97D7B4}" type="slidenum">
              <a:t>30</a:t>
            </a:fld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Mimo trudnych początków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faza nauk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: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nowe standardy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nowe narzędzi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nowy kalendarz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wciąż jeszcze mały margines manewru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: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słaby rozwój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flagowanie środków przez instancje administracji centralnej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…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obciążenie pracą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bardziej złożone i większ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ięcej informacj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procedur budżetowania wydatków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itd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.)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obawy dotyczące dyspozycyjności i dokładności niektórych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narzędz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zwłaszcza zintegrowanych systemów zarządczych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.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Nierozstrzygnięta debata na temat podziału zysków produktywnośc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(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mało umów wieloletnich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250"/>
              </a:spcBef>
              <a:buClr>
                <a:srgbClr val="a50021"/>
              </a:buClr>
              <a:buFont typeface="Wingdings 3" charset="2"/>
              <a:buChar char="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Problem stosowania reformy w okresie deficytu budżetowego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CA9474-ACC4-4A2F-912E-277A0DF8D229}" type="slidenum">
              <a:t>31</a:t>
            </a:fld>
          </a:p>
        </p:txBody>
      </p:sp>
    </p:spTree>
  </p:cSld>
  <p:transition spd="med"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Wyzwania długoterminow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92792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90000"/>
              </a:lnSpc>
              <a:spcBef>
                <a:spcPts val="1500"/>
              </a:spcBef>
              <a:buClr>
                <a:srgbClr val="a50021"/>
              </a:buClr>
              <a:buFont typeface="Wingdings 3" charset="2"/>
              <a:buChar char="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4d4d4d"/>
                </a:solidFill>
                <a:latin typeface="Arial"/>
              </a:rPr>
              <a:t>Wyzwanie polityczne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 : 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rzeczywista rola Parlamentu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1500"/>
              </a:spcBef>
              <a:buClr>
                <a:srgbClr val="a50021"/>
              </a:buClr>
              <a:buFont typeface="Wingdings 3" charset="2"/>
              <a:buChar char="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4d4d4d"/>
                </a:solidFill>
                <a:latin typeface="Arial"/>
              </a:rPr>
              <a:t>Wyzwanie administracyjne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 :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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spójność zasięgu ważnych programów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(100)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oraz kompetencje administracji centralnej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(200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dyrekcji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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Relacje pomiędzy administracją centralną a działami zdekoncentrowanymi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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Relacje między aktorami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: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minister finansów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/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resorty zarządzające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;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kierownicy programów operacyjnych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/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dyrekcje wspierające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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Zachęty do osiągania wyników i poprawy zarządzania zasobami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ludzkimi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ścieżka zawodowa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płace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bonifikaty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itd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.)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1500"/>
              </a:spcBef>
              <a:buClr>
                <a:srgbClr val="a50021"/>
              </a:buClr>
              <a:buFont typeface="Wingdings 3" charset="2"/>
              <a:buChar char="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4d4d4d"/>
                </a:solidFill>
                <a:latin typeface="Arial"/>
              </a:rPr>
              <a:t>Wyzwanie kulturowe</a:t>
            </a:r>
            <a:r>
              <a:rPr b="1" lang="fr-FR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: 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przejście od kultury środków i prawidłowości do kultury wyników 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1500"/>
              </a:spcBef>
              <a:buClr>
                <a:srgbClr val="a50021"/>
              </a:buClr>
              <a:buFont typeface="Wingdings 3" charset="2"/>
              <a:buChar char="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4d4d4d"/>
                </a:solidFill>
                <a:latin typeface="Arial"/>
              </a:rPr>
              <a:t>Wyzwanie techniczne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 : 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usprawnić systemy informacji 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na rzecz jakości i wiarygodności danych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1"/>
          <a:srcRect l="11527" t="21188" r="11121" b="21855"/>
          <a:stretch/>
        </p:blipFill>
        <p:spPr>
          <a:xfrm>
            <a:off x="2133720" y="6454800"/>
            <a:ext cx="914400" cy="326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92" name=""/>
          <p:cNvGraphicFramePr/>
          <p:nvPr/>
        </p:nvGraphicFramePr>
        <p:xfrm>
          <a:off x="6858000" y="6472080"/>
          <a:ext cx="838080" cy="309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9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0" y="6472080"/>
                    <a:ext cx="838080" cy="3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4" name=""/>
          <p:cNvSpPr/>
          <p:nvPr/>
        </p:nvSpPr>
        <p:spPr>
          <a:xfrm>
            <a:off x="2514600" y="6400800"/>
            <a:ext cx="4876920" cy="5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900" spc="-1" strike="noStrike">
                <a:solidFill>
                  <a:srgbClr val="000000"/>
                </a:solidFill>
                <a:latin typeface="Arial"/>
              </a:rPr>
              <a:t>Konferencja współfinansowana przez Unię Europejską w ramach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900" spc="-1" strike="noStrike">
                <a:solidFill>
                  <a:srgbClr val="000000"/>
                </a:solidFill>
                <a:latin typeface="Arial"/>
              </a:rPr>
              <a:t>Europejskiego Funduszu Społeczneg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AA883B-B434-443A-BE6E-4B53600C5378}" type="slidenum">
              <a:t>32</a:t>
            </a:fld>
          </a:p>
        </p:txBody>
      </p:sp>
    </p:spTree>
  </p:cSld>
  <p:transition spd="med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Kilka reform w uroczystym tekści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spcBef>
                <a:spcPts val="1250"/>
              </a:spcBef>
              <a:buClr>
                <a:srgbClr val="a50021"/>
              </a:buClr>
              <a:buFont typeface="Wingdings 3" charset="2"/>
              <a:buChar char="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Now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nomenklatura budżetow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przedmiotem dyskusj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głosowanie w sprawie wykonania ustaw budżetowych w celu prezentacj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celowości wydatków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250"/>
              </a:spcBef>
              <a:buClr>
                <a:srgbClr val="a50021"/>
              </a:buClr>
              <a:buFont typeface="Wingdings 3" charset="2"/>
              <a:buChar char="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Budżet ukierunkowany na wynik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yposażony w cele i wskaźnik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wyników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celem umożliwienia lepszego zarządzania publicznego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250"/>
              </a:spcBef>
              <a:buClr>
                <a:srgbClr val="a50021"/>
              </a:buClr>
              <a:buFont typeface="Wingdings 3" charset="2"/>
              <a:buChar char="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Bardziej precyzyjne i przejrzyste rachunk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bazujące na 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rachunkowości stwierdzonych praw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 («accrual»)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oraz analizie kosztów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ające zarządzającym nowe narzędzia zarządzania wydatkami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250"/>
              </a:spcBef>
              <a:buClr>
                <a:srgbClr val="a50021"/>
              </a:buClr>
              <a:buFont typeface="Wingdings 3" charset="2"/>
              <a:buChar char="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Nowy system zarządzania budżetem i procedury budżetowej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: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kolegialność rządowa i aktywniejsza rol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Parl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a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ment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u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 zezwalaniu na wydatki oraz ich kontroli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B57266-ED28-4418-B464-CAAF44607B75}" type="slidenum">
              <a:t>4</a:t>
            </a:fld>
          </a:p>
        </p:txBody>
      </p:sp>
    </p:spTree>
  </p:cSld>
  <p:transition spd="med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Nowa architektura budżetowa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3249720" y="2209320"/>
            <a:ext cx="5892840" cy="3179520"/>
            <a:chOff x="3249720" y="2209320"/>
            <a:chExt cx="5892840" cy="3179520"/>
          </a:xfrm>
        </p:grpSpPr>
        <p:sp>
          <p:nvSpPr>
            <p:cNvPr id="116" name=""/>
            <p:cNvSpPr/>
            <p:nvPr/>
          </p:nvSpPr>
          <p:spPr>
            <a:xfrm>
              <a:off x="5238720" y="2209320"/>
              <a:ext cx="2306520" cy="75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4000" spc="-1" strike="noStrike">
                  <a:solidFill>
                    <a:srgbClr val="000000"/>
                  </a:solidFill>
                  <a:latin typeface="Arial"/>
                </a:rPr>
                <a:t>Zadanie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7" name=""/>
            <p:cNvCxnSpPr/>
            <p:nvPr/>
          </p:nvCxnSpPr>
          <p:spPr>
            <a:xfrm rot="5400000">
              <a:off x="5938560" y="3431520"/>
              <a:ext cx="926640" cy="6840"/>
            </a:xfrm>
            <a:prstGeom prst="bentConnector3">
              <a:avLst>
                <a:gd name="adj1" fmla="val 49980"/>
              </a:avLst>
            </a:prstGeom>
            <a:ln cap="sq" w="76320">
              <a:solidFill>
                <a:srgbClr val="000099"/>
              </a:solidFill>
              <a:miter/>
            </a:ln>
          </p:spPr>
        </p:cxnSp>
        <p:sp>
          <p:nvSpPr>
            <p:cNvPr id="118" name=""/>
            <p:cNvSpPr/>
            <p:nvPr/>
          </p:nvSpPr>
          <p:spPr>
            <a:xfrm>
              <a:off x="3630600" y="3889440"/>
              <a:ext cx="1522440" cy="4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Arial"/>
                </a:rPr>
                <a:t>Progra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624640" y="3889440"/>
              <a:ext cx="1523880" cy="4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Arial"/>
                </a:rPr>
                <a:t>Progra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620120" y="3889440"/>
              <a:ext cx="1522440" cy="4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Arial"/>
                </a:rPr>
                <a:t>Progra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1" name=""/>
            <p:cNvCxnSpPr>
              <a:stCxn id="116" idx="2"/>
              <a:endCxn id="118" idx="0"/>
            </p:cNvCxnSpPr>
            <p:nvPr/>
          </p:nvCxnSpPr>
          <p:spPr>
            <a:xfrm rot="5400000">
              <a:off x="4929120" y="2424600"/>
              <a:ext cx="924840" cy="2002680"/>
            </a:xfrm>
            <a:prstGeom prst="bentConnector3">
              <a:avLst>
                <a:gd name="adj1" fmla="val 50000"/>
              </a:avLst>
            </a:prstGeom>
            <a:ln cap="sq" w="76320">
              <a:solidFill>
                <a:srgbClr val="000099"/>
              </a:solidFill>
              <a:miter/>
            </a:ln>
          </p:spPr>
        </p:cxnSp>
        <p:cxnSp>
          <p:nvCxnSpPr>
            <p:cNvPr id="122" name=""/>
            <p:cNvCxnSpPr>
              <a:stCxn id="116" idx="2"/>
              <a:endCxn id="120" idx="0"/>
            </p:cNvCxnSpPr>
            <p:nvPr/>
          </p:nvCxnSpPr>
          <p:spPr>
            <a:xfrm flipH="1" rot="16200000">
              <a:off x="6923160" y="2431800"/>
              <a:ext cx="924840" cy="1987920"/>
            </a:xfrm>
            <a:prstGeom prst="bentConnector3">
              <a:avLst>
                <a:gd name="adj1" fmla="val 50000"/>
              </a:avLst>
            </a:prstGeom>
            <a:ln cap="sq" w="76320">
              <a:solidFill>
                <a:srgbClr val="000099"/>
              </a:solidFill>
              <a:miter/>
            </a:ln>
          </p:spPr>
        </p:cxnSp>
        <p:sp>
          <p:nvSpPr>
            <p:cNvPr id="123" name=""/>
            <p:cNvSpPr/>
            <p:nvPr/>
          </p:nvSpPr>
          <p:spPr>
            <a:xfrm>
              <a:off x="5396040" y="5061240"/>
              <a:ext cx="90000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Działani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859200" y="5061960"/>
              <a:ext cx="87948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pl-PL" sz="1200" spc="-1" strike="noStrike">
                  <a:solidFill>
                    <a:srgbClr val="000000"/>
                  </a:solidFill>
                  <a:latin typeface="Verdana"/>
                </a:rPr>
                <a:t>Działani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621320" y="5061240"/>
              <a:ext cx="79056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Działani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249720" y="5059800"/>
              <a:ext cx="83340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Działani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7" name=""/>
            <p:cNvCxnSpPr>
              <a:stCxn id="118" idx="2"/>
              <a:endCxn id="126" idx="0"/>
            </p:cNvCxnSpPr>
            <p:nvPr/>
          </p:nvCxnSpPr>
          <p:spPr>
            <a:xfrm rot="5400000">
              <a:off x="3669480" y="4335120"/>
              <a:ext cx="719640" cy="727560"/>
            </a:xfrm>
            <a:prstGeom prst="bentConnector3">
              <a:avLst>
                <a:gd name="adj1" fmla="val 50000"/>
              </a:avLst>
            </a:prstGeom>
            <a:ln cap="sq" w="28440">
              <a:solidFill>
                <a:srgbClr val="ff9900"/>
              </a:solidFill>
              <a:miter/>
            </a:ln>
          </p:spPr>
        </p:cxnSp>
        <p:cxnSp>
          <p:nvCxnSpPr>
            <p:cNvPr id="128" name=""/>
            <p:cNvCxnSpPr>
              <a:stCxn id="118" idx="2"/>
              <a:endCxn id="124" idx="0"/>
            </p:cNvCxnSpPr>
            <p:nvPr/>
          </p:nvCxnSpPr>
          <p:spPr>
            <a:xfrm rot="5400000">
              <a:off x="4029480" y="4608360"/>
              <a:ext cx="632520" cy="94320"/>
            </a:xfrm>
            <a:prstGeom prst="bentConnector3">
              <a:avLst>
                <a:gd name="adj1" fmla="val 50000"/>
              </a:avLst>
            </a:prstGeom>
            <a:ln cap="sq" w="28440">
              <a:solidFill>
                <a:srgbClr val="ff9900"/>
              </a:solidFill>
              <a:miter/>
            </a:ln>
          </p:spPr>
        </p:cxnSp>
        <p:cxnSp>
          <p:nvCxnSpPr>
            <p:cNvPr id="129" name=""/>
            <p:cNvCxnSpPr>
              <a:stCxn id="118" idx="2"/>
              <a:endCxn id="123" idx="0"/>
            </p:cNvCxnSpPr>
            <p:nvPr/>
          </p:nvCxnSpPr>
          <p:spPr>
            <a:xfrm flipH="1" rot="16200000">
              <a:off x="4757760" y="3973320"/>
              <a:ext cx="721440" cy="1453320"/>
            </a:xfrm>
            <a:prstGeom prst="bentConnector3">
              <a:avLst>
                <a:gd name="adj1" fmla="val 49975"/>
              </a:avLst>
            </a:prstGeom>
            <a:ln cap="sq" w="28440">
              <a:solidFill>
                <a:srgbClr val="ff9900"/>
              </a:solidFill>
              <a:miter/>
            </a:ln>
          </p:spPr>
        </p:cxnSp>
        <p:cxnSp>
          <p:nvCxnSpPr>
            <p:cNvPr id="130" name=""/>
            <p:cNvCxnSpPr>
              <a:stCxn id="118" idx="2"/>
              <a:endCxn id="125" idx="0"/>
            </p:cNvCxnSpPr>
            <p:nvPr/>
          </p:nvCxnSpPr>
          <p:spPr>
            <a:xfrm flipH="1" rot="16200000">
              <a:off x="4343400" y="4387680"/>
              <a:ext cx="721440" cy="624600"/>
            </a:xfrm>
            <a:prstGeom prst="bentConnector3">
              <a:avLst>
                <a:gd name="adj1" fmla="val 49975"/>
              </a:avLst>
            </a:prstGeom>
            <a:ln cap="sq" w="28440">
              <a:solidFill>
                <a:srgbClr val="ff9900"/>
              </a:solidFill>
              <a:miter/>
            </a:ln>
          </p:spPr>
        </p:cxnSp>
      </p:grpSp>
      <p:sp>
        <p:nvSpPr>
          <p:cNvPr id="131" name=""/>
          <p:cNvSpPr/>
          <p:nvPr/>
        </p:nvSpPr>
        <p:spPr>
          <a:xfrm>
            <a:off x="609480" y="3772080"/>
            <a:ext cx="2667240" cy="1828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80880" y="4838760"/>
            <a:ext cx="2895840" cy="4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Zarządzan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10800000">
            <a:off x="611280" y="3735360"/>
            <a:ext cx="2666880" cy="419040"/>
          </a:xfrm>
          <a:prstGeom prst="triangle">
            <a:avLst>
              <a:gd name="adj" fmla="val 50000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09480" y="2171880"/>
            <a:ext cx="2667240" cy="16002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83200" y="2400480"/>
            <a:ext cx="2584800" cy="69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Dyskusja i głosowan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w Parlamenc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204560" y="3733920"/>
            <a:ext cx="1365480" cy="69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Zezwolen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Wykonan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0D37D6-B1A9-4B92-8AC8-49B3209F2F2E}" type="slidenum">
              <a:t>5</a:t>
            </a:fld>
          </a:p>
        </p:txBody>
      </p:sp>
    </p:spTree>
  </p:cSld>
  <p:transition spd="med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Misja</a:t>
            </a:r>
            <a:r>
              <a:rPr b="1" lang="fr-FR" sz="3000" spc="-1" strike="noStrike">
                <a:solidFill>
                  <a:srgbClr val="ffffff"/>
                </a:solidFill>
                <a:latin typeface="Arial"/>
              </a:rPr>
              <a:t> : </a:t>
            </a: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wyraz wyborów politycznych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11280" y="1197000"/>
            <a:ext cx="7316640" cy="540072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5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fr-FR" sz="2800" spc="-1" strike="noStrike">
                <a:solidFill>
                  <a:srgbClr val="4d4d4d"/>
                </a:solidFill>
                <a:latin typeface="Arial"/>
              </a:rPr>
              <a:t>32 </a:t>
            </a:r>
            <a:r>
              <a:rPr b="1" lang="pl-PL" sz="2800" spc="-1" strike="noStrike">
                <a:solidFill>
                  <a:srgbClr val="4d4d4d"/>
                </a:solidFill>
                <a:latin typeface="Arial"/>
              </a:rPr>
              <a:t>zadania dla budżetu ogólnego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27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Identyfikacja spójnych polityk publicznych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: «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Zadanie to obejmuje całość programów przyczyniających się do realizacji określonej polityki publicznej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»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27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To jednomyślne głosowanie w Parlamencie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Obejmuje pewien zbiór programów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Parlament może dokonywać przesunięcia środków pomiędzy poszczególnymi programami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w ramach danej misji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27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Może mieć charakter ministerialny i międzyresortowy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8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misji międzyresortowych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przykład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: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zadanie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«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Badania naukowe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»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obejmuje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6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resortów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FADF7E-0486-41FB-9D20-BBE039133D5A}" type="slidenum">
              <a:t>6</a:t>
            </a:fld>
          </a:p>
        </p:txBody>
      </p:sp>
    </p:spTree>
  </p:cSld>
  <p:transition spd="med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"/>
          <p:cNvGrpSpPr/>
          <p:nvPr/>
        </p:nvGrpSpPr>
        <p:grpSpPr>
          <a:xfrm>
            <a:off x="826920" y="1928160"/>
            <a:ext cx="7858440" cy="4674960"/>
            <a:chOff x="826920" y="1928160"/>
            <a:chExt cx="7858440" cy="4674960"/>
          </a:xfrm>
        </p:grpSpPr>
        <p:sp>
          <p:nvSpPr>
            <p:cNvPr id="140" name=""/>
            <p:cNvSpPr/>
            <p:nvPr/>
          </p:nvSpPr>
          <p:spPr>
            <a:xfrm>
              <a:off x="7153200" y="2032920"/>
              <a:ext cx="1522440" cy="99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99"/>
                  </a:solidFill>
                  <a:latin typeface="Arial"/>
                </a:rPr>
                <a:t>Szkolnictwo wyższe i badanie naukow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26920" y="1928160"/>
              <a:ext cx="6105600" cy="1209960"/>
            </a:xfrm>
            <a:prstGeom prst="rect">
              <a:avLst/>
            </a:prstGeom>
            <a:solidFill>
              <a:srgbClr val="ffffff"/>
            </a:solidFill>
            <a:ln cap="sq"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Kształcenie wyższe i badania akademicki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Życie studencki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Garamond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Garamond"/>
                </a:rPr>
                <a:t>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Wielodyscyplinarne badania naukowo-technologicz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Badania w dziedzinie zarządzania ośrodkami i zasobam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Badania kosmicz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 rot="5400000">
              <a:off x="6890400" y="2494440"/>
              <a:ext cx="298440" cy="74880"/>
            </a:xfrm>
            <a:prstGeom prst="triangle">
              <a:avLst>
                <a:gd name="adj" fmla="val 50000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26920" y="3382560"/>
              <a:ext cx="6105600" cy="357480"/>
            </a:xfrm>
            <a:prstGeom prst="rect">
              <a:avLst/>
            </a:prstGeom>
            <a:solidFill>
              <a:srgbClr val="ffffff"/>
            </a:solidFill>
            <a:ln cap="sq"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Badania przemysłow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153200" y="3138120"/>
              <a:ext cx="1522440" cy="84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99"/>
                  </a:solidFill>
                  <a:latin typeface="Arial"/>
                </a:rPr>
                <a:t>Ekonomia, przemysł, zatrudnieni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rot="5400000">
              <a:off x="6890400" y="3521880"/>
              <a:ext cx="298440" cy="74880"/>
            </a:xfrm>
            <a:prstGeom prst="triangle">
              <a:avLst>
                <a:gd name="adj" fmla="val 50000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826920" y="3995640"/>
              <a:ext cx="6105600" cy="783720"/>
            </a:xfrm>
            <a:prstGeom prst="rect">
              <a:avLst/>
            </a:prstGeom>
            <a:solidFill>
              <a:srgbClr val="ffffff"/>
            </a:solidFill>
            <a:ln cap="sq"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Garamond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Garamond"/>
                </a:rPr>
                <a:t>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Badania w dziedzinie zagrożeń i zanieczyszczeń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Badania w dziedzinie energetyk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Badania w dziedzinie transportu, infrastruktury i mieszkalnictw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153200" y="3889080"/>
              <a:ext cx="1522440" cy="99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99"/>
                  </a:solidFill>
                  <a:latin typeface="Arial"/>
                </a:rPr>
                <a:t>Ekologia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99"/>
                  </a:solidFill>
                  <a:latin typeface="Arial"/>
                </a:rPr>
                <a:t>Trwały rozwój i zagospodarowani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 rot="5400000">
              <a:off x="6890400" y="4350600"/>
              <a:ext cx="298440" cy="74880"/>
            </a:xfrm>
            <a:prstGeom prst="triangle">
              <a:avLst>
                <a:gd name="adj" fmla="val 50000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153200" y="5016600"/>
              <a:ext cx="1522440" cy="35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99"/>
                  </a:solidFill>
                  <a:latin typeface="Arial"/>
                </a:rPr>
                <a:t>Obron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26920" y="5014800"/>
              <a:ext cx="6105600" cy="357480"/>
            </a:xfrm>
            <a:prstGeom prst="rect">
              <a:avLst/>
            </a:prstGeom>
            <a:solidFill>
              <a:srgbClr val="ffffff"/>
            </a:solidFill>
            <a:ln cap="sq"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Garamond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Garamond"/>
                </a:rPr>
                <a:t>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Badania dualne</a:t>
              </a: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 (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cywilne i wojskowe</a:t>
              </a: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rot="5400000">
              <a:off x="6890400" y="5157360"/>
              <a:ext cx="298440" cy="74880"/>
            </a:xfrm>
            <a:prstGeom prst="triangle">
              <a:avLst>
                <a:gd name="adj" fmla="val 50000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26920" y="6245640"/>
              <a:ext cx="6105600" cy="357480"/>
            </a:xfrm>
            <a:prstGeom prst="rect">
              <a:avLst/>
            </a:prstGeom>
            <a:solidFill>
              <a:srgbClr val="ffffff"/>
            </a:solidFill>
            <a:ln cap="sq"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Garamond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Garamond"/>
                </a:rPr>
                <a:t>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Nauczanie wyższe i badania w dziedzinie rolnictw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153200" y="6245640"/>
              <a:ext cx="1522440" cy="35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99"/>
                  </a:solidFill>
                  <a:latin typeface="Arial"/>
                </a:rPr>
                <a:t>Rolnictw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 rot="5400000">
              <a:off x="6890400" y="6389640"/>
              <a:ext cx="298440" cy="74880"/>
            </a:xfrm>
            <a:prstGeom prst="triangle">
              <a:avLst>
                <a:gd name="adj" fmla="val 50000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162920" y="5618520"/>
              <a:ext cx="1522440" cy="35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99"/>
                  </a:solidFill>
                  <a:latin typeface="Arial"/>
                </a:rPr>
                <a:t>Kultur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36640" y="5615280"/>
              <a:ext cx="6107040" cy="357480"/>
            </a:xfrm>
            <a:prstGeom prst="rect">
              <a:avLst/>
            </a:prstGeom>
            <a:solidFill>
              <a:srgbClr val="ffffff"/>
            </a:solidFill>
            <a:ln cap="sq"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Garamond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Garamond"/>
                </a:rPr>
                <a:t>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Badania w dziedzinie kultury i kultura nauk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 rot="5400000">
              <a:off x="6899760" y="5759640"/>
              <a:ext cx="298440" cy="74520"/>
            </a:xfrm>
            <a:prstGeom prst="triangle">
              <a:avLst>
                <a:gd name="adj" fmla="val 50000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Zadanie</a:t>
            </a:r>
            <a:r>
              <a:rPr b="1" lang="fr-FR" sz="2600" spc="-1" strike="noStrike">
                <a:solidFill>
                  <a:srgbClr val="ffffff"/>
                </a:solidFill>
                <a:latin typeface="Arial"/>
              </a:rPr>
              <a:t> « </a:t>
            </a: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Badanie naukowe i szkolnictwo wyższe</a:t>
            </a:r>
            <a:r>
              <a:rPr b="1" lang="fr-FR" sz="2600" spc="-1" strike="noStrike">
                <a:solidFill>
                  <a:srgbClr val="ffffff"/>
                </a:solidFill>
                <a:latin typeface="Arial"/>
              </a:rPr>
              <a:t> »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12 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programów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 / 6 minist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erstw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3390D1-CF5A-4620-8B8A-12E832CD71EC}" type="slidenum">
              <a:t>7</a:t>
            </a:fld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Program</a:t>
            </a:r>
            <a:r>
              <a:rPr b="1" lang="fr-FR" sz="2600" spc="-1" strike="noStrike">
                <a:solidFill>
                  <a:srgbClr val="ffffff"/>
                </a:solidFill>
                <a:latin typeface="Arial"/>
              </a:rPr>
              <a:t> : </a:t>
            </a: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ramy zatwierdzania polityk publicznych i zarządzania nimi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755640" y="1557360"/>
            <a:ext cx="792792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700"/>
              </a:spcBef>
              <a:spcAft>
                <a:spcPts val="3501"/>
              </a:spcAft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fr-FR" sz="2800" spc="-1" strike="noStrike">
                <a:solidFill>
                  <a:srgbClr val="4d4d4d"/>
                </a:solidFill>
                <a:latin typeface="Arial"/>
              </a:rPr>
              <a:t>130 </a:t>
            </a:r>
            <a:r>
              <a:rPr b="1" lang="pl-PL" sz="2800" spc="-1" strike="noStrike">
                <a:solidFill>
                  <a:srgbClr val="4d4d4d"/>
                </a:solidFill>
                <a:latin typeface="Arial"/>
              </a:rPr>
              <a:t>programów dot. budżetu ogólnego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Program obejmuje środki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niezależnie od ich rodzaju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) 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przeznaczone na wdrażanie danego działania lub spójnej grupy działań</a:t>
            </a:r>
            <a:r>
              <a:rPr b="0" lang="fr-FR" sz="2400" spc="-1" strike="noStrike">
                <a:solidFill>
                  <a:srgbClr val="4d4d4d"/>
                </a:solidFill>
                <a:latin typeface="Arial"/>
              </a:rPr>
              <a:t> (600)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lnSpc>
                <a:spcPct val="90000"/>
              </a:lnSpc>
              <a:spcBef>
                <a:spcPts val="1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Podlega jednemu ministrowi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lnSpc>
                <a:spcPct val="90000"/>
              </a:lnSpc>
              <a:spcBef>
                <a:spcPts val="1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Jednostka specjalności środków i definiowania celów oraz wskaźników dot. osiąganych wyników 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lnSpc>
                <a:spcPct val="90000"/>
              </a:lnSpc>
              <a:spcBef>
                <a:spcPts val="1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Brak budżetowania analitycznego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lnSpc>
                <a:spcPct val="90000"/>
              </a:lnSpc>
              <a:spcBef>
                <a:spcPts val="1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Wymaga pilotażu, który ujawnia nowe funkcje menedżerskie 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371600" y="204840"/>
            <a:ext cx="7010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055520" y="204840"/>
            <a:ext cx="765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FF818B-A419-42A9-A697-51EE036E7B30}" type="slidenum">
              <a:t>8</a:t>
            </a:fld>
          </a:p>
        </p:txBody>
      </p:sp>
    </p:spTree>
  </p:cSld>
  <p:transition spd="med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5181480" y="2967120"/>
            <a:ext cx="3657600" cy="534960"/>
          </a:xfrm>
          <a:prstGeom prst="rect">
            <a:avLst/>
          </a:prstGeom>
          <a:solidFill>
            <a:srgbClr val="0099ff">
              <a:alpha val="50000"/>
            </a:srgbClr>
          </a:solidFill>
          <a:ln cap="sq" w="1908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5f5f5f"/>
                </a:solidFill>
                <a:latin typeface="Arial"/>
              </a:rPr>
              <a:t>Administracja penitencjar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219640" y="5445000"/>
            <a:ext cx="3619440" cy="663840"/>
          </a:xfrm>
          <a:prstGeom prst="rect">
            <a:avLst/>
          </a:prstGeom>
          <a:solidFill>
            <a:srgbClr val="0099ff">
              <a:alpha val="50000"/>
            </a:srgbClr>
          </a:solidFill>
          <a:ln cap="sq" w="1908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5f5f5f"/>
                </a:solidFill>
                <a:latin typeface="Arial"/>
              </a:rPr>
              <a:t>Prowadzenie i pilotaż</a:t>
            </a:r>
            <a:r>
              <a:rPr b="1" lang="fr-FR" sz="20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5f5f5f"/>
                </a:solidFill>
                <a:latin typeface="Arial"/>
              </a:rPr>
              <a:t>polityki w dziedzinie wymia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5f5f5f"/>
                </a:solidFill>
                <a:latin typeface="Arial"/>
              </a:rPr>
              <a:t>sprawiedliwości oraz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5f5f5f"/>
                </a:solidFill>
                <a:latin typeface="Arial"/>
              </a:rPr>
              <a:t>organów pokrewny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181480" y="2349360"/>
            <a:ext cx="3657600" cy="457200"/>
          </a:xfrm>
          <a:prstGeom prst="rect">
            <a:avLst/>
          </a:prstGeom>
          <a:solidFill>
            <a:srgbClr val="0099ff">
              <a:alpha val="50000"/>
            </a:srgbClr>
          </a:solidFill>
          <a:ln cap="sq" w="1908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5f5f5f"/>
                </a:solidFill>
                <a:latin typeface="Arial"/>
              </a:rPr>
              <a:t>Sądownictwo powszech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181480" y="3662280"/>
            <a:ext cx="3657600" cy="744480"/>
          </a:xfrm>
          <a:prstGeom prst="rect">
            <a:avLst/>
          </a:prstGeom>
          <a:solidFill>
            <a:srgbClr val="0099ff">
              <a:alpha val="50000"/>
            </a:srgbClr>
          </a:solidFill>
          <a:ln cap="sq" w="1908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5f5f5f"/>
                </a:solidFill>
                <a:latin typeface="Arial"/>
              </a:rPr>
              <a:t>Ochrona sądowa młodzież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181480" y="4567320"/>
            <a:ext cx="3657600" cy="382680"/>
          </a:xfrm>
          <a:prstGeom prst="rect">
            <a:avLst/>
          </a:prstGeom>
          <a:solidFill>
            <a:srgbClr val="0099ff">
              <a:alpha val="50000"/>
            </a:srgbClr>
          </a:solidFill>
          <a:ln cap="sq" w="1908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5f5f5f"/>
                </a:solidFill>
                <a:latin typeface="Arial"/>
              </a:rPr>
              <a:t>Dostępność prawa 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5f5f5f"/>
                </a:solidFill>
                <a:latin typeface="Arial"/>
              </a:rPr>
              <a:t>wymiaru sprawiedliwośc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Globalizacja środków</a:t>
            </a:r>
            <a:br>
              <a:rPr sz="3000"/>
            </a:b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Przykład zadania</a:t>
            </a:r>
            <a:r>
              <a:rPr b="1" lang="fr-FR" sz="2700" spc="-1" strike="noStrike">
                <a:solidFill>
                  <a:srgbClr val="ffffff"/>
                </a:solidFill>
                <a:latin typeface="Arial"/>
              </a:rPr>
              <a:t> «</a:t>
            </a:r>
            <a:r>
              <a:rPr b="1" lang="pl-PL" sz="2700" spc="-1" strike="noStrike">
                <a:solidFill>
                  <a:srgbClr val="ffffff"/>
                </a:solidFill>
                <a:latin typeface="Arial"/>
              </a:rPr>
              <a:t>wymiar sprawiedliwości</a:t>
            </a:r>
            <a:r>
              <a:rPr b="1" lang="fr-FR" sz="2700" spc="-1" strike="noStrike">
                <a:solidFill>
                  <a:srgbClr val="ffffff"/>
                </a:solidFill>
                <a:latin typeface="Arial"/>
              </a:rPr>
              <a:t>»</a:t>
            </a:r>
            <a:endParaRPr b="1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92200" y="1484280"/>
            <a:ext cx="4267080" cy="48974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a50021"/>
                </a:solidFill>
                <a:latin typeface="Arial"/>
              </a:rPr>
              <a:t>Przedtem</a:t>
            </a:r>
            <a:r>
              <a:rPr b="1" lang="fr-FR" sz="1600" spc="-1" strike="noStrike">
                <a:solidFill>
                  <a:srgbClr val="a50021"/>
                </a:solidFill>
                <a:latin typeface="Arial"/>
              </a:rPr>
              <a:t> : 30 </a:t>
            </a:r>
            <a:r>
              <a:rPr b="1" lang="pl-PL" sz="1600" spc="-1" strike="noStrike">
                <a:solidFill>
                  <a:srgbClr val="a50021"/>
                </a:solidFill>
                <a:latin typeface="Arial"/>
              </a:rPr>
              <a:t>rozdziałó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fr-FR" sz="1600" spc="-1" strike="noStrike">
                <a:solidFill>
                  <a:srgbClr val="a50021"/>
                </a:solidFill>
                <a:latin typeface="Arial"/>
              </a:rPr>
              <a:t>160 </a:t>
            </a:r>
            <a:r>
              <a:rPr b="1" lang="pl-PL" sz="1600" spc="-1" strike="noStrike">
                <a:solidFill>
                  <a:srgbClr val="a50021"/>
                </a:solidFill>
                <a:latin typeface="Arial"/>
              </a:rPr>
              <a:t>artykułów preliminarz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Tytuł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III –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Środki poszczególnych działó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96920" indent="-4680" algn="just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Kadry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 –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wynagrodzenia za prac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96920" indent="-4680" algn="just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Emeryci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 –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emerytury i zasiłk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96920" indent="-4680" algn="just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Kadra zawodowo czynna i na emeryturze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 –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obciążenia socjal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96920" indent="-4680" algn="just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Sprzęt i funkcjonowanie działó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96920" indent="-4680" algn="just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Dotacje bieżą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96920" indent="-4680" algn="just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Wydatki róż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Tytuł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IV –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Interwencje publicz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96920" indent="-4680" algn="just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Interwencje o charakterze polityczno-administracyjny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96920" indent="-4680" algn="just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Działania socjalne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 –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pomoc i solidarnoś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Tytuł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V –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Inwestycje wykonywane przez państw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96920" indent="-4680" algn="just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Wyposażenie administracji i róż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Tytuł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VI –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Dotacje inwestycyjne przyznawane przez państw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96920" indent="-4680" algn="just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Wyposażenie w dziedzinie kultury i w sferze społeczne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95840" y="3044880"/>
            <a:ext cx="380880" cy="1600200"/>
          </a:xfrm>
          <a:prstGeom prst="rightArrow">
            <a:avLst>
              <a:gd name="adj1" fmla="val 71824"/>
              <a:gd name="adj2" fmla="val 50833"/>
            </a:avLst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148360" y="1679400"/>
            <a:ext cx="36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a50021"/>
                </a:solidFill>
                <a:latin typeface="Arial"/>
              </a:rPr>
              <a:t>Potem</a:t>
            </a:r>
            <a:r>
              <a:rPr b="1" lang="fr-FR" sz="1800" spc="-1" strike="noStrike">
                <a:solidFill>
                  <a:srgbClr val="a50021"/>
                </a:solidFill>
                <a:latin typeface="Arial"/>
              </a:rPr>
              <a:t> : 5 program</a:t>
            </a:r>
            <a:r>
              <a:rPr b="1" lang="pl-PL" sz="1800" spc="-1" strike="noStrike">
                <a:solidFill>
                  <a:srgbClr val="a50021"/>
                </a:solidFill>
                <a:latin typeface="Arial"/>
              </a:rPr>
              <a:t>ó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58BBFB-B9D9-45E4-8352-3CE0D2DEF342}" type="slidenum">
              <a:t>9</a:t>
            </a:fld>
          </a:p>
        </p:txBody>
      </p:sp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0T10:25:37Z</dcterms:created>
  <dc:creator>MINEFI</dc:creator>
  <dc:description/>
  <dc:language>en-US</dc:language>
  <cp:lastModifiedBy>KAS</cp:lastModifiedBy>
  <dcterms:modified xsi:type="dcterms:W3CDTF">2009-02-05T11:33:08Z</dcterms:modified>
  <cp:revision>176</cp:revision>
  <dc:subject/>
  <dc:title>La gestion de la réforme budgétaire </dc:title>
</cp:coreProperties>
</file>