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dt" idx="10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1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C5FAB-F320-4A3C-A559-7F68BBC96CE7}" type="slidenum">
              <a:rPr b="0" lang="fr-FR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663996-2845-43B2-9A79-2E4E1E38F58B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5985FE-4157-4955-84C4-AF572D71750A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690165-8A88-47B3-8C17-5A77FCAC9602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193E95-AFCC-403F-8482-22A14344DD25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DF1375-2797-437E-9428-423843E7B8AB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18E6B2-1703-4B33-8753-B5A5B88793CE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5DFF5A-9FC3-4F00-B18C-8E2D396EE996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A2533A-BDD3-45AB-8F93-F3CE3B795226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4ABF03-39BD-4FC2-8A9C-3F9054CA6EE7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DD96C4-1B99-4FCE-A3FA-1028172AACBC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2CE3F3-71DE-4BC0-8EAB-690BDED2DEE1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D3C0D2-89F6-4CC2-9AC0-AF20FDF42E97}" type="slidenum">
              <a:rPr b="0" lang="fr-FR" sz="13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F03-D39D-463F-A4E9-DD9A4548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9241-E7CB-47A9-9108-464052FA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8F9B-EE1D-41BD-AC38-9100DB1C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2237-B2C8-4FCF-9174-372692DB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BF34-8A73-46E3-A9E3-6FBA291F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0346-AEF8-4066-AFE1-E57BBDB5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7E27-2EA2-4DB0-B786-7A69E4FF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0171-3715-46FC-936E-2A30B92C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B9BA-4566-4C92-BA46-400E88B0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EEC0-B18D-49DF-B77A-7DD46395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DEF8-C3C5-421F-8976-86E363F4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13EB-5EB8-4689-82EE-23E4EE51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93F5-6E52-4D2A-9927-E431835B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9C88-F6C0-4387-BFEC-BAB8052D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D733-C8A8-4C7B-A364-E3FAAE7B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BEEE-4A0D-46F6-A0F1-36FFBF31A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6520-191B-467F-90DC-3DF21058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D37A5-D8A5-423D-936E-D6FC3334E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65781-F43E-44D7-98E7-E2438A2A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906B7-6001-4E25-A200-E17C7B44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86102-B4E5-434A-BF65-5C324C70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E8FEC-37CF-4546-AA93-22363153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3C69-910D-4796-B624-D3B9473E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E4CCD-3E47-49DA-97DA-449CCE5F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0338E-2965-4B5D-B67E-BA9837F1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6A0A2-5BE6-430D-A257-5C15ACBD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FB79E-2641-40B1-BA6F-0FB96089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0E326-F07F-4CF0-BB72-ED59819E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5120B-3BFF-4F61-93AD-3D91A5B3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4192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314040" y="182700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36980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4192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314040" y="3975480"/>
            <a:ext cx="23540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CB699-42C9-4F1D-B03D-1C24C8D1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FBCA-A462-4CAF-B558-199E9F5D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DE8B-89AB-4985-B923-288F4016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369800" y="301680"/>
            <a:ext cx="7311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A2A5-1CEA-4859-B44C-EE8A301A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1CEA-D416-465C-82CF-A61E90D3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16680" y="397548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01FD-6417-416E-8E8B-DF4C59DD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6680" y="1827000"/>
            <a:ext cx="3567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9800" y="3975480"/>
            <a:ext cx="7311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5B2-3118-42A7-8D6A-F98BC03E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3265a1"/>
              </a:gs>
              <a:gs pos="100000">
                <a:srgbClr val="8aa8da"/>
              </a:gs>
            </a:gsLst>
            <a:lin ang="16200000"/>
          </a:gradFill>
          <a:ln cap="rnd" w="3240">
            <a:solidFill>
              <a:srgbClr val="385d8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15/07/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49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A7CEB2-E71B-48CC-B5B3-E10F059D7797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3205080" y="765000"/>
            <a:ext cx="4114800" cy="31244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296" y="-26254"/>
                </a:moveTo>
                <a:arcTo wR="32000" hR="32000" stAng="-3307659" swAng="6615318"/>
                <a:moveTo>
                  <a:pt x="18296" y="26254"/>
                </a:moveTo>
                <a:arcTo wR="32000" hR="32000" stAng="3307659" swAng="61"/>
                <a:lnTo>
                  <a:pt x="18296" y="26255"/>
                </a:lnTo>
                <a:lnTo>
                  <a:pt x="18296" y="-26255"/>
                </a:lnTo>
                <a:lnTo>
                  <a:pt x="18296" y="-26254"/>
                </a:lnTo>
                <a:arcTo wR="32000" hR="32000" stAng="-3307720" swAng="61"/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2413080" y="0"/>
            <a:ext cx="3094200" cy="315432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077" y="-26405"/>
                </a:moveTo>
                <a:arcTo wR="32000" hR="32000" stAng="-3336253" swAng="6672506"/>
                <a:moveTo>
                  <a:pt x="18077" y="26405"/>
                </a:moveTo>
                <a:arcTo wR="32000" hR="32000" stAng="3336253" swAng="61"/>
                <a:lnTo>
                  <a:pt x="18077" y="26406"/>
                </a:lnTo>
                <a:lnTo>
                  <a:pt x="18077" y="-26406"/>
                </a:lnTo>
                <a:lnTo>
                  <a:pt x="18077" y="-26405"/>
                </a:lnTo>
                <a:arcTo wR="32000" hR="32000" stAng="-3336314" swAng="61"/>
                <a:close/>
              </a:path>
            </a:pathLst>
          </a:cu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1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69800" y="1827000"/>
            <a:ext cx="7311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DB21A02-63C4-4D94-8E26-65C8074BA63B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3222720" y="304920"/>
            <a:ext cx="11908080" cy="4722840"/>
            <a:chOff x="-3222720" y="304920"/>
            <a:chExt cx="11908080" cy="4722840"/>
          </a:xfrm>
        </p:grpSpPr>
        <p:sp>
          <p:nvSpPr>
            <p:cNvPr id="93" name=""/>
            <p:cNvSpPr/>
            <p:nvPr/>
          </p:nvSpPr>
          <p:spPr>
            <a:xfrm>
              <a:off x="1447920" y="2514600"/>
              <a:ext cx="72374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2514600" y="1371600"/>
              <a:ext cx="3656160" cy="365616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3222720" y="304920"/>
              <a:ext cx="4037040" cy="403704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42880" y="985320"/>
            <a:ext cx="7237440" cy="14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15/07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8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42605BA-42E4-49AB-9AA4-80E94CDB6078}" type="slidenum">
              <a:rPr b="0" lang="fr-FR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8.xml"/><Relationship Id="rId3" Type="http://schemas.openxmlformats.org/officeDocument/2006/relationships/image" Target="../media/image1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125360"/>
            <a:ext cx="7345440" cy="3420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OŚWIADCZENIE DECENTRALIZA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FRANCJ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stąpienie p.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Jean-Benoît ALBERTINI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yrektor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stępcy Pełnomocnika Międzyresortowego do spraw Zagospodarowania Przestrzennego Kraju i Konkurencyjnoś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awni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DAT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5516640"/>
            <a:ext cx="42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Seminarium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KS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Warszaw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- 12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grudnia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1584000" cy="576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F482-1387-4051-B63C-D8918BF0E79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11280" y="692280"/>
            <a:ext cx="82296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posiada też swojeg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region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y jest mianowanym przez rząd przedstawicielem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 on rolę administracyj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ą i polityczną w ramach regionu. Ma w tym celu do dyspozycji sekretarza generalnego do spraw regionalnych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(SGAR)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ieruje zdekoncentrowanymi służbami państw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alizuje politykę rządu w odniesieniu do wielkich projek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uje legalność i przestrzeganie reguł budżetow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konywanych na szczeblu regionu zadań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pracowu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rzedstawiając informacje i propozycj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lityki w dziedzinie rozwoju gospodarczo-społecznego ora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Animuje i koordynuje działania prefektów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8FFC-2357-446A-AF58-F6478F9BD36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08000" cy="388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84360" y="476280"/>
            <a:ext cx="82296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dzieli się n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6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ów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22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na terenie metropoli 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4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egiony zamorskie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skład regionu wchodzi kilka departamentów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region zarządzany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regionalną,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ybieraną na okres sześciu lat w wyborach bezpośrednich i powszech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ełnią one rolę koordynacyjno-planistycz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dzięki pewnej liczbie kompetencj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w dziedzinie zagospodarowania przestrzennego kr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Otrzymują część podatków krajowych i dysponują budżetem, który obdzielają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óżne dziedz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z tych regionów zamorskich takich jak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wadelup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ujana Francusk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artynika i 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éunion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jest jednocześnie zamorskim departamente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 ta mogłaby zniknąć w przypadku fuzji zgromadzeń regionalnych i departament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09E4-A4F9-4B16-BD9F-990B4F90579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-108000" y="765000"/>
            <a:ext cx="8242200" cy="4589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156360" y="1576440"/>
            <a:ext cx="27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77080" y="184464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80000" y="16714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9C28-6E58-49E3-A4A9-C0B7C350033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58920" y="549360"/>
            <a:ext cx="8785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ażdy departament posiad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a departament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la jego polega 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 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czuwaniu nad utrzymaniem porządku publicznego i bezpieczeństwa osób i dóbr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eniu możliwości sprawowania praw i swobód obywatelsk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apewnianiu zdrowej sytuacji w dziedzinie ochrony środowiska oraz poszanowania dziedzictwa kulturalnego departament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ontroli legalności działań samorządów lokalny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7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Wdrażaniu i koordynacji polityk krajowych lub wspólnotowych na szczeblu lokalny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2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7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efekt przewodniczy kolegium naczelników wydziałów, w skład którego wchodzą prefekt, podprefekci i naczelnicy wydziałów poszczególnych instancji administracyj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rojekty budżetów zdekoncentrowanych służb administracyjnych przedkładane są prefekt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15236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3A3D9-16E6-4751-BF66-0144281C18C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71640" y="1484280"/>
            <a:ext cx="784836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Francja metropolitalna składa się z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plus 4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y zamorski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epartament zarządzany jest przez radę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eneralną wybieraną na okres sześciu lat w bezpośrednich wyborach powszech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mpetencje departamen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koncentrowane na poziomie bardziej lokaln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onkurują częstokroć z kompetencjami reg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: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ziałania socjaln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rogownictwo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edukacj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 i dziedzictwo naro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lokaln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transport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lnictwo</a:t>
            </a:r>
            <a:r>
              <a:rPr b="0" lang="fr-FR" sz="2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524720" y="260280"/>
            <a:ext cx="126684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CBB1-0719-4B9A-BE7E-F61BB14B1B6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50920" cy="3888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50720" y="901800"/>
            <a:ext cx="8242560" cy="459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829A-A604-4D27-BD62-228F3DD7CA8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4360" y="476280"/>
            <a:ext cx="822960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Terytorium Francji składa się 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36 783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których każda odpowiada na ogół terytorialnie obszarowi miasta lub wioski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zarządzana jest przez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ę miejsk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której członkowie wybierani są na sześć lat w bezpośrednich powszechnych wybora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br>
              <a:rPr sz="1500"/>
            </a:b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miejsca wybiera ze swego skład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M</a:t>
            </a:r>
            <a:r>
              <a:rPr b="1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era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- będącego przedstawicielem państwa, który obarczony jest zadaniem przestrzegania decyzji rady -  jego zastępców, którym można delegować pewne zadania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Ludność gminy określa liczbę radnych miejskich, maksimum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 9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a dysponuje budżetem składającym się zasadniczo z transferów ze strony państwa oraz lokalnych podatków bezpośrednich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zarządza sprawami gmi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podejmuje decyzje dotyczące zarządzania gminą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z wyjątkiem sytuacji, kiedy mocą jakiegoś tekstu obowiązek ten obarcza Mera lub też władzę administracyjną innego rodzaju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37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Rada przyjmuje wreszcie lokalny plan urbanistyczny</a:t>
            </a:r>
            <a:r>
              <a:rPr b="0" lang="fr-FR" sz="15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93EE-4674-4E59-B9B4-4A8E4FA5A2A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42200" cy="5132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29200" y="4714920"/>
            <a:ext cx="2971800" cy="18572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752472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692360" y="2080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Współpraca międzygmin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B22B-BC97-4FFD-A3DB-A541F3112CF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-71280" y="7128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7D90-BD53-453C-98CA-88F0F052BD1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00000" y="1197000"/>
            <a:ext cx="806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Celem jest tutaj usprawnienie współpracy pomiędzy gminami, które mają wspólne interesy. Istnieje kilka rodzajów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kładów publicznych współpracy międzygminnej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(EPCI)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oraz kilka poziomów współprac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styczni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008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91,7%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we Francji metropolitalnej było zrzeszonych w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2 583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strukturach międzygmin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5040" indent="-253800">
              <a:lnSpc>
                <a:spcPct val="150000"/>
              </a:lnSpc>
              <a:spcBef>
                <a:spcPts val="425"/>
              </a:spcBef>
              <a:tabLst>
                <a:tab algn="l" pos="0"/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50000"/>
              </a:lnSpc>
              <a:spcBef>
                <a:spcPts val="425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33480"/>
                <a:tab algn="l" pos="1847880"/>
                <a:tab algn="l" pos="2762280"/>
                <a:tab algn="l" pos="3676680"/>
                <a:tab algn="l" pos="4591080"/>
                <a:tab algn="l" pos="5505480"/>
                <a:tab algn="l" pos="6419880"/>
                <a:tab algn="l" pos="7334280"/>
                <a:tab algn="l" pos="8248680"/>
                <a:tab algn="l" pos="9163080"/>
                <a:tab algn="l" pos="100774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 obszarze terytoriów zamor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ędzygminnych struktur zrzes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76,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min i regionów zamorskich. Istniej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 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9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67640" y="333360"/>
            <a:ext cx="108108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F17D-52B2-4D60-85B4-3DCD0180F37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47640" y="2060640"/>
            <a:ext cx="61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4292640"/>
            <a:ext cx="64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Temat podlegający ciągłym zmianom od 25 l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5FAA-3DFA-43C5-BDCC-366D51FF471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11280" y="549360"/>
            <a:ext cx="835164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4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miejski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najwyższy stopień współpracy międzygmin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Dotyczą one jednostek obejmujących pon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z przynajmniej jednym miastem licząc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posiadają szeroki zakres kompeten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(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ozwój gospodarc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zarządzanie transporte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urbanistyk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wod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ka odpadam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t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)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169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aglomeracj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Jednostki te liczą co 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50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 i są zorganizowane wokół ośrodka liczącego przynaj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15 00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Posiadają więc one mniej kompetencji o charakterze obowiązkowym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2400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spólnot gm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bez minimalnego progu liczby mieszkańc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Ich kompetencje obowiązkowe mają jeszcze węższy charakter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5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ystępują również innego rodzaju struktury międzygminne, jak na przykła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1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355 </a:t>
            </a:r>
            <a:r>
              <a:rPr b="1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rain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W tym przypadku chodzi o obszary, które cechuje spójność geograficzn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gospodarcz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kulturalna lub społeczna.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Radni i podmioty gospodarcze jednoczą tu swe wysiłki w celu realizacji lokalnych projekt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  <a:ea typeface="Microsoft YaHei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6800">
              <a:lnSpc>
                <a:spcPct val="100000"/>
              </a:lnSpc>
              <a:tabLst>
                <a:tab algn="l" pos="0"/>
                <a:tab algn="l" pos="789120"/>
                <a:tab algn="l" pos="1703520"/>
                <a:tab algn="l" pos="2617920"/>
                <a:tab algn="l" pos="3532320"/>
                <a:tab algn="l" pos="4446720"/>
                <a:tab algn="l" pos="5361120"/>
                <a:tab algn="l" pos="6275520"/>
                <a:tab algn="l" pos="7189920"/>
                <a:tab algn="l" pos="8104320"/>
                <a:tab algn="l" pos="9018720"/>
                <a:tab algn="l" pos="993312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26684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8706-14B6-4804-8A9A-53D08BBC6CC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041920" y="403200"/>
            <a:ext cx="57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ozwój zintegrowanych związków międzygminn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87280" y="1197000"/>
          <a:ext cx="7345080" cy="5316120"/>
        </p:xfrm>
        <a:graphic>
          <a:graphicData uri="http://schemas.openxmlformats.org/drawingml/2006/table">
            <a:tbl>
              <a:tblPr/>
              <a:tblGrid>
                <a:gridCol w="1945080"/>
                <a:gridCol w="1282680"/>
                <a:gridCol w="1338840"/>
                <a:gridCol w="1175040"/>
                <a:gridCol w="16034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99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0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8724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rzeszenia posiadające własny ustrój podatkow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66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57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 36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 52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63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(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tym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DOM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. zamorskich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7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 760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 950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2 31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9092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1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2,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56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eń działających na zasadzie </a:t>
                      </a: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TPU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jedn. stawka od dział. zaw.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745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 10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656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zrzeszonych 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69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 142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4 38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62200">
                <a:tc>
                  <a:txBody>
                    <a:bodyPr lIns="90000" rIns="90000" tIns="583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zba ludności w milionach 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,1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,8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9,7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7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D431D-C5C1-41CA-9BF9-AEBCB251E1C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3 – </a:t>
            </a:r>
            <a:r>
              <a:rPr b="1" lang="pl-PL" sz="2400" spc="-1" strike="noStrike">
                <a:solidFill>
                  <a:srgbClr val="009900"/>
                </a:solidFill>
                <a:latin typeface="Arial"/>
              </a:rPr>
              <a:t>Gospodarcze i finansowe znaczenie decentralizacj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3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Budżety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owa budżetu państwa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388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€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K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Inwestycje samorządowe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56,6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2007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12,5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kraju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73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FBCF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administracji publiczn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Urzędnicy i pracownicy samorządow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 1,8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 osób na dzień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31/12/06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całości pracowników publicznych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(5,1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ów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E : 2,5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a osób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FPH : 1, 0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milion osób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812000" y="189000"/>
            <a:ext cx="1152720" cy="38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52E4-36B9-411D-BD93-C026C51D54E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71280" y="1052640"/>
            <a:ext cx="7993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3160" indent="-83160">
              <a:lnSpc>
                <a:spcPct val="80000"/>
              </a:lnSpc>
              <a:spcBef>
                <a:spcPts val="499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ozchody samorządów lokalnych w roku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 2007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08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7% DRF (140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27% DRI (56,6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4,5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ydatków osobowych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2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3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z tytułu transferów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(38% DRF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Regio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24,4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11,7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8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partament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: 61,7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30%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ałośc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-28296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ektor gminny i międzygminny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: 122,3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(58,6%) (89,8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gmin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32,5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mld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€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tr. międzygminne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1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8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654120"/>
                <a:tab algn="l" pos="1568520"/>
                <a:tab algn="l" pos="2482920"/>
                <a:tab algn="l" pos="3397320"/>
                <a:tab algn="l" pos="4311720"/>
                <a:tab algn="l" pos="5226120"/>
                <a:tab algn="l" pos="6140520"/>
                <a:tab algn="l" pos="7054920"/>
                <a:tab algn="l" pos="7969320"/>
                <a:tab algn="l" pos="8883720"/>
                <a:tab algn="l" pos="97981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1049400" cy="38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C1C2-DC39-4679-B76D-C07DF5D883D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16000" y="1125360"/>
            <a:ext cx="7343640" cy="32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Przychody samorządów lokalnych w roku</a:t>
            </a:r>
            <a:r>
              <a:rPr b="0" lang="fr-FR" sz="1800" spc="-1" strike="noStrike" u="sng">
                <a:solidFill>
                  <a:srgbClr val="ffffff"/>
                </a:solidFill>
                <a:uFillTx/>
                <a:latin typeface="Verdana"/>
              </a:rPr>
              <a:t> 2007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 : 207,8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ld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Verdana"/>
              </a:rPr>
              <a:t>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81% RRF (169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% RRI (20,5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9,6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nowych pożyczek, al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13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wrot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94,1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datków i opłat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58% RR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49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ransferów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(32% RRF)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z czego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 41,7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mld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  <a:ea typeface="Arial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subwencji państwowy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CF6A-FAC6-4D15-836A-00A6CCA3FF4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41050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4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Lokalny system podatkowy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8244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Bezpośrednie podatki lokalne składają się głównie z 4 rodzajów opł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gruntow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0,8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1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TP : 29,1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44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od nieruchomości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20,4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31,2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podatek mieszkalny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: 15,2 </a:t>
            </a:r>
            <a:r>
              <a:rPr b="1" lang="pl-PL" sz="1400" spc="-1" strike="noStrike">
                <a:solidFill>
                  <a:srgbClr val="000000"/>
                </a:solidFill>
                <a:latin typeface="Verdana"/>
              </a:rPr>
              <a:t>mld</a:t>
            </a:r>
            <a:r>
              <a:rPr b="1" lang="fr-FR" sz="1600" spc="-1" strike="noStrike">
                <a:solidFill>
                  <a:srgbClr val="000000"/>
                </a:solidFill>
                <a:latin typeface="Verdana"/>
              </a:rPr>
              <a:t> € (23,3%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NB : </a:t>
            </a:r>
            <a:r>
              <a:rPr b="1" lang="pl-PL" sz="1600" spc="-1" strike="noStrike">
                <a:solidFill>
                  <a:srgbClr val="000000"/>
                </a:solidFill>
                <a:latin typeface="Verdana"/>
              </a:rPr>
              <a:t>Najważniejszym podatnikiem na szczeblu lokalnym jest państw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ulg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mniejszenie wymiaru należnego podatku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  nie mające wpływu na podstawę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=&gt;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powodu rekompensa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ejmowanie strat bazowych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w rok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008 : DCTP 11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soit 37,5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; 4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mld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€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z tytułu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TH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czyli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27% </a:t>
            </a: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przychodów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596360" y="333360"/>
            <a:ext cx="126648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0C9D-A92C-452C-A0A9-A7896B55753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90741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5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Stosunki finansowe pomiędzy państwem i samorządami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93680" y="1699920"/>
            <a:ext cx="80503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Od roku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1996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rzewidywalność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=&gt;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Pakt stabilności finansowej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acja inflacji w skali trzyletnie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1999-2007 :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a wzrostu i solidar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a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 +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rosnąca część PKB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N-1 (1999 : 20%, 2000 : 25%; 2001-2007: 33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 2008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ustanowien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Verdana"/>
              </a:rPr>
              <a:t>Umowy stabilnośc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deksowanej na inflacji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1,6%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FI 2009 :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ielkość transferów państwowych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(55,1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 mld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€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 roku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8)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zwiększa się w sposób normowany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: +2% (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inflacji w okresie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09 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2011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56E7-4B73-4E82-938C-37FC74C0EBE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755640" y="54936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6 –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odział kompete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7280" y="1341360"/>
            <a:ext cx="79567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miana teoretycznych odniesień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lauzula kompetencji ogólnej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loki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ystem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ek przewodnich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83A2-0BAF-456A-8D86-DFF279937ED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885080" y="115920"/>
            <a:ext cx="1081080" cy="360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116000" y="692280"/>
            <a:ext cx="46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ielkie dziedziny kompetencji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611280" y="1413000"/>
          <a:ext cx="8283240" cy="3969720"/>
        </p:xfrm>
        <a:graphic>
          <a:graphicData uri="http://schemas.openxmlformats.org/drawingml/2006/table">
            <a:tbl>
              <a:tblPr/>
              <a:tblGrid>
                <a:gridCol w="1296720"/>
                <a:gridCol w="1224360"/>
                <a:gridCol w="2948760"/>
                <a:gridCol w="2813400"/>
              </a:tblGrid>
              <a:tr h="5616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8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rbanistyka i transp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lokalnych planów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rbanis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cznych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schematów spójności terytoria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da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ezwoleń na budowę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ortów jachtowy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ich wniosek, złożony do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jakimkolwi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ksploatacja przekazywanych im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ów handlowych i ryba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żeli wyrażą takie życzenie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ywanie i zarządz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ami cywi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ucz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i wyposażenie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zkół publi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definiowaniu karty szkol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tworze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pięcioletniego ekspery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kalnych publicznych placówek szkolnictwa podstaw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dla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znaw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y po uzyskaniu akceptacji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stanawiania jednostek informacji turysty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E292-B6DB-45C1-8952-DAC2C774956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539640" y="1413000"/>
          <a:ext cx="8426160" cy="3514320"/>
        </p:xfrm>
        <a:graphic>
          <a:graphicData uri="http://schemas.openxmlformats.org/drawingml/2006/table">
            <a:tbl>
              <a:tblPr/>
              <a:tblGrid>
                <a:gridCol w="1295640"/>
                <a:gridCol w="1152720"/>
                <a:gridCol w="3115080"/>
                <a:gridCol w="2862720"/>
              </a:tblGrid>
              <a:tr h="13266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a i związek gmi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lokalnego programu w sferz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lnictw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delegowania na rzecz mera lub prezes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PCI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a kontyngentem prefektury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uczestniczenia w budow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u i wyposaż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mów studenc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alczanie szkodliwych warunków zamieszkiwania - eksperymental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w dziedzinie zdrowia i sferze socjalnej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komplementarne w stosunku do działań departamen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gminnymi ośrodkami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CCAS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życzalnie książek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jskie konserwatoria i muze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początkowego nauczania artystycz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gą stawać się właścicielami sklasyfikowanych lub zewidencjonowanych zabytków historycznych należących do państwa lub też do Krajowego Centrum Zabytków Historycz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1F4E-4751-44F7-91D5-2382FA8AC19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84360" y="1341360"/>
            <a:ext cx="84596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900" spc="-1" strike="noStrike">
                <a:solidFill>
                  <a:srgbClr val="009900"/>
                </a:solidFill>
                <a:latin typeface="Arial"/>
              </a:rPr>
              <a:t>1.</a:t>
            </a: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900" spc="-1" strike="noStrike" u="sng">
                <a:solidFill>
                  <a:srgbClr val="009900"/>
                </a:solidFill>
                <a:uFillTx/>
                <a:latin typeface="Arial"/>
              </a:rPr>
              <a:t>Społeczno-polityczny oraz instytucjonalny kontekst decentralizacji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2920" y="1989000"/>
            <a:ext cx="496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2060640"/>
            <a:ext cx="799308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Francuskie instytu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Unitarne tradycj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ładza państwowa i konsensus społecz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rganizacja zdecentralizowan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wolucja ujęta w odpowiednie ra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2781360"/>
            <a:ext cx="79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E5DE-8E6D-4135-91F6-109590B9D02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395280" y="1341360"/>
          <a:ext cx="8570520" cy="3541320"/>
        </p:xfrm>
        <a:graphic>
          <a:graphicData uri="http://schemas.openxmlformats.org/drawingml/2006/table">
            <a:tbl>
              <a:tblPr/>
              <a:tblGrid>
                <a:gridCol w="1297080"/>
                <a:gridCol w="1224360"/>
                <a:gridCol w="3389400"/>
                <a:gridCol w="2659680"/>
              </a:tblGrid>
              <a:tr h="44640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rt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socjalne, solidarność, mieszkalnictw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zastrzeżeniem sytuacji wyjątkowych odpowiada całościowo za świadczenia z tytułu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y społeczn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społeczna na rzecz dziec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dla osób niepełnospraw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gracja społeczno-zawo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RMI-RMA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dnia 1 stycznia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)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moc na rzecz osób starsz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a zdrowia rodziny i dzieck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uje i wdraża politykę działań socj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eksperymentalne na teranie niektórych departamentów o poszerzonych kompetencjach w dziedzi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hrony sądowej młodzież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, infrastruk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oraz inwestycje w sferz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ogownictwa departament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niemiejskiego drogowego przewozu osób 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u szko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a obszarem miast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kładanie i wyposaż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skich portów handlowych i rybacki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zarządzanie nim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buClr>
                          <a:srgbClr val="000000"/>
                        </a:buClr>
                        <a:buSzPct val="70000"/>
                        <a:buFont typeface="Times New Roman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programu wspiera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struktury obszarów wiej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zęścią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oł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5 000 km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óg kraj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terytorium kra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C1A7-177F-41FB-A450-3EF3BFA5BBD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979640" y="1197000"/>
          <a:ext cx="6914880" cy="3673080"/>
        </p:xfrm>
        <a:graphic>
          <a:graphicData uri="http://schemas.openxmlformats.org/drawingml/2006/table">
            <a:tbl>
              <a:tblPr/>
              <a:tblGrid>
                <a:gridCol w="1128600"/>
                <a:gridCol w="3342960"/>
                <a:gridCol w="2443320"/>
              </a:tblGrid>
              <a:tr h="19454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ctwo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ich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centralne wypożyczalnie książek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chiwa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muzeami departamentalnymi oraz ich 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 nabór i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rządzanie kadrą techniczną, robotnikami i pracownikami usługowymi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imnazj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7640"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ałania gospodarcz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y udział w finanso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zpośredniej pomocy na rzecz przedsiębiorst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ramach umowy z regione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dzielanie przedsiębiorstwom pomocy pośredni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żliwość wdrażania własnych systemów pomocowych po uzyskaniu akceptacji ze strony region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39640" y="1197000"/>
          <a:ext cx="1441080" cy="3673080"/>
        </p:xfrm>
        <a:graphic>
          <a:graphicData uri="http://schemas.openxmlformats.org/drawingml/2006/table">
            <a:tbl>
              <a:tblPr/>
              <a:tblGrid>
                <a:gridCol w="1441080"/>
              </a:tblGrid>
              <a:tr h="34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arta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90000" rIns="90000" tIns="547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4A75-0A8D-43C9-BB4A-2F6467EC9E3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755640" y="907920"/>
          <a:ext cx="7994160" cy="4627440"/>
        </p:xfrm>
        <a:graphic>
          <a:graphicData uri="http://schemas.openxmlformats.org/drawingml/2006/table">
            <a:tbl>
              <a:tblPr/>
              <a:tblGrid>
                <a:gridCol w="1008000"/>
                <a:gridCol w="1729080"/>
                <a:gridCol w="2659680"/>
                <a:gridCol w="2597400"/>
              </a:tblGrid>
              <a:tr h="628920">
                <a:tc gridSpan="2"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ziom samorządow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przed ustawą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mpetencje przekazane mocą ustawy z d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3 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erpnia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1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zwój gospodarczy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ziedzina, gdzie region odgrywa rolę koordynator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kreśla system pomocy bezpośrednich i je przyznaj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 premie za zatrudnie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worzenie przedsiębiorstw jak też pożyczki i zaliczki na zasadach preferencyjnych stóp procentow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drażanie i przyznawanie pomocy o charakterze pośredni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warancje dla przedsiębiorstw zaciągających pożyczk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wolnienie z podatku od działalności zawodowej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a regionalna określ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ystem pomocy gospodarczej dla przedsiębiorstw i decyduje o jej przyznawani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rozwoju gospodarcz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tułem eksperymentalnym na lat pię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 i planowan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dział w wypracowywaniu krajowej polityki w dziedzinie zagospodarowania przestrzennego i trwałego rozwoj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ieranie umów planu wiążących państwo i region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 rok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7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mowy projektow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schematu przewoz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nego schematu w dziedzinie infrastruktury i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wniej: regionalny schemat transport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)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lipc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 :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przestrzen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tnisk cywilnych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 przypadku zgłoszenia wniosku do dnia 1 styczni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2006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gospodarowanie i zarządz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kimkolwiek portem nieautonomiczny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dlegającym państwu i usytuowanym na jego terytorium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F37B-A261-4E79-AB28-1190690B252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684360" y="1125360"/>
          <a:ext cx="8210160" cy="2778120"/>
        </p:xfrm>
        <a:graphic>
          <a:graphicData uri="http://schemas.openxmlformats.org/drawingml/2006/table">
            <a:tbl>
              <a:tblPr/>
              <a:tblGrid>
                <a:gridCol w="1079280"/>
                <a:gridCol w="1656360"/>
                <a:gridCol w="2548440"/>
                <a:gridCol w="2926080"/>
              </a:tblGrid>
              <a:tr h="2098080">
                <a:tc rowSpan="2"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ukacja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ształcenie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awodow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udow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rzym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yposażenie i finansowani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szkolnych specjalnego przeznaczenia oraz techników morski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racowywanie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kształcenie zawodowego oraz 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asność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jątku nieruchomego liceów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cówek edukacyjnych o charakterze specjalnym oraz techników morski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za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dry techniczne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,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botników i pracowników usługowych 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(TOS)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ceów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zarządzanie nimi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owanie i wdrażanie regionalnej polityki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az kształcenia zawodowego młodzieży i dorosłych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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zyjmowanie programu praktycznej nauki zawodu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tawicznego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az już w ramach regionalnego planu rozwoju kształcenia zawodow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55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ltur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zacja i finansowanie muze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;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onserwacja i dowartościowanie archiwów regionalnych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buClr>
                          <a:srgbClr val="000000"/>
                        </a:buClr>
                        <a:buSzPct val="70000"/>
                        <a:buFont typeface="Arial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l-P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powiedzialność w dziedzinie ogólnej inwentaryzacji dziedzictwa kulturalnego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 </a:t>
                      </a:r>
                      <a:br>
                        <a:rPr sz="1000"/>
                      </a:b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F5BF-8BCD-47EB-9F9B-5C0F76C6D538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2920" y="1196640"/>
            <a:ext cx="4608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7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Mechanizmy regulacyjne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6920" y="2060280"/>
            <a:ext cx="568836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rola przedstawiciela państ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legalnośc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trola budżetow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sparcie kadrowe w sferze lokalnego systemu podatkoweg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4744-447F-4482-8310-82CA4EECDE5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47640" y="206064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DECENTRALIZACJA</a:t>
            </a:r>
            <a:r>
              <a:rPr b="1" lang="fr-FR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200" spc="-1" strike="noStrike">
                <a:solidFill>
                  <a:srgbClr val="000066"/>
                </a:solidFill>
                <a:latin typeface="Arial"/>
              </a:rPr>
              <a:t>WE FRANCJ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403280" y="422100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I. </a:t>
            </a:r>
            <a:r>
              <a:rPr b="1" lang="pl-PL" sz="2000" spc="-1" strike="noStrike" u="sng">
                <a:solidFill>
                  <a:srgbClr val="ffffff"/>
                </a:solidFill>
                <a:uFillTx/>
                <a:latin typeface="Arial"/>
              </a:rPr>
              <a:t>Wyzwania w toczącej się obecnie dyskus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6F207-4A02-4A59-A844-1D816BC9661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1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Proces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francuskiej 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napoleonki</a:t>
            </a:r>
            <a:r>
              <a:rPr b="1" lang="fr-FR" sz="20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endParaRPr b="0" lang="en-US" sz="20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653840" y="1988640"/>
            <a:ext cx="65898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brak jasności, jeśli chodzi o odpowiedzialność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potrzeba zmian lokalnego systemu podatkowego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reforma karty gminnej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47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476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Verdana"/>
              </a:rPr>
              <a:t>znaczenie opłat obowiązkowych</a:t>
            </a:r>
            <a:r>
              <a:rPr b="0" lang="fr-FR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831F-F997-496A-AD95-4E4A158BFAC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35344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Ogólny przegląd polityk publicznych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 :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kontekst sprzyjający reformie</a:t>
            </a:r>
            <a:endParaRPr b="0" lang="en-US" sz="24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689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« 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Jeden szczebel mniej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iższe podatki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 » ?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425"/>
              </a:spcBef>
              <a:buClr>
                <a:srgbClr val="333366"/>
              </a:buClr>
              <a:buSzPct val="70000"/>
              <a:buFont typeface="Symbol" charset="2"/>
              <a:buChar char=""/>
              <a:tabLst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Wielość scenariuszy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ołączenie szczebl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owy podział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à la car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ścisły rozdział kompetencj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57120" indent="0">
              <a:spcBef>
                <a:spcPts val="425"/>
              </a:spcBef>
              <a:buNone/>
              <a:tabLst>
                <a:tab algn="l" pos="0"/>
                <a:tab algn="l" pos="925560"/>
                <a:tab algn="l" pos="1839960"/>
                <a:tab algn="l" pos="2754360"/>
                <a:tab algn="l" pos="3668760"/>
                <a:tab algn="l" pos="4583160"/>
                <a:tab algn="l" pos="5497560"/>
                <a:tab algn="l" pos="6411960"/>
                <a:tab algn="l" pos="7326360"/>
                <a:tab algn="l" pos="8240760"/>
                <a:tab algn="l" pos="9155160"/>
                <a:tab algn="l" pos="1006956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koniec krzyżowych form finansowani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6324480" y="647712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47712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7352-C254-4787-8280-4AA8D2CD1A76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42920" y="1413000"/>
            <a:ext cx="748980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pl-PL" sz="1800" spc="-1" strike="noStrike" u="sng">
                <a:solidFill>
                  <a:srgbClr val="ffffff"/>
                </a:solidFill>
                <a:uFillTx/>
                <a:latin typeface="Arial"/>
              </a:rPr>
              <a:t>Odniesienia konstytucyjne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. 1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rancja jest Republiką niepodziel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laick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emokratyczną i społeczną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pewnia wszystkim obywatelom równość wobec prawa bez względu na pochodzenie, rasę czy religię. Szanuje wszystkie wyznania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Organizacja kraju ma charakter zdecentralizowany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rt 72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dnostkami samorządu terytorialnego Republiki są gminy, departamenty, regiony, społeczności posiadające status szczególny oraz społeczności zamorskie podlegające postanowieniom zawartym w artykul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74. […]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szczególne jednostki samorządu terytorialnego powołane są do tego, aby podejmować decyzje w zakresie wszystkich tych kompetencji, które mogą być najlepiej wdrożone na ich szczeblu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. […] </a:t>
            </a:r>
            <a:r>
              <a:rPr b="0" lang="fr-FR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klauzula kompetencji ogólnych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D23C-1418-4F78-A8E5-FD9FEAA1F1F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042920" y="0"/>
            <a:ext cx="7921800" cy="67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Art. 72-2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Jednostki samorządu terytorialnego korzystają z zasobów, którymi mogą dysponować na warunkach ustalonych przez prawo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swoboda zarządu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Mogą one otrzymywać całość lub część przychodów podatkowych wszelkiego rodzaju. Ustawowo mogą uzyskać pozwolenie na ustalanie podstawy wymiaru podatków oraz stopy podatkowej w ustawowo określonych granica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uprawnienia podatkow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Przychody podatkowe oraz pozostałe środki własne jednostek samorządu terytorialnego stanowią, w przypadku każdego rodzaju samorządu, zdecydowaną część całości ich przychodów. Ustawa organiczna ustala warunki wdrażania tej reguł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środki własn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Każdorazowo transferowi kompetencji przez państwo na szczebel samorządowy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towarzyszy przydział środków odpowiadający kwotowo tym, które były przeznaczane na ich sprawowanie. Każdorazowemu utworzeniu lub poszerzeniu kompetencji, pociągającemu za sobą wzrost wydatków samorządowych,  towarzyszą ustawowo określane środki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buClr>
                <a:srgbClr val="000000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całościowa rekompensata transferów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: CCEC</a:t>
            </a:r>
            <a:r>
              <a:rPr b="1" lang="pl-PL" sz="1700" spc="-1" strike="noStrike">
                <a:solidFill>
                  <a:srgbClr val="ffffff"/>
                </a:solidFill>
                <a:latin typeface="Arial"/>
              </a:rPr>
              <a:t>/KDOT</a:t>
            </a:r>
            <a:r>
              <a:rPr b="1" lang="fr-FR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Ustawa przewiduje system wyrównań mających sprzyjać równości jednostek samorządowych</a:t>
            </a:r>
            <a:r>
              <a:rPr b="0" lang="fr-FR" sz="17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064360" y="0"/>
            <a:ext cx="1079640" cy="4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398BB-C358-4813-8D67-FC31B968826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18900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amorządow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Symbol" charset="2"/>
              <a:buChar char="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  <a:ea typeface="Tahoma"/>
              </a:rPr>
              <a:t> </a:t>
            </a:r>
            <a:r>
              <a:rPr b="1" lang="pl-PL" sz="2000" spc="-1" strike="noStrike">
                <a:solidFill>
                  <a:srgbClr val="000066"/>
                </a:solidFill>
                <a:latin typeface="Arial"/>
                <a:ea typeface="Tahoma"/>
              </a:rPr>
              <a:t>struktury Franc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1197000"/>
            <a:ext cx="3097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centraliz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amorząd terytorialny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26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region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100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partamentów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36 783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g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Tahoma"/>
              <a:buChar char="-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Społeczności zamors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lnSpc>
                <a:spcPct val="100000"/>
              </a:lnSpc>
              <a:buClr>
                <a:srgbClr val="660066"/>
              </a:buClr>
              <a:buFont typeface="Wingdings" charset="2"/>
              <a:buChar char=""/>
              <a:tabLst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1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Dekoncentrac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zedstawiciele państwa</a:t>
            </a: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region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refekci departament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9080" indent="-287640" algn="just">
              <a:lnSpc>
                <a:spcPct val="100000"/>
              </a:lnSpc>
              <a:tabLst>
                <a:tab algn="l" pos="0"/>
                <a:tab algn="l" pos="287280"/>
                <a:tab algn="l" pos="1201680"/>
                <a:tab algn="l" pos="2116080"/>
                <a:tab algn="l" pos="3030480"/>
                <a:tab algn="l" pos="3944880"/>
                <a:tab algn="l" pos="4859280"/>
                <a:tab algn="l" pos="5773680"/>
                <a:tab algn="l" pos="6688080"/>
                <a:tab algn="l" pos="7602480"/>
                <a:tab algn="l" pos="8516880"/>
                <a:tab algn="l" pos="9431280"/>
                <a:tab algn="l" pos="10345680"/>
                <a:tab algn="l" pos="10782360"/>
              </a:tabLst>
            </a:pPr>
            <a:r>
              <a:rPr b="0" lang="fr-FR" sz="2000" spc="-1" strike="noStrike">
                <a:solidFill>
                  <a:srgbClr val="660066"/>
                </a:solidFill>
                <a:latin typeface="Tahoma"/>
                <a:ea typeface="Tahoma"/>
              </a:rPr>
              <a:t>- </a:t>
            </a:r>
            <a:r>
              <a:rPr b="0" lang="pl-PL" sz="2000" spc="-1" strike="noStrike">
                <a:solidFill>
                  <a:srgbClr val="660066"/>
                </a:solidFill>
                <a:latin typeface="Tahoma"/>
                <a:ea typeface="Tahoma"/>
              </a:rPr>
              <a:t>Podprefekci i zdekoncentrowane służby państwa zorganizowane w ośrod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14720" y="189000"/>
            <a:ext cx="4950000" cy="626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1E09-DD13-485A-B2B8-CE43EBEFC9DD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00000" y="620640"/>
            <a:ext cx="82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9900"/>
                </a:solidFill>
                <a:latin typeface="Arial"/>
              </a:rPr>
              <a:t>2 – </a:t>
            </a:r>
            <a:r>
              <a:rPr b="1" lang="pl-PL" sz="2000" spc="-1" strike="noStrike" u="sng">
                <a:solidFill>
                  <a:srgbClr val="009900"/>
                </a:solidFill>
                <a:uFillTx/>
                <a:latin typeface="Arial"/>
              </a:rPr>
              <a:t>Sytuacja we Francji a samorządy lokalne w Europ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7524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42920" y="1773360"/>
          <a:ext cx="7778520" cy="2729880"/>
        </p:xfrm>
        <a:graphic>
          <a:graphicData uri="http://schemas.openxmlformats.org/drawingml/2006/table">
            <a:tbl>
              <a:tblPr/>
              <a:tblGrid>
                <a:gridCol w="1511280"/>
                <a:gridCol w="1658160"/>
                <a:gridCol w="1511640"/>
                <a:gridCol w="1513080"/>
                <a:gridCol w="1584360"/>
              </a:tblGrid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ctr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Franc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emc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jednoczone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ólestw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łoch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58320" bIns="46800" anchor="t">
                      <a:noAutofit/>
                    </a:bodyPr>
                    <a:p>
                      <a:pPr marL="343080" indent="-341640" algn="ctr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szpania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60,2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,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 algn="just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7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9,4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iony</a:t>
                      </a: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eszkańc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49 0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56 9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44 0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01 200 km</a:t>
                      </a:r>
                      <a:r>
                        <a:rPr b="0" lang="pl-PL" sz="1300" spc="-1" strike="noStrike" baseline="30000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pl-PL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4 800 km2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ndów/państw federal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6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rabst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2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7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spólnot</a:t>
                      </a: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nomicznych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50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4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0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artamen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26 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1640">
                        <a:lnSpc>
                          <a:spcPct val="93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481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wiatów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95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50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wincji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36 679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 algn="just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16 068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 074 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1640">
                        <a:lnSpc>
                          <a:spcPct val="104000"/>
                        </a:lnSpc>
                        <a:tabLst>
                          <a:tab algn="l" pos="0"/>
                          <a:tab algn="l" pos="343080"/>
                          <a:tab algn="l" pos="1257480"/>
                          <a:tab algn="l" pos="2171880"/>
                          <a:tab algn="l" pos="3086280"/>
                          <a:tab algn="l" pos="4000680"/>
                          <a:tab algn="l" pos="4915080"/>
                          <a:tab algn="l" pos="5829480"/>
                          <a:tab algn="l" pos="6743880"/>
                          <a:tab algn="l" pos="7658280"/>
                          <a:tab algn="l" pos="8572680"/>
                          <a:tab algn="l" pos="9487080"/>
                          <a:tab algn="l" pos="10401480"/>
                          <a:tab algn="l" pos="1078236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Trebuchet MS"/>
                          <a:ea typeface="Times New Roman"/>
                        </a:rPr>
                        <a:t>8 082 </a:t>
                      </a: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min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535A-7C6D-43EC-9EF4-DC2A6558A2F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16000" y="227664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9900"/>
                </a:solidFill>
                <a:latin typeface="Arial"/>
              </a:rPr>
              <a:t>2. 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« 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Tandem</a:t>
            </a:r>
            <a:r>
              <a:rPr b="1" lang="fr-FR" sz="2400" spc="-1" strike="noStrike" u="sng">
                <a:solidFill>
                  <a:srgbClr val="009900"/>
                </a:solidFill>
                <a:uFillTx/>
                <a:latin typeface="Arial"/>
              </a:rPr>
              <a:t> » </a:t>
            </a:r>
            <a:r>
              <a:rPr b="1" lang="pl-PL" sz="2400" spc="-1" strike="noStrike" u="sng">
                <a:solidFill>
                  <a:srgbClr val="009900"/>
                </a:solidFill>
                <a:uFillTx/>
                <a:latin typeface="Arial"/>
              </a:rPr>
              <a:t>Decentralizacja/Dekoncentrac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80360" y="476280"/>
            <a:ext cx="1338120" cy="50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85A37-46FD-4334-9B5B-8CE080E23AA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96360" y="260280"/>
            <a:ext cx="1152360" cy="389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-108000" y="836640"/>
            <a:ext cx="8242200" cy="4584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300720" y="1916280"/>
            <a:ext cx="25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08720" y="1628640"/>
            <a:ext cx="35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kręgi państwowe jak i samorządy terytorial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B1B6-DE16-422C-AF7F-7997949768A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04:38Z</dcterms:created>
  <dc:creator>Wojciech Gilewski</dc:creator>
  <dc:description/>
  <dc:language>en-US</dc:language>
  <cp:lastModifiedBy>KAS</cp:lastModifiedBy>
  <dcterms:modified xsi:type="dcterms:W3CDTF">2009-02-05T11:39:09Z</dcterms:modified>
  <cp:revision>398</cp:revision>
  <dc:subject>Présentation de la DIACT</dc:subject>
  <dc:title>DIACT, la délégation interministérielle à l’aménagement et à la compétitivité des territoires</dc:title>
</cp:coreProperties>
</file>