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EDED-BDD8-408E-A7F4-2BEE1D7A8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7595-B1FB-46CE-B2B4-E0160AB2F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256F-08DB-490C-B974-4817A90D7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6401-8274-48D5-AE3F-3198CF31D1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FB2B-9608-4681-A300-DA1C77012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584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15680" y="141300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56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584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15680" y="3931920"/>
            <a:ext cx="25520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03364-5B68-47B1-8F6A-8893B934D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1CA8-093F-44DC-96EB-557D4AB91A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F5E3A-EE4E-4BED-A85C-32700E6FF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301320"/>
            <a:ext cx="792648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57FF3-837B-4F81-9B64-A2CA25357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1481-79B2-4F2D-90A2-EF261D9FC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7160" y="393192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15250-63BF-4F12-820A-4ACDAA144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7160" y="1413000"/>
            <a:ext cx="386784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931920"/>
            <a:ext cx="7926480" cy="23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FE6F-4FE1-47FC-B42C-A674BBB96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64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1413000"/>
            <a:ext cx="792648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95280" y="260280"/>
            <a:ext cx="152280" cy="63374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68120" y="260280"/>
            <a:ext cx="155880" cy="633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459280" y="6356160"/>
            <a:ext cx="682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199A69-F9AC-47E7-9746-F8BC659F3987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48720" y="6350040"/>
            <a:ext cx="144360" cy="404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06200" y="6404040"/>
            <a:ext cx="64944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55640" y="404640"/>
            <a:ext cx="8064360" cy="6120000"/>
          </a:xfrm>
          <a:prstGeom prst="rect">
            <a:avLst/>
          </a:prstGeom>
          <a:solidFill>
            <a:srgbClr val="a50021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2636640"/>
            <a:ext cx="7237440" cy="20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04640"/>
            <a:ext cx="144360" cy="6120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8120" y="404640"/>
            <a:ext cx="147960" cy="6120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44360" y="141120"/>
          <a:ext cx="1187640" cy="69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360" y="141120"/>
                    <a:ext cx="118764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ervice-public.fr/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6920" y="1412640"/>
            <a:ext cx="72392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400" spc="-1" strike="noStrike">
                <a:solidFill>
                  <a:srgbClr val="ffffff"/>
                </a:solidFill>
                <a:latin typeface="Arial"/>
              </a:rPr>
              <a:t>Cycle de conférences KSAP-ENA</a:t>
            </a:r>
            <a:br>
              <a:rPr sz="3400"/>
            </a:b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De la modernisation</a:t>
            </a:r>
            <a:br>
              <a:rPr sz="38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à la réforme de l’Etat</a:t>
            </a:r>
            <a:br>
              <a:rPr sz="3400"/>
            </a:br>
            <a:r>
              <a:rPr b="1" lang="pl-PL" sz="3800" spc="-1" strike="noStrike">
                <a:solidFill>
                  <a:srgbClr val="ffffff"/>
                </a:solidFill>
                <a:latin typeface="Arial"/>
              </a:rPr>
              <a:t>en France</a:t>
            </a:r>
            <a:br>
              <a:rPr sz="3400"/>
            </a:br>
            <a:br>
              <a:rPr sz="3400"/>
            </a:br>
            <a:r>
              <a:rPr b="0" lang="pl-PL" sz="3000" spc="-1" strike="noStrike">
                <a:solidFill>
                  <a:srgbClr val="ffffff"/>
                </a:solidFill>
                <a:latin typeface="Arial"/>
              </a:rPr>
              <a:t>Frank MORDACQ</a:t>
            </a:r>
            <a:br>
              <a:rPr sz="30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Ministère du Budget, des Comptes publics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 Narrow"/>
              </a:rPr>
              <a:t>et de la Fonction publique - P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450480" y="6014880"/>
            <a:ext cx="25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 Narrow"/>
              </a:rPr>
              <a:t>Varsovie, 11 déc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531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629400" y="654840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54840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87280" y="1341360"/>
            <a:ext cx="8675640" cy="5397480"/>
            <a:chOff x="287280" y="1341360"/>
            <a:chExt cx="8675640" cy="5397480"/>
          </a:xfrm>
        </p:grpSpPr>
        <p:sp>
          <p:nvSpPr>
            <p:cNvPr id="149" name=""/>
            <p:cNvSpPr/>
            <p:nvPr/>
          </p:nvSpPr>
          <p:spPr>
            <a:xfrm>
              <a:off x="757080" y="515772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79640" y="5435640"/>
              <a:ext cx="2350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Chaque administration met à disposition de l’usager ses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informations et documents « bruts 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287280" y="1484280"/>
              <a:ext cx="5543640" cy="456552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32360" y="1341360"/>
              <a:ext cx="26622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Vers une administration centrée sur l’us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2360" y="3645000"/>
              <a:ext cx="2986200" cy="15001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4560" y="3922560"/>
              <a:ext cx="2351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Une chaîne de traitement «en ligne» amène à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repenser les processus, organisations et mét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92720" y="2205000"/>
              <a:ext cx="2806560" cy="1366920"/>
            </a:xfrm>
            <a:prstGeom prst="ellipse">
              <a:avLst/>
            </a:prstGeom>
            <a:solidFill>
              <a:srgbClr val="ffffff"/>
            </a:solidFill>
            <a:ln cap="sq"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14920" y="2482920"/>
              <a:ext cx="2351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fr-BE" sz="1400" spc="-1" strike="noStrike">
                  <a:solidFill>
                    <a:srgbClr val="003399"/>
                  </a:solidFill>
                  <a:latin typeface="Arial"/>
                </a:rPr>
                <a:t>L’administration se tourne vers l’usager pour</a:t>
              </a:r>
              <a:r>
                <a:rPr b="1" i="1" lang="fr-BE" sz="1400" spc="-1" strike="noStrike">
                  <a:solidFill>
                    <a:srgbClr val="003399"/>
                  </a:solidFill>
                  <a:latin typeface="Arial"/>
                </a:rPr>
                <a:t> mieux répondre à ses att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6560" y="3479760"/>
              <a:ext cx="20163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es travers d’une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administration «auto-centrée»: 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complexité,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délais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64000" y="5302080"/>
              <a:ext cx="1306440" cy="28440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7800 h 284400"/>
                <a:gd name="textAreaBottom" fmla="*/ 246600 h 28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8000" y="4726080"/>
              <a:ext cx="2735280" cy="12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dématérialisation de la déclaration de l’impôt sur le revenu avec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Télé-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Portail : Administration24h24.gouv.fr : 600 formalités « dématérialisées 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2360" y="3789360"/>
              <a:ext cx="1306800" cy="284040"/>
            </a:xfrm>
            <a:custGeom>
              <a:avLst/>
              <a:gdLst>
                <a:gd name="textAreaLeft" fmla="*/ 228600 w 1306800"/>
                <a:gd name="textAreaRight" fmla="*/ 947520 w 1306800"/>
                <a:gd name="textAreaTop" fmla="*/ 37800 h 284040"/>
                <a:gd name="textAreaBottom" fmla="*/ 2462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9280" y="2565360"/>
              <a:ext cx="1763640" cy="21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Sur 1 thème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changement d’adresse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n transversal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mon.service-public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: un espace de stockage de données administratives certifiées et l’accès aux démarches en lig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84720" y="6453360"/>
              <a:ext cx="1306440" cy="285480"/>
            </a:xfrm>
            <a:custGeom>
              <a:avLst/>
              <a:gdLst>
                <a:gd name="textAreaLeft" fmla="*/ 228600 w 1306440"/>
                <a:gd name="textAreaRight" fmla="*/ 947160 w 1306440"/>
                <a:gd name="textAreaTop" fmla="*/ 38160 h 285480"/>
                <a:gd name="textAreaBottom" fmla="*/ 247320 h 28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00"/>
            </a:solidFill>
            <a:ln cap="sq" w="1908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80000" y="6237360"/>
              <a:ext cx="2232000" cy="46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Ex. : </a:t>
              </a:r>
              <a:r>
                <a:rPr b="1" lang="pl-PL" sz="1200" spc="-1" strike="noStrike">
                  <a:solidFill>
                    <a:srgbClr val="000000"/>
                  </a:solidFill>
                  <a:latin typeface="Arial"/>
                </a:rPr>
                <a:t>formulaires pdf  à imprimer</a:t>
              </a: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 sur service-public.f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78920" y="514116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50560" y="362988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0920" y="2188440"/>
              <a:ext cx="392040" cy="393840"/>
            </a:xfrm>
            <a:prstGeom prst="ellipse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813744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Arial"/>
              </a:rPr>
              <a:t>Le développement de l’administration électronique : un levier de transformation pour toute l’administ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67E0-7C26-49BE-93E6-3D44C5C7D37D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développement des services en lign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60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Dématérialiser les démarches et offrir de</a:t>
            </a:r>
            <a:r>
              <a:rPr b="0" lang="pl-PL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nouveaux services en ligne 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ématérialisation des formulair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t accès par un site unique (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service-public.fr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hangement d’adress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15 services, 30% des déménagemen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ctes de naissance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5.000 demandes par jour),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éploiement début 2009 du portail « 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on.service-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 »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xpérimentation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lais de Services Public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man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 subventions en lign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, etc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373720"/>
            <a:ext cx="8064360" cy="863640"/>
          </a:xfrm>
          <a:prstGeom prst="flowChartAlternateProcess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La France est entrée dans le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Top 5 européen pour les services publics en lig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(étude Capgemini pour la Commission européenne, juin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69A09-EA4D-468A-9798-2EC4ECB71BD9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B364-84D2-4739-98BE-478356EAE56D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conduite de la réforme de l’E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5 : La réforme de l’Eta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tachée au Premier Ministr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Commissariat à la réforme de l’Etat (CRE)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997-2005 : La réforme de l’Etat rattaché au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inistre de la fonction publiqu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Délégation interministérielle à la réforme de l’Etat (DIRE) puis divers organismes: DMGPSE, DUSA, ADAE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003 : Direction de la réforme budgétaire (DRB) au ministère du budget pour la mise en œuvre de la LOLF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5 : Le rattachement de la réforme de l’Etat auprès du Budge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Création de la direction générale de la modernisation de l’Etat (DGME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volonté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politique, une continuité entre réforme budgétaire et réforme de l’Et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Une synergi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des compétences et des leviers d’ac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74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2007 : Budget + Réforme de l’Etat + Fonction publique auprès du ministre du budge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1B20-3FD2-4A47-9A0C-E2713FEF50E7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a DG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 rattachement au ministre du budge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fusion de toutes les structures existantes 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assurant la synergie des compétences et des leviers d’ac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Mission de la DGME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«Coordonner, aider et inciter, au niveau interministériel, les administrations en vue de moderniser les modes de fonctionnement et de gestion de l’Etat pour améliorer le service rendu aux usagers, contribuer à une utilisation plus performante des deniers publics et mobiliser les agents publics»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Une </a:t>
            </a: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organisation pour l’essentiel en mode projet : conseil/ services/innov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5f5f5f"/>
                </a:solidFill>
                <a:latin typeface="Arial"/>
              </a:rPr>
              <a:t>Une culture mixte public/privé</a:t>
            </a:r>
            <a:r>
              <a:rPr b="0" lang="pl-PL" sz="1800" spc="-1" strike="noStrike">
                <a:solidFill>
                  <a:srgbClr val="5f5f5f"/>
                </a:solidFill>
                <a:latin typeface="Arial"/>
              </a:rPr>
              <a:t>: fonctionnaires d’Etat et contractuels du secteur privé +assistance de prestataires extérieurs de cabinets de consei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Définir des référentiels et mettre en cohérence les sujets interministériels clés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Impulser les chantiers concrets de modernisati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600" spc="-1" strike="noStrike">
                <a:solidFill>
                  <a:srgbClr val="5f5f5f"/>
                </a:solidFill>
                <a:latin typeface="Arial"/>
              </a:rPr>
              <a:t>Aider et accompagner les administrations dans leurs transformations</a:t>
            </a:r>
            <a:r>
              <a:rPr b="0" lang="pl-PL" sz="1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BB1AE-06DD-4CBF-864E-42809A81DE7E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780000" y="2090880"/>
            <a:ext cx="4968720" cy="119376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Au moins 1 audit  par  ministère tous le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2 mois, puis tous les 3 mois (juillet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  <a:ea typeface="Microsoft YaHei"/>
              </a:rPr>
              <a:t>150 audits lancés, en 6 vagues, portant sur plus de 150 Mds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20890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ythme ambi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359568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glob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80000" y="3417840"/>
            <a:ext cx="4968720" cy="16668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iversité des services, procédures et fonctions, pour aborder les principaux enjeux de modernisa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vagues sectorielles (par ministère) et transversales (achats, paye, archivage, bureaut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5373720"/>
            <a:ext cx="309708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partenar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80000" y="5229360"/>
            <a:ext cx="4968720" cy="14396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choix des sujets relève de chaque ministre et du Premier minis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démarche permet aux ministères de s’approprier le diagnostic et d’être les acteurs de leur démarche de modern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44600"/>
            <a:ext cx="7920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adiographier le fonctionnement de l’Etat afin d’améliorer la qualité du service rendu aux Français tout en optimisant 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EBAFF-D6AF-4550-90D6-9E843C373D7F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780000" y="3137040"/>
            <a:ext cx="4870440" cy="723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Inspections interministérielles et ministériell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vec l’appui de consultants du priv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7520" y="287496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Équipes d’audits mix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80000" y="1365120"/>
            <a:ext cx="4870440" cy="1440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ropositions concrètes et quantifi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Mise en œuvre étudiée avec les parties pre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Des plans de transformation concrets sous</a:t>
            </a:r>
            <a:br>
              <a:rPr sz="1600"/>
            </a:b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18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7520" y="1400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Visée opération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4433760"/>
            <a:ext cx="4870440" cy="7146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Publication des rapports sur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tableau de bord des au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7520" y="422604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Démarche transpa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05200" y="5761080"/>
            <a:ext cx="4870440" cy="7142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Gains de produ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just">
              <a:spcBef>
                <a:spcPts val="4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266760"/>
                <a:tab algn="l" pos="1181160"/>
                <a:tab algn="l" pos="2095560"/>
                <a:tab algn="l" pos="3009960"/>
                <a:tab algn="l" pos="3924360"/>
                <a:tab algn="l" pos="4838760"/>
                <a:tab algn="l" pos="5753160"/>
                <a:tab algn="l" pos="6667560"/>
                <a:tab algn="l" pos="7581960"/>
                <a:tab algn="l" pos="8496360"/>
                <a:tab algn="l" pos="9410760"/>
                <a:tab algn="l" pos="1032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Améliorations de la qualité d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2720" y="5553000"/>
            <a:ext cx="3095640" cy="1189080"/>
          </a:xfrm>
          <a:prstGeom prst="ellipse">
            <a:avLst/>
          </a:prstGeom>
          <a:noFill/>
          <a:ln cap="sq"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oncr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es audits de modernisation 2005-2007 : une démarche innovant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6B4C-4A08-45FD-A2C6-434EEBC7436F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nouveau contexte politi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Election du Président Sarkozy en mai 2007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Nouvelle organisation gouvernementale avec 15 ministères seulemen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e ministère des finances divisé en deux 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e l’économie, des finances et de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l’emploi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Un ministère du budget, des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comptes public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de la </a:t>
            </a:r>
            <a:r>
              <a:rPr b="0" lang="pl-PL" sz="1800" spc="-1" strike="noStrike" u="sng">
                <a:solidFill>
                  <a:srgbClr val="4d4d4d"/>
                </a:solidFill>
                <a:uFillTx/>
                <a:latin typeface="Arial"/>
              </a:rPr>
              <a:t>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éforme de l’Etat est pilotée par la présidence de la République avec le cabinet du Premier ministre et s’appuie sur le ministère du budget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ncement de la Révision Générale des Politiques Publiques (RGPP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La règle du non remplacement des départs à la retraite à hauteur de 1 sur 2 dans la fonction publiqu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03F0-C244-4D33-950C-4EC4FB2B8281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s enjeux de la modernisation de l’Etat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a50021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41DC7-9371-4750-8AA4-9A87587AE897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Révision Générale des Politiques Publiqu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e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ncement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évision générale des politiques publiques (RGPP) par le Président de la République Nicolas SARKOZ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’objectif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de la RGPP : assurer le meilleur service public possible au moindre coût: réexamen des missions, économies budgétaires et réduction des effectif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exerci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mbitieux (2007-2008)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 pilotage politique au plus haut niveau : un comité de suivi composé de grands décideurs publics, un  arbitrage  par le Président de la République dans un </a:t>
            </a:r>
            <a:r>
              <a:rPr b="1" lang="pl-PL" sz="1900" spc="-1" strike="noStrike">
                <a:solidFill>
                  <a:srgbClr val="4d4d4d"/>
                </a:solidFill>
                <a:latin typeface="Arial"/>
              </a:rPr>
              <a:t>conseil de la modernisation des politiques publiques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Une démarche exhaustive : tous les champs de l’action publique, tous les ministères et les grands opérateurs de l’État ;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76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900" spc="-1" strike="noStrike">
                <a:solidFill>
                  <a:srgbClr val="4d4d4d"/>
                </a:solidFill>
                <a:latin typeface="Arial"/>
              </a:rPr>
              <a:t>Des audits portant sur la légitimité et les objectifs de l’action de l’État, avant de proposer des réformes.</a:t>
            </a:r>
            <a:endParaRPr b="0" lang="en-US" sz="19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RGPP s’inspire des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bonnes pratiques internationales,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notammen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 Canada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qui a conduit sa «revue des programmes» dès 1994, et a vu son déficit public passer de 5,9 % en 1992 à un excédent de 0,4 % en 1998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0A77D-C944-4F13-A4BF-31344B66F632}" type="slidenum">
              <a:t>19</a:t>
            </a:fld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927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a50021"/>
                </a:solidFill>
                <a:latin typeface="Arial"/>
              </a:rPr>
              <a:t>Les enjeux de la modernisation de l’Etat</a:t>
            </a: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Le pilotage de la réforme de l’Et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6520" indent="-506520" algn="just">
              <a:lnSpc>
                <a:spcPct val="80000"/>
              </a:lnSpc>
              <a:spcBef>
                <a:spcPts val="3501"/>
              </a:spcBef>
              <a:buClr>
                <a:srgbClr val="006666"/>
              </a:buClr>
              <a:buFont typeface="Arial"/>
              <a:buAutoNum type="romanUcPeriod"/>
              <a:tabLst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De la modernisation à la réforme de l’Etat :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507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76400"/>
                <a:tab algn="l" pos="1990800"/>
                <a:tab algn="l" pos="2905200"/>
                <a:tab algn="l" pos="3819600"/>
                <a:tab algn="l" pos="4734000"/>
                <a:tab algn="l" pos="5648400"/>
                <a:tab algn="l" pos="6562800"/>
                <a:tab algn="l" pos="7477200"/>
                <a:tab algn="l" pos="8391600"/>
                <a:tab algn="l" pos="9306000"/>
                <a:tab algn="l" pos="10220400"/>
                <a:tab algn="l" pos="10333080"/>
                <a:tab algn="l" pos="10782360"/>
              </a:tabLst>
            </a:pPr>
            <a:r>
              <a:rPr b="1" lang="pl-PL" sz="2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4d4d4d"/>
                </a:solidFill>
                <a:latin typeface="Arial"/>
              </a:rPr>
              <a:t>la Révision Générale des Politiques Publique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Sommai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EDE7-FA98-433E-8357-27615169C2F2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880920" y="771480"/>
            <a:ext cx="8261640" cy="5967000"/>
            <a:chOff x="880920" y="771480"/>
            <a:chExt cx="8261640" cy="5967000"/>
          </a:xfrm>
        </p:grpSpPr>
        <p:sp>
          <p:nvSpPr>
            <p:cNvPr id="201" name=""/>
            <p:cNvSpPr/>
            <p:nvPr/>
          </p:nvSpPr>
          <p:spPr>
            <a:xfrm>
              <a:off x="127944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 faisons-nou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88080" y="771480"/>
              <a:ext cx="2722680" cy="5396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s sont les besoins et les attentes collectives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80920" y="3881520"/>
              <a:ext cx="216072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faire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76840" y="5614920"/>
              <a:ext cx="2170080" cy="566640"/>
            </a:xfrm>
            <a:prstGeom prst="rect">
              <a:avLst/>
            </a:prstGeom>
            <a:solidFill>
              <a:srgbClr val="006600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el scénario de transformation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5" name=""/>
            <p:cNvCxnSpPr>
              <a:stCxn id="206" idx="1"/>
              <a:endCxn id="203" idx="0"/>
            </p:cNvCxnSpPr>
            <p:nvPr/>
          </p:nvCxnSpPr>
          <p:spPr>
            <a:xfrm flipV="1" rot="10800000">
              <a:off x="1959840" y="2514240"/>
              <a:ext cx="186444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07" name=""/>
            <p:cNvSpPr/>
            <p:nvPr/>
          </p:nvSpPr>
          <p:spPr>
            <a:xfrm>
              <a:off x="1341360" y="1433520"/>
              <a:ext cx="24973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ont les objectifs de la politique publiqu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assure-t-elle ? Que garantit-elle ? A quoi contribue-t-elle ? à quoi remédie-t-ell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sont les bénéficiaires visés et leurs caractéristiqu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595680" y="6278400"/>
              <a:ext cx="275112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cénarios d’évolution pour obtenir une politique publique plus efficace et moins coûteuse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garantir une mise en œuvre efficac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13720" y="4529160"/>
              <a:ext cx="232884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les évolutions permettent d’optimiser les moyens de cette politique tout en assurant le respect de ses objectifs et l’amélioration du cadre de travail des agent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simplifier les structures et les procédur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14920" y="4521240"/>
              <a:ext cx="2288880" cy="5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 financement de cette politique par l’Etat est-il justifié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i doit payer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cofinancements sont envisageable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81840" y="1343160"/>
              <a:ext cx="288900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sert-elle toujours l’intérêt public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es services répondent-ils aux besoins ? Quelles sont les nouvelles attentes ? Quelle nouvelle offre de services proposer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les bénéficiaires ont-ils évolué ? Qui sont les bénéficiaires eff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ette politique présente t-elle des effets pervers ou des effets d’aubain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390060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Qui doit payer 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6160" y="3881520"/>
              <a:ext cx="2160360" cy="557280"/>
            </a:xfrm>
            <a:prstGeom prst="rect">
              <a:avLst/>
            </a:prstGeom>
            <a:solidFill>
              <a:srgbClr val="000099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Comment faire mieux et moins cher ?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24280" y="2176560"/>
              <a:ext cx="2160720" cy="672840"/>
            </a:xfrm>
            <a:prstGeom prst="rect">
              <a:avLst/>
            </a:prstGeom>
            <a:solidFill>
              <a:srgbClr val="cc0066"/>
            </a:solidFill>
            <a:ln cap="sq" w="3240">
              <a:solidFill>
                <a:srgbClr val="ffffff"/>
              </a:solidFill>
              <a:miter/>
            </a:ln>
            <a:effectLst>
              <a:outerShdw dist="71785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pl-PL" sz="1200" spc="-1" strike="noStrike">
                  <a:solidFill>
                    <a:srgbClr val="ffffff"/>
                  </a:solidFill>
                  <a:latin typeface="Arial"/>
                </a:rPr>
                <a:t>Faut-il continuer à la faire de la sorte ?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"/>
            <p:cNvCxnSpPr>
              <a:stCxn id="201" idx="3"/>
              <a:endCxn id="206" idx="0"/>
            </p:cNvCxnSpPr>
            <p:nvPr/>
          </p:nvCxnSpPr>
          <p:spPr>
            <a:xfrm>
              <a:off x="4003200" y="1042560"/>
              <a:ext cx="9010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5" name=""/>
            <p:cNvCxnSpPr>
              <a:stCxn id="202" idx="1"/>
              <a:endCxn id="206" idx="0"/>
            </p:cNvCxnSpPr>
            <p:nvPr/>
          </p:nvCxnSpPr>
          <p:spPr>
            <a:xfrm flipV="1" rot="10800000">
              <a:off x="4903200" y="1042560"/>
              <a:ext cx="884880" cy="11343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6" idx="2"/>
              <a:endCxn id="212" idx="0"/>
            </p:cNvCxnSpPr>
            <p:nvPr/>
          </p:nvCxnSpPr>
          <p:spPr>
            <a:xfrm rot="5400000">
              <a:off x="4377600" y="3371760"/>
              <a:ext cx="1048320" cy="7200"/>
            </a:xfrm>
            <a:prstGeom prst="bentConnector3">
              <a:avLst>
                <a:gd name="adj1" fmla="val 52387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17" name=""/>
            <p:cNvCxnSpPr>
              <a:stCxn id="206" idx="3"/>
              <a:endCxn id="213" idx="0"/>
            </p:cNvCxnSpPr>
            <p:nvPr/>
          </p:nvCxnSpPr>
          <p:spPr>
            <a:xfrm>
              <a:off x="5986080" y="2514240"/>
              <a:ext cx="1989720" cy="136764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18" name=""/>
            <p:cNvSpPr/>
            <p:nvPr/>
          </p:nvSpPr>
          <p:spPr>
            <a:xfrm>
              <a:off x="3462480" y="2919240"/>
              <a:ext cx="2919240" cy="71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maintenir cette politiqu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Faut-il revoir les objectif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Quels services doit-elle rendre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Comment adapter les outils de la politique publique ? Faut-il faire évoluer le champ des bénéficiair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9" name=""/>
            <p:cNvCxnSpPr>
              <a:stCxn id="210" idx="2"/>
              <a:endCxn id="204" idx="0"/>
            </p:cNvCxnSpPr>
            <p:nvPr/>
          </p:nvCxnSpPr>
          <p:spPr>
            <a:xfrm flipH="1" rot="16200000">
              <a:off x="4772520" y="5426280"/>
              <a:ext cx="375480" cy="2160"/>
            </a:xfrm>
            <a:prstGeom prst="bentConnector3">
              <a:avLst>
                <a:gd name="adj1" fmla="val 49616"/>
              </a:avLst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0" name=""/>
            <p:cNvCxnSpPr>
              <a:stCxn id="203" idx="2"/>
              <a:endCxn id="204" idx="1"/>
            </p:cNvCxnSpPr>
            <p:nvPr/>
          </p:nvCxnSpPr>
          <p:spPr>
            <a:xfrm flipH="1" rot="16200000">
              <a:off x="2189880" y="4212000"/>
              <a:ext cx="1458000" cy="191376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21" name=""/>
            <p:cNvCxnSpPr>
              <a:stCxn id="209" idx="2"/>
              <a:endCxn id="204" idx="3"/>
            </p:cNvCxnSpPr>
            <p:nvPr/>
          </p:nvCxnSpPr>
          <p:spPr>
            <a:xfrm rot="5400000">
              <a:off x="6816240" y="4735440"/>
              <a:ext cx="392760" cy="1932480"/>
            </a:xfrm>
            <a:prstGeom prst="bentConnector2">
              <a:avLst/>
            </a:prstGeom>
            <a:ln cap="sq" w="32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22" name=""/>
            <p:cNvSpPr/>
            <p:nvPr/>
          </p:nvSpPr>
          <p:spPr>
            <a:xfrm>
              <a:off x="1428840" y="93816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89600" y="933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2040" y="217800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408636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71800" y="40924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69240" y="4200480"/>
              <a:ext cx="18720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8480" y="6031080"/>
              <a:ext cx="187560" cy="201600"/>
            </a:xfrm>
            <a:prstGeom prst="ellipse">
              <a:avLst/>
            </a:prstGeom>
            <a:solidFill>
              <a:srgbClr val="000000"/>
            </a:solidFill>
            <a:ln cap="sq"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9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00000" y="4559400"/>
              <a:ext cx="2184480" cy="110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La politique peut-elle être assurée plus efficacement par d’autres acteurs ou sous d’autres formes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Est-ce à l’Etat de conduire cette politique ? A quel niveau ?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0360" indent="-90360">
                <a:lnSpc>
                  <a:spcPct val="85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r>
                <a:rPr b="0" i="1" lang="pl-PL" sz="1000" spc="-1" strike="noStrike">
                  <a:solidFill>
                    <a:srgbClr val="000000"/>
                  </a:solidFill>
                  <a:latin typeface="Arial Narrow"/>
                </a:rPr>
                <a:t>Avec quelles coopérations et articulations avec d’autres acteurs publics ou privés ?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0720">
                <a:lnSpc>
                  <a:spcPct val="85000"/>
                </a:lnSpc>
                <a:tabLst>
                  <a:tab algn="l" pos="0"/>
                  <a:tab algn="l" pos="90360"/>
                  <a:tab algn="l" pos="1004760"/>
                  <a:tab algn="l" pos="1919160"/>
                  <a:tab algn="l" pos="2833560"/>
                  <a:tab algn="l" pos="3747960"/>
                  <a:tab algn="l" pos="4662360"/>
                  <a:tab algn="l" pos="5576760"/>
                  <a:tab algn="l" pos="6491160"/>
                  <a:tab algn="l" pos="7405560"/>
                  <a:tab algn="l" pos="8319960"/>
                  <a:tab algn="l" pos="9234360"/>
                  <a:tab algn="l" pos="10148760"/>
                  <a:tab algn="l" pos="10333080"/>
                  <a:tab algn="l" pos="107823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 rot="16200000">
            <a:off x="-1652400" y="1654200"/>
            <a:ext cx="42055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927920" cy="5349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a grille d’analyse RGPP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5A67-A5B4-4976-9039-2FB213A7209B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analyse porte sur des dépenses de différentes natur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17520" y="1698480"/>
            <a:ext cx="7024680" cy="4105440"/>
            <a:chOff x="1217520" y="1698480"/>
            <a:chExt cx="7024680" cy="4105440"/>
          </a:xfrm>
        </p:grpSpPr>
        <p:sp>
          <p:nvSpPr>
            <p:cNvPr id="234" name=""/>
            <p:cNvSpPr/>
            <p:nvPr/>
          </p:nvSpPr>
          <p:spPr>
            <a:xfrm>
              <a:off x="1217520" y="1698480"/>
              <a:ext cx="3381480" cy="56988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82080" y="1806480"/>
              <a:ext cx="219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Appareil product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4880" y="1700280"/>
              <a:ext cx="3383280" cy="56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98880" y="1806480"/>
              <a:ext cx="1599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Interven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7520" y="2397240"/>
              <a:ext cx="3381480" cy="1350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74960" y="245268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59280" y="2398680"/>
              <a:ext cx="3382920" cy="135108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18160" y="2454120"/>
              <a:ext cx="1936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Nature de dép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55680" y="2670120"/>
              <a:ext cx="330984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penses de personnel, dépenses de fonctionnement (y.c. subventions aux opérateur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Investissements « administratifs » (informatique, immobilier, etc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27680" y="2743200"/>
              <a:ext cx="331128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d’interventions (transferts, subventions) investissements structurants (défense, équipemen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Dépenses fisc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17520" y="3938760"/>
              <a:ext cx="1631880" cy="183816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62520" y="3938760"/>
              <a:ext cx="16336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10320" y="3938760"/>
              <a:ext cx="1631880" cy="1865160"/>
            </a:xfrm>
            <a:prstGeom prst="rect">
              <a:avLst/>
            </a:prstGeom>
            <a:noFill/>
            <a:ln cap="rnd" w="2232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62440" y="3938760"/>
              <a:ext cx="1633320" cy="1863720"/>
            </a:xfrm>
            <a:prstGeom prst="rect">
              <a:avLst/>
            </a:prstGeom>
            <a:noFill/>
            <a:ln cap="rnd" w="22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9860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 d’appu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27320" y="4003560"/>
              <a:ext cx="1360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Fonc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1c782d"/>
                  </a:solidFill>
                  <a:latin typeface="Arial"/>
                </a:rPr>
                <a:t>opérationnel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27680" y="4003560"/>
              <a:ext cx="15033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discrétionnai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27680" y="4003560"/>
              <a:ext cx="13608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993366"/>
                  </a:solidFill>
                  <a:latin typeface="Arial"/>
                </a:rPr>
                <a:t>Interventions à guichet ouve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55680" y="4508640"/>
              <a:ext cx="150984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Administrations cent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Soutien des politiques publiqu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Fonctions support transvers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56040" y="4508640"/>
              <a:ext cx="15094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Relations directes avec l’us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1c782d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1c782d"/>
                  </a:solidFill>
                  <a:latin typeface="Arial"/>
                </a:rPr>
                <a:t>Délivrance d’un service public, d’une pres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768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 de subventionnement classi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Eventuellement contractualisé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56400" y="4508640"/>
              <a:ext cx="1511280" cy="12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Logiques de prestations, de transferts dire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993366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200" spc="-1" strike="noStrike">
                  <a:solidFill>
                    <a:srgbClr val="993366"/>
                  </a:solidFill>
                  <a:latin typeface="Arial"/>
                </a:rPr>
                <a:t>Sur des critères ouvrant un dro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8396-C821-4882-B612-232F93A939A5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601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’organisation des travaux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95200" y="981000"/>
            <a:ext cx="8739360" cy="6096960"/>
            <a:chOff x="295200" y="981000"/>
            <a:chExt cx="8739360" cy="6096960"/>
          </a:xfrm>
        </p:grpSpPr>
        <p:sp>
          <p:nvSpPr>
            <p:cNvPr id="258" name=""/>
            <p:cNvSpPr/>
            <p:nvPr/>
          </p:nvSpPr>
          <p:spPr>
            <a:xfrm>
              <a:off x="295200" y="981000"/>
              <a:ext cx="5932440" cy="58719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5280" y="1143720"/>
              <a:ext cx="2727360" cy="106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15 équipes d’audit ministériel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(chef d’équipe, membres de corps d’inspection, consultant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48000" y="1148760"/>
              <a:ext cx="2735280" cy="1338120"/>
            </a:xfrm>
            <a:prstGeom prst="roundRect">
              <a:avLst>
                <a:gd name="adj" fmla="val 16667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6 équipes d’audit sur des grandes politiques d’interven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Méthode spécifique – rattachement ultérieur à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64360" y="1143720"/>
              <a:ext cx="2741400" cy="1068120"/>
            </a:xfrm>
            <a:prstGeom prst="roundRect">
              <a:avLst>
                <a:gd name="adj" fmla="val 16667"/>
              </a:avLst>
            </a:prstGeom>
            <a:solidFill>
              <a:srgbClr val="5642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4 groupes de travail interministéri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000" spc="-1" strike="noStrike">
                  <a:solidFill>
                    <a:srgbClr val="ffffff"/>
                  </a:solidFill>
                  <a:latin typeface="Arial"/>
                  <a:ea typeface="ヒラギノ角ゴ Pro W3"/>
                </a:rPr>
                <a:t>Pilotage autonome, différent des équipes d’aud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360" y="2625120"/>
              <a:ext cx="2662200" cy="418320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ction extérieure de l’Eta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ide publique au développ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griculture et pê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Culture et communication et Services du Premier minist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fen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cologie, développement et aménagement dur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colai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nseignement supérieur et recherc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éseaux financi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Just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anté – solidarités – spor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écuri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mmigration et inté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Intérie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utre-m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21080" y="2625120"/>
              <a:ext cx="2662200" cy="3735360"/>
            </a:xfrm>
            <a:prstGeom prst="rect">
              <a:avLst/>
            </a:prstGeom>
            <a:noFill/>
            <a:ln cap="sq" w="936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Fami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Assurance-maladi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Politiques de solidarité et de lutte contre la pauvret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Ville et log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Emploi et formation professionnel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Développement des entrepris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72360" y="2625120"/>
              <a:ext cx="2662200" cy="253872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Gestion des ressources humai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Organisation de l’administration territori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Relations entre l’Etat et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Simplification des procédures inter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5240160"/>
              <a:ext cx="2662200" cy="1118880"/>
            </a:xfrm>
            <a:prstGeom prst="rect">
              <a:avLst/>
            </a:prstGeom>
            <a:noFill/>
            <a:ln cap="sq" w="9360">
              <a:solidFill>
                <a:srgbClr val="564294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Arial"/>
                </a:rPr>
                <a:t>+ Un chantier spécifique : la réduction de la charge administrative sur les entreprises et sur les collectivités loca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6" name=""/>
            <p:cNvCxnSpPr>
              <a:stCxn id="262" idx="2"/>
              <a:endCxn id="263" idx="2"/>
            </p:cNvCxnSpPr>
            <p:nvPr/>
          </p:nvCxnSpPr>
          <p:spPr>
            <a:xfrm flipH="1" flipV="1" rot="5400000">
              <a:off x="3050640" y="5109120"/>
              <a:ext cx="450360" cy="2951640"/>
            </a:xfrm>
            <a:prstGeom prst="bentConnector3">
              <a:avLst>
                <a:gd name="adj1" fmla="val -59600"/>
              </a:avLst>
            </a:prstGeom>
            <a:ln cap="sq" w="9360">
              <a:solidFill>
                <a:srgbClr val="564294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62" idx="2"/>
              <a:endCxn id="265" idx="2"/>
            </p:cNvCxnSpPr>
            <p:nvPr/>
          </p:nvCxnSpPr>
          <p:spPr>
            <a:xfrm flipH="1" flipV="1" rot="5400000">
              <a:off x="4525560" y="3632760"/>
              <a:ext cx="451800" cy="5902920"/>
            </a:xfrm>
            <a:prstGeom prst="bentConnector3">
              <a:avLst>
                <a:gd name="adj1" fmla="val -59409"/>
              </a:avLst>
            </a:prstGeom>
            <a:ln cap="sq" w="9360">
              <a:solidFill>
                <a:srgbClr val="564294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57EF-D792-49DF-BCFB-0D19AFD52C53}" type="slidenum">
              <a:t>22</a:t>
            </a:fld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50920" y="2062080"/>
            <a:ext cx="1393560" cy="719280"/>
          </a:xfrm>
          <a:custGeom>
            <a:avLst/>
            <a:gdLst>
              <a:gd name="textAreaLeft" fmla="*/ 0 w 1393560"/>
              <a:gd name="textAreaRight" fmla="*/ 1393920 w 13935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18" y="0"/>
                </a:lnTo>
                <a:lnTo>
                  <a:pt x="21600" y="10800"/>
                </a:lnTo>
                <a:lnTo>
                  <a:pt x="1891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Lancement/ cad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69236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91" y="0"/>
                </a:lnTo>
                <a:lnTo>
                  <a:pt x="21600" y="10800"/>
                </a:lnTo>
                <a:lnTo>
                  <a:pt x="203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1er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Travaux d'analyse et scénarios intermédi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48240" y="2062080"/>
            <a:ext cx="2808360" cy="719280"/>
          </a:xfrm>
          <a:custGeom>
            <a:avLst/>
            <a:gdLst>
              <a:gd name="textAreaLeft" fmla="*/ 0 w 2808360"/>
              <a:gd name="textAreaRight" fmla="*/ 2808720 w 2808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0" y="0"/>
                </a:lnTo>
                <a:lnTo>
                  <a:pt x="21600" y="10800"/>
                </a:lnTo>
                <a:lnTo>
                  <a:pt x="2066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Comité de Suivi 2nd pas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(Scénarios définitif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1341360"/>
            <a:ext cx="136836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45080" y="1341360"/>
            <a:ext cx="13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onseil de la modernisation des politiques publ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80360" y="2062080"/>
            <a:ext cx="1763640" cy="71928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34" y="0"/>
                </a:lnTo>
                <a:lnTo>
                  <a:pt x="21600" y="10800"/>
                </a:lnTo>
                <a:lnTo>
                  <a:pt x="19034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Actions de 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844640"/>
            <a:ext cx="1225440" cy="2174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uillet-août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692360" y="1844640"/>
            <a:ext cx="265752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Septembre-décembre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46440" y="1844640"/>
            <a:ext cx="2678400" cy="21600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Janvier-mai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80360" y="1844640"/>
            <a:ext cx="1552680" cy="21744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2008-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2925720"/>
            <a:ext cx="1441440" cy="316872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ncement de la démarche par le Premier mini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place des équipes d’au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2925720"/>
            <a:ext cx="280836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  2007, chaque ministre passe devant le Comité de suivi pour examiner des scenarios d’évolution des politiques de son ministè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Un premier Conseil de la modernisation des politiques publiques examine l’état d’avancement des travaux en décembre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2925720"/>
            <a:ext cx="266400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uxième passage devant le Comité de suivi, afin d’approfondir les scenarios, d’évaluer leurs impacts et d’étudier leurs modalités d’accompagn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uin 2008, le Conseil de la modernisation des politiques publiques est saisi des scénarios stratégiques de tous les ministères et adopte les principales dé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451640" y="4483080"/>
            <a:ext cx="16290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451640" y="2925720"/>
            <a:ext cx="1513080" cy="3168720"/>
          </a:xfrm>
          <a:prstGeom prst="rect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se en œuvre des réformes décidées sur la période 2009-2011, dans un cadre budgétaire pluriann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bilisation de l’ensemble des leviers de moder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1636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24360" y="2781360"/>
            <a:ext cx="180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101080" y="2781360"/>
            <a:ext cx="1440" cy="144360"/>
          </a:xfrm>
          <a:prstGeom prst="line">
            <a:avLst/>
          </a:prstGeom>
          <a:ln cap="sq"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6896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36000" y="1882800"/>
            <a:ext cx="144360" cy="96840"/>
          </a:xfrm>
          <a:prstGeom prst="hexagon">
            <a:avLst>
              <a:gd name="adj" fmla="val 37268"/>
              <a:gd name="vf" fmla="val 115470"/>
            </a:avLst>
          </a:prstGeom>
          <a:solidFill>
            <a:srgbClr val="800080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5640" y="301680"/>
            <a:ext cx="7927920" cy="8236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 calendrier de la RGPP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93080" y="208080"/>
            <a:ext cx="1908000" cy="106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8ACA-56CD-47B3-AF0A-DF4C7887F0FD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22080"/>
            <a:ext cx="771048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SzPct val="150000"/>
              <a:buFont typeface="Wingdings 3" charset="2"/>
              <a:buChar char="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350 mesures de réforme annoncées en juin 200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Des économi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Une économie de 7,7 Mds€ sur 4 ans, soit environ 5 % d’économies sur le périmètre étudi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a réduction des effectifs : 50 % de non remplacement des départs à la retraite : 30.600 suppressions en budget 2009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modernisation des ministèr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Conséquences des fusions de plusieurs ministèr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éduction de 50 directions d’administration centrale (sur 200) (Finances: une direction générale des finances publiques pour s’occuper de l’impôt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2251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a réforme de l’Etat territoria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Resserrement des implantations territoriales : défense – justice – santé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niveau régional est de droit commun pour la programmation des politiques publiques + autorité hiérarchique du préfet de région sur le préfet de département + un nombre réduit de directions régionales : 8 directions au lieu de 30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80000"/>
              </a:lnSpc>
              <a:spcBef>
                <a:spcPts val="400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600" spc="-1" strike="noStrike">
                <a:solidFill>
                  <a:srgbClr val="4d4d4d"/>
                </a:solidFill>
                <a:latin typeface="Arial"/>
              </a:rPr>
              <a:t>Le département : l’exécution des politiques publiques : resserrement autour du Préfet avec 3 directions interministérielles nouvelle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F28E-4209-40A1-B58E-B71E14D486CD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640" y="1415880"/>
            <a:ext cx="7920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Des chantiers transvers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tat – collectivités local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larifier les compétences à l’issue des lois de décentralis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Alléger et encadrer les normes que l’Etat fait peser sur les collectivité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Meilleur respect de la contrainte globale des financ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 3" charset="2"/>
              <a:buChar char="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Vers une réforme des niveaux d’administrations en 2009 ?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communes/communautés de communes/départements/région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a simplification des procédures internes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Création « d’agences de service public » donnant au sein de l’Etat une plus grande souplesse de gestion à des structures autonom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guler l’inflation normative (étude d’impact préalable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Simplifier des procédures (d’organisation des ministères – de passation des marchés – de consultations …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41240" indent="-284040" algn="just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Réformer le contrôle de la dépense publique (expérimenter un comité d’engagement à la place du visa préalable des actes du contrôle financier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56504-DEC9-456A-94EB-AC5622EC0423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résultats de la RGPP (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1522080"/>
            <a:ext cx="792000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gouvernance des finances publiqu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Un budget pluriannuel pour l’Etat (2009-2011) avec une loi de programmation des finances publiques (votée en décembre 2008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es règles d’adoption plus strictes pour les dépenses fiscal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a rationalisation et la mutualisation des fonctions suppor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Mise en place d’un opérateur national de pay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Centralisation de la politique immobilièr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duction de «l’impôt papier» (allégement des charges pesant sur les entreprise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Développement de l’administration électronique (e-gov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Réforme de l’organisation des achats (une agence nationale des achats mutualisés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80000"/>
              </a:lnSpc>
              <a:spcBef>
                <a:spcPts val="451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4d4d4d"/>
                </a:solidFill>
                <a:latin typeface="Arial"/>
              </a:rPr>
              <a:t>Amélioration de l’accueil dans les services publics (accueil multicanal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8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L’accompagnement des restructuration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par une politique de </a:t>
            </a:r>
            <a:r>
              <a:rPr b="1" lang="fr-FR" sz="2000" spc="-1" strike="noStrike">
                <a:solidFill>
                  <a:srgbClr val="4d4d4d"/>
                </a:solidFill>
                <a:latin typeface="Arial"/>
              </a:rPr>
              <a:t>ressources humaines</a:t>
            </a:r>
            <a:r>
              <a:rPr b="0" lang="fr-FR" sz="2000" spc="-1" strike="noStrike">
                <a:solidFill>
                  <a:srgbClr val="4d4d4d"/>
                </a:solidFill>
                <a:latin typeface="Arial"/>
              </a:rPr>
              <a:t> adaptée : primes de mobilité et indemnités de départ volontair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D1F6-5D03-40A5-90D9-60C3F001E844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Vers une modification du statut de la fonction publique ?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just">
              <a:spcBef>
                <a:spcPts val="2500"/>
              </a:spcBef>
              <a:buNone/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ivre blanc de 40 propositions pour modernisation la fonction publique en 2008 pour un projet de  loi en 2009,  dont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organiser le statut de corps en créant  7 grandes filières métiers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dministration générale / finances / sociale / éducation recherche / culturelle / technique / sécurité (hors militaires et magistr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edéfinir la place du contrat :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 contrats de droit public pour 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emploi de souveraineté  et des contrats de droit privé pour les autres  autres emplois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63600" indent="-363600" algn="just"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Fixer une part d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munér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au mérit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une composante liée au grade (ancienneté) + une composante liée à l’emploi (part fixe et part variable liée aux résultat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38280" y="6489720"/>
            <a:ext cx="495324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onférence cofinancée par l'Union Européenne</a:t>
            </a:r>
            <a:r>
              <a:rPr b="0" lang="fr-FR" sz="9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dans le cadre du Fond Social Europé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rcRect l="11527" t="21188" r="11121" b="21855"/>
          <a:stretch/>
        </p:blipFill>
        <p:spPr>
          <a:xfrm>
            <a:off x="2209680" y="6477120"/>
            <a:ext cx="914400" cy="32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"/>
          <p:cNvGraphicFramePr/>
          <p:nvPr/>
        </p:nvGraphicFramePr>
        <p:xfrm>
          <a:off x="6629400" y="6477120"/>
          <a:ext cx="838080" cy="30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29400" y="6477120"/>
                    <a:ext cx="83808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2B081-80BF-4AC4-8FBC-95F083900189}" type="slidenum">
              <a:t>27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44720" y="4940280"/>
            <a:ext cx="3095640" cy="1584360"/>
          </a:xfrm>
          <a:prstGeom prst="cloudCallout">
            <a:avLst>
              <a:gd name="adj1" fmla="val 50462"/>
              <a:gd name="adj2" fmla="val -100601"/>
            </a:avLst>
          </a:prstGeom>
          <a:solidFill>
            <a:srgbClr val="ffffff"/>
          </a:solidFill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situation des finances publiques (déficit et dett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2133720"/>
            <a:ext cx="2592360" cy="1871640"/>
          </a:xfrm>
          <a:prstGeom prst="cloudCallout">
            <a:avLst>
              <a:gd name="adj1" fmla="val -93722"/>
              <a:gd name="adj2" fmla="val 44995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démographie, l’attractivité de la fonction pub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3080" y="4581360"/>
            <a:ext cx="2808360" cy="1727280"/>
          </a:xfrm>
          <a:prstGeom prst="cloudCallout">
            <a:avLst>
              <a:gd name="adj1" fmla="val -70972"/>
              <a:gd name="adj2" fmla="val -7628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es évolutions de la société, les attentes des citoy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360" y="1339920"/>
            <a:ext cx="3167280" cy="1800000"/>
          </a:xfrm>
          <a:prstGeom prst="cloudCallout">
            <a:avLst>
              <a:gd name="adj1" fmla="val -11652"/>
              <a:gd name="adj2" fmla="val 80157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a compétitivité globale du pays dans une économie mondi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94080"/>
            <a:ext cx="2952720" cy="1871640"/>
          </a:xfrm>
          <a:prstGeom prst="cloudCallout">
            <a:avLst>
              <a:gd name="adj1" fmla="val 65055"/>
              <a:gd name="adj2" fmla="val 23708"/>
            </a:avLst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L’articulation des différents niveaux d’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tat, Collectivités locales, Union européen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16360" y="3414600"/>
            <a:ext cx="1746000" cy="911160"/>
          </a:xfrm>
          <a:prstGeom prst="ellipse">
            <a:avLst/>
          </a:prstGeom>
          <a:noFill/>
          <a:ln cap="sq"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Dé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L’État doit faire face à des défis considérable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4EB4-58E4-459F-A857-0F44CDC942E1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Contexte et périmètre de la réforme de l’Et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9279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ontexte :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une situation de finances publiques difficile: dette de 63,9% du PIB et déficit de 2,7% du PIB en 2007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Périmètre 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 L’Etat n’est qu’une partie de la sphère publique, même les citoyens s’adressent toujours au Gouvernement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Une difficulté : des politiques publiques définies par l’Etat mais dont certaines sont gérées par des entités autonom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69880" y="3933720"/>
            <a:ext cx="8535960" cy="2080080"/>
            <a:chOff x="569880" y="3933720"/>
            <a:chExt cx="8535960" cy="2080080"/>
          </a:xfrm>
        </p:grpSpPr>
        <p:sp>
          <p:nvSpPr>
            <p:cNvPr id="104" name=""/>
            <p:cNvSpPr/>
            <p:nvPr/>
          </p:nvSpPr>
          <p:spPr>
            <a:xfrm>
              <a:off x="2914560" y="4121640"/>
              <a:ext cx="157824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E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+ organismes div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03640" y="4115160"/>
              <a:ext cx="1870200" cy="82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 loca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07280" y="4226760"/>
              <a:ext cx="172728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Sécurité soc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880" y="3933720"/>
              <a:ext cx="1913040" cy="12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0880" y="4259160"/>
              <a:ext cx="175896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Administrations publ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16360" y="3940200"/>
              <a:ext cx="16542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003640" y="3940200"/>
              <a:ext cx="187200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07280" y="3940200"/>
              <a:ext cx="1798560" cy="1222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8436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77080" y="4227480"/>
              <a:ext cx="43020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3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991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2,4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16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340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48360" y="5380200"/>
              <a:ext cx="158256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207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51640" y="5380200"/>
              <a:ext cx="158292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444  Mds</a:t>
              </a: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,5% PI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0CD42-1603-474E-944B-042797342F2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éléments du budget de l’Etat franç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natures de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43%  de dépenses de personn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2% de dépenses d’interventio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6% de charge de la dett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4% de fonctionnement coura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5% d’investissemen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finalités de la dép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21,5% Education national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,5% Missions sociales-emploi-san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13 % Défens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33680" indent="-281160" algn="just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8,6% Recherche et enseignement supérieu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es effectif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2,2 M de fonctionnaires (5 M au total avec les collectivités locales et les hôpitaux soit 20% des actifs)  dont la moitié sont des  enseignants financés sur le budget de l’Et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FC00-82D8-4B12-A29E-F39A8F98F678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Les leviers de la modernisation de l’Ét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900000" y="1690200"/>
            <a:ext cx="7613640" cy="4258080"/>
            <a:chOff x="900000" y="1690200"/>
            <a:chExt cx="7613640" cy="4258080"/>
          </a:xfrm>
        </p:grpSpPr>
        <p:sp>
          <p:nvSpPr>
            <p:cNvPr id="123" name=""/>
            <p:cNvSpPr/>
            <p:nvPr/>
          </p:nvSpPr>
          <p:spPr>
            <a:xfrm>
              <a:off x="900000" y="1758960"/>
              <a:ext cx="7613640" cy="418932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840084"/>
              </a:solidFill>
              <a:miter/>
            </a:ln>
            <a:effectLst>
              <a:outerShdw dist="17819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73360" y="1690200"/>
              <a:ext cx="6653160" cy="40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ctr">
              <a:spAutoFit/>
            </a:bodyPr>
            <a:p>
              <a:pPr>
                <a:lnSpc>
                  <a:spcPct val="1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2800" spc="-1" strike="noStrike">
                  <a:solidFill>
                    <a:srgbClr val="a50021"/>
                  </a:solidFill>
                  <a:latin typeface="Arial"/>
                </a:rPr>
                <a:t>Trois leviers «classiques» essentiel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nouvelle gestion publique (la LOL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a simplification et l’exigence de qual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73200">
                <a:lnSpc>
                  <a:spcPct val="15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e développement de l’administration électron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260360" y="2984400"/>
              <a:ext cx="824040" cy="435240"/>
            </a:xfrm>
            <a:prstGeom prst="ellips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60360" y="3776760"/>
              <a:ext cx="824040" cy="434880"/>
            </a:xfrm>
            <a:prstGeom prst="ellipse">
              <a:avLst/>
            </a:prstGeom>
            <a:solidFill>
              <a:srgbClr val="ff00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60360" y="4640400"/>
              <a:ext cx="824040" cy="434880"/>
            </a:xfrm>
            <a:prstGeom prst="ellipse">
              <a:avLst/>
            </a:prstGeom>
            <a:solidFill>
              <a:srgbClr val="840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7004-7DD8-4B5B-A8C5-8D3E86F86182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1360" indent="0">
              <a:buNone/>
              <a:tabLst>
                <a:tab algn="l" pos="0"/>
                <a:tab algn="l" pos="441360"/>
                <a:tab algn="l" pos="1355760"/>
                <a:tab algn="l" pos="2270160"/>
                <a:tab algn="l" pos="3184560"/>
                <a:tab algn="l" pos="4098960"/>
                <a:tab algn="l" pos="5013360"/>
                <a:tab algn="l" pos="5927760"/>
                <a:tab algn="l" pos="6842160"/>
                <a:tab algn="l" pos="7756560"/>
                <a:tab algn="l" pos="8670960"/>
                <a:tab algn="l" pos="9585360"/>
                <a:tab algn="l" pos="1049976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1. La nouvelle gestion publique promue par la LOLF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ne réflexion sur le sens de l’ac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formalisation de la stratégie et des objectifs des politiques publique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Liber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globalisation des enveloppes de crédits, déconcentration des décisions de gestion pour trouver des gains de performance au plus près du terrai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esponsabilité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: logique de performance (objectifs et indicateurs), outils de pilotage (système d’information budgétaire et comptable, comptabilité d’exercice, contrôle de gestion )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55640" y="3213000"/>
            <a:ext cx="8128080" cy="3475080"/>
            <a:chOff x="755640" y="3213000"/>
            <a:chExt cx="8128080" cy="3475080"/>
          </a:xfrm>
        </p:grpSpPr>
        <p:sp>
          <p:nvSpPr>
            <p:cNvPr id="131" name=""/>
            <p:cNvSpPr/>
            <p:nvPr/>
          </p:nvSpPr>
          <p:spPr>
            <a:xfrm>
              <a:off x="3564000" y="4164120"/>
              <a:ext cx="2160360" cy="911160"/>
            </a:xfrm>
            <a:prstGeom prst="roundRect">
              <a:avLst>
                <a:gd name="adj" fmla="val 16667"/>
              </a:avLst>
            </a:prstGeom>
            <a:solidFill>
              <a:srgbClr val="000099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640" y="3924360"/>
              <a:ext cx="2400480" cy="1390680"/>
            </a:xfrm>
            <a:prstGeom prst="rect">
              <a:avLst/>
            </a:prstGeom>
            <a:solidFill>
              <a:srgbClr val="66cc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Des acte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6920" y="4438800"/>
              <a:ext cx="2171880" cy="6588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récisément identifié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Moins nombreu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Plus respons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52720" y="4394160"/>
              <a:ext cx="1487520" cy="4557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Capacité d’a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87640" y="4237200"/>
              <a:ext cx="743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4400" spc="-1" strike="noStrike">
                  <a:solidFill>
                    <a:srgbClr val="fc0128"/>
                  </a:solidFill>
                  <a:latin typeface="Arial"/>
                </a:rPr>
                <a:t>+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720" y="3573360"/>
              <a:ext cx="2403720" cy="3114720"/>
            </a:xfrm>
            <a:prstGeom prst="rect">
              <a:avLst/>
            </a:prstGeom>
            <a:noFill/>
            <a:ln cap="sq" w="1260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5703840" y="4487400"/>
              <a:ext cx="484200" cy="322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80080" y="3616200"/>
              <a:ext cx="2114640" cy="30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gains d'efficacité au plus près des activités des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Des équipes motivées et mobilisées vers les résultats à atteind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e meilleure capacité à adapter l'action en fonction des résultats et à résoudre les problèm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37440" y="3772080"/>
              <a:ext cx="299880" cy="32508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37440" y="4781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7440" y="6005520"/>
              <a:ext cx="301320" cy="32544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48000" y="5148360"/>
              <a:ext cx="2733840" cy="658800"/>
            </a:xfrm>
            <a:prstGeom prst="rect">
              <a:avLst/>
            </a:pr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Un pré requis pour construire un système de responsabilité orienté vers les résul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21520" y="3213000"/>
              <a:ext cx="26622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7880" bIns="478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pl-PL" sz="1600" spc="-1" strike="noStrike">
                  <a:solidFill>
                    <a:srgbClr val="000099"/>
                  </a:solidFill>
                  <a:latin typeface="Arial"/>
                </a:rPr>
                <a:t>Les bénéfices attend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59570-5B3B-4259-A76F-41D04368C469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l-PL" sz="3000" spc="-1" strike="noStrike">
                <a:solidFill>
                  <a:srgbClr val="ffffff"/>
                </a:solidFill>
                <a:latin typeface="Arial"/>
              </a:rPr>
              <a:t>2. La qualité et la simplific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927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Des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 lois de simplification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annuelles (pour les particuliers et les entreprises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lutte contre l’inflation norm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en collaboration avec le Secrétariat général du Gouvernement (SGG) : les études d’impac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certification/labellisation des services accueillant du public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: généralisation en 2006 des tests de qualité, évolution de la charte Marianne vers un référentiel de certification/labellisation qual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La mesure et la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éduction de la charge administrativ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pesant sur les usagers, particuliers et entreprises : mise en place d’un indicateur de complexité des démarches administrative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7680" indent="-337680" algn="just">
              <a:lnSpc>
                <a:spcPct val="90000"/>
              </a:lnSpc>
              <a:spcBef>
                <a:spcPts val="125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Réduction et </a:t>
            </a: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rationalisation des commissions administratives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(décret du 8 juin 2006 conduisant à ne créer les commissions que pour une durée de vie limitée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0BA38-A7CB-4E39-903E-00C18CF1B217}" type="slidenum">
              <a:t>8</a:t>
            </a:fld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966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1800" indent="0">
              <a:buNone/>
              <a:tabLst>
                <a:tab algn="l" pos="0"/>
                <a:tab algn="l" pos="361800"/>
                <a:tab algn="l" pos="1276200"/>
                <a:tab algn="l" pos="2190600"/>
                <a:tab algn="l" pos="3105000"/>
                <a:tab algn="l" pos="4019400"/>
                <a:tab algn="l" pos="4933800"/>
                <a:tab algn="l" pos="5848200"/>
                <a:tab algn="l" pos="6762600"/>
                <a:tab algn="l" pos="7677000"/>
                <a:tab algn="l" pos="8591400"/>
                <a:tab algn="l" pos="9505800"/>
                <a:tab algn="l" pos="10420200"/>
                <a:tab algn="l" pos="1078236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3. Le développement de l’administration électronique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927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Garantir les échanges électroniques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’ordonnance du 8 décembre 2005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relative aux échanges électroniques, pose les bases juridiques nécessaires à l’accélération et à la généralisation de l’administration électronique (validité juridique des courriers électroniques, signature électronique des actes administratifs, espace de stockag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Mutualiser les investissements pour éviter leur redondance</a:t>
            </a: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Le schéma directeur de l’administration électronique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organise le pilotage interministériel du développement de l’administration électronique, en érigeant comme règle la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mutualisation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et l’efficacité des services (47 initiatives portées par un ministère chef de file)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2500"/>
              </a:spcBef>
              <a:buClr>
                <a:srgbClr val="006666"/>
              </a:buClr>
              <a:buFont typeface="Wingdings" charset="2"/>
              <a:buChar char="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4d4d4d"/>
                </a:solidFill>
                <a:latin typeface="Arial"/>
              </a:rPr>
              <a:t>Elaborer les référentiels généraux d’interopérabilité et de sécurité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Il s’agit pour l’Etat de définir un </a:t>
            </a:r>
            <a:r>
              <a:rPr b="1" lang="pl-PL" sz="1800" spc="-1" strike="noStrike">
                <a:solidFill>
                  <a:srgbClr val="4d4d4d"/>
                </a:solidFill>
                <a:latin typeface="Arial"/>
              </a:rPr>
              <a:t>corpus de règles</a:t>
            </a:r>
            <a:r>
              <a:rPr b="0" lang="pl-PL" sz="1800" spc="-1" strike="noStrike">
                <a:solidFill>
                  <a:srgbClr val="4d4d4d"/>
                </a:solidFill>
                <a:latin typeface="Arial"/>
              </a:rPr>
              <a:t> qui combine à la fois les spécificités métiers des administrations, le respect de la confidentialité des données, la fluidité des échanges de données numériques, la sécurité des systèmes d’information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ADB3-AEEC-443F-98B3-77ABC00A02F4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1:39:02Z</dcterms:created>
  <dc:creator>Alexandre MONTAY</dc:creator>
  <dc:description/>
  <dc:language>en-US</dc:language>
  <cp:lastModifiedBy>KAS</cp:lastModifiedBy>
  <cp:lastPrinted>2006-05-04T09:07:55Z</cp:lastPrinted>
  <dcterms:modified xsi:type="dcterms:W3CDTF">2009-02-05T12:50:46Z</dcterms:modified>
  <cp:revision>555</cp:revision>
  <dc:subject/>
  <dc:title>Présentation PowerPoint</dc:title>
</cp:coreProperties>
</file>